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696-40E2-49C8-976F-B1505EFC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7C6-E277-4FD9-BC84-F207143C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A5D-6581-43E1-91BA-F762A618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2E8-492E-4A95-9FF4-339A8640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210-1342-409C-AEE6-E0DF8CA4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490-E646-40F0-8457-9FA5CD5F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A6B-7DCC-4DD8-A646-71DB1255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376-BED6-443C-AD01-D0502CA2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65E-AB0E-4C5A-9A11-CEF545C0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E15-4481-4D49-9077-8627457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358-723B-41D1-9137-A82C6E62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AD7-6D0A-4023-BEE6-FAE63EB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BA3A-025B-48D7-81E5-7694A1A332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ossofsoul.com/pictures/aphorism1/Pushki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В синем небе звёзды блещут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В синем море волны хлещу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Я ль на свете всех милее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Всех румяней и белее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Буду служить тебе славно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сердно и очень исправно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онверт №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начиналось, как и у всех, с детств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огда родился А. С. Пушкин? Расскажите об отце и матери поэта? Сколько братьев и сестёр было у Пушкина? Каким Пушкин был в детстве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8" descr="puschkin_klein"/>
          <p:cNvPicPr/>
          <p:nvPr/>
        </p:nvPicPr>
        <p:blipFill>
          <a:blip r:embed="rId1"/>
          <a:stretch/>
        </p:blipFill>
        <p:spPr>
          <a:xfrm>
            <a:off x="571680" y="1928880"/>
            <a:ext cx="30715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онверт №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 1824 году царь отправил А. С. Пушкина в ссылку… Где отбывал ссылку поэт? За что царь сослал поэта в ссылку? Кто поддерживал в трудную минуту в ссылке Пушкина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9" descr="Михайловское"/>
          <p:cNvPicPr/>
          <p:nvPr/>
        </p:nvPicPr>
        <p:blipFill>
          <a:blip r:embed="rId1"/>
          <a:stretch/>
        </p:blipFill>
        <p:spPr>
          <a:xfrm>
            <a:off x="357120" y="185724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онверт № 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 1811 году дядя поэта Василий Львович везёт Сашу учиться в лицей. Что это за учебное заведение? Где оно находилось? Сколько лет было Саше, когда он поступил в лицей? Сколько лет он проучился в лицее? Что для Пушкина был лицей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Содержимое 4" descr="http://64.19.142.12/www.museumpushkin.ru/template/img3/Inform.dlya.posetitelej.jpg"/>
          <p:cNvPicPr/>
          <p:nvPr/>
        </p:nvPicPr>
        <p:blipFill>
          <a:blip r:embed="rId1"/>
          <a:stretch/>
        </p:blipFill>
        <p:spPr>
          <a:xfrm>
            <a:off x="142920" y="1214280"/>
            <a:ext cx="4286160" cy="2081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http://64.19.142.11/www.museumpushkin.ru/template/img3/09.Liceum.Der.&amp;Push.Sajt.jpg"/>
          <p:cNvPicPr/>
          <p:nvPr/>
        </p:nvPicPr>
        <p:blipFill>
          <a:blip r:embed="rId2"/>
          <a:stretch/>
        </p:blipFill>
        <p:spPr>
          <a:xfrm>
            <a:off x="142920" y="335772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онверт № 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дин человек сказал: «Поэты – это никчёмные люди, и сочинять стихи – это пустяковое дело. Он бы и сам мог быть поэтом.  Сочинять стихи может каждый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йствительно ли это так? Попробуйте и сами побыть поэтами. Сочините стихи о Пушкине по данной рифме и прочитайте выразительно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____________________ я открываю..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____________________   забываю..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_____________________ тревожишь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_____________________ похожи..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_____________________ остается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______________________ льётся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(Выполни одно из трёх по выбору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) Нарисовать рисунок к  сказке А.С.Пушкина, которая вам больше всего нрави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) Выучить наизусть понравившееся стихотворение Пушкин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) Составить кроссворд по сказкам Пушкин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76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Мы чтить тебя привыкли с детских ле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И дорог нам твой образ благородный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Ты рано смолк, но в памяти народно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Ты не умрешь, возлюбленный поэ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Рисунок 3" descr="Наталья Николаевна Пушк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142884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Сергей Львович Пушкин"/>
          <p:cNvPicPr/>
          <p:nvPr/>
        </p:nvPicPr>
        <p:blipFill>
          <a:blip r:embed="rId3"/>
          <a:stretch/>
        </p:blipFill>
        <p:spPr>
          <a:xfrm>
            <a:off x="1643040" y="285840"/>
            <a:ext cx="1428840" cy="1790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Н.О. Пушкина"/>
          <p:cNvPicPr/>
          <p:nvPr/>
        </p:nvPicPr>
        <p:blipFill>
          <a:blip r:embed="rId4"/>
          <a:stretch/>
        </p:blipFill>
        <p:spPr>
          <a:xfrm>
            <a:off x="3071880" y="285840"/>
            <a:ext cx="1428840" cy="17859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О.С. Павлищева"/>
          <p:cNvPicPr/>
          <p:nvPr/>
        </p:nvPicPr>
        <p:blipFill>
          <a:blip r:embed="rId5"/>
          <a:stretch/>
        </p:blipFill>
        <p:spPr>
          <a:xfrm>
            <a:off x="4500720" y="285840"/>
            <a:ext cx="1428480" cy="17859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В.Л. Пушкин"/>
          <p:cNvPicPr/>
          <p:nvPr/>
        </p:nvPicPr>
        <p:blipFill>
          <a:blip r:embed="rId6"/>
          <a:stretch/>
        </p:blipFill>
        <p:spPr>
          <a:xfrm>
            <a:off x="5929200" y="285840"/>
            <a:ext cx="142884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А.П. Ганнибал"/>
          <p:cNvPicPr/>
          <p:nvPr/>
        </p:nvPicPr>
        <p:blipFill>
          <a:blip r:embed="rId7"/>
          <a:stretch/>
        </p:blipFill>
        <p:spPr>
          <a:xfrm>
            <a:off x="7358040" y="285840"/>
            <a:ext cx="1362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28680" y="42876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«Великим быть желаю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Люблю России честь» 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4200" y="4000320"/>
            <a:ext cx="85010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А. С. Пушкин – великий русский поэт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4" descr="Картинка 5 из 75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4292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2840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Задания для групп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Конверт № 1.Тема «Близкий друг Пушкина -няня»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Конверт № 2. Тема «Биографические сведения о Пушкине»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Конверт № 3. «Ссылка»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Конверт № 4. «Лицей»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ние для па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онверт № 6. «Знатокам сказок Пушкина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онверт № 7. «Кроссворд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ние гостя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онверт № 5. «Секретное задание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alibri"/>
              </a:rPr>
              <a:t>Памятка для тех, кто работает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Прочитайте внимательно  Дальтон-задание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Распределите вопросы задания между собой, работайте быстро, берегите врем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Работайте со справочной литературой, со своими «копилками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Если непонятно, спрашивайте у учителя, у товарищей, у гостей, сами объясняйте товарищам. Помните, что вы получаете от всех только подсказку, но не готовый ответ. Думайте вместе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тарайтесь выполнить задание в указанное врем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Поручите одному своему товарищу из группы выступить перед классом с сообщением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Физкульминутк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Памятка для тех, кто слуша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нимательно выслушайте ответ товарищ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цените выступление товарища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) полноту ответа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)последовательность ответа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)наличие вывод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Дайте обоснованную оценку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расный кружок – отлично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елёный – хорошо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иний – не понравилос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онверт №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4720" y="1642680"/>
            <a:ext cx="40417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.       Найдите и составьте небольшой рассказ о самом близком друге А. С. Пушкина – няне ( имя няни, кем была эта женщина, каким талантом она обладала.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За что Пушкин очень любил свою няню? Какое стихотворение посвятил Пушкин своей няне? Найдите это стихотворение и подготовьте выразительное чтение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5" descr="42"/>
          <p:cNvPicPr/>
          <p:nvPr/>
        </p:nvPicPr>
        <p:blipFill>
          <a:blip r:embed="rId1"/>
          <a:stretch/>
        </p:blipFill>
        <p:spPr>
          <a:xfrm>
            <a:off x="428760" y="1643040"/>
            <a:ext cx="35956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03:16:51Z</dcterms:created>
  <dc:creator>Administrator</dc:creator>
  <dc:description/>
  <dc:language>en-US</dc:language>
  <cp:lastModifiedBy>user</cp:lastModifiedBy>
  <dcterms:modified xsi:type="dcterms:W3CDTF">2003-12-31T14:13:12Z</dcterms:modified>
  <cp:revision>21</cp:revision>
  <dc:subject/>
  <dc:title>… «Великим быть желаю, Люблю России честь» …</dc:title>
</cp:coreProperties>
</file>