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86D-5356-4711-A899-40188FC4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45F-9A88-4551-8CA6-F49696AD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25B-6F90-431C-9743-6E766D2C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0C5D-2868-491F-95BD-247DB7E0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3780-D938-4E7A-B0EF-59FC6C7D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9A5D-71D5-497A-8096-5B8DAFCA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A0F7-8721-481F-9CDD-0924447F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4A13-EC72-4EC8-8C13-797290F7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5068-2DFA-4450-AF68-77A4C818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E5AE-33EC-4412-8E96-BF5545EF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C9D2-C472-4148-84C7-B88D3748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3DF-1CBA-41E1-B1BB-3E5A7E6A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2E6D-D01D-46F6-9F20-FE3C17D5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0900-86E3-4E8A-918D-80A85C72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480E-C294-4164-91AD-67821693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4569-3B5C-4847-906D-3711EA90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95A4-7582-4D19-810F-AB1B5AF3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91919-BADA-4C97-BF8C-3AF8C38B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CE8E8-A318-46DC-98C0-6C614244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578B9-B5E7-40B8-AE4E-D0067D1D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97C44-9097-4BE9-B73F-DFAF9339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77570-3E40-475E-9BD0-E5A336E8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B52-6E7D-44F4-A414-3BAEB503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E38CF-6966-4CE9-9C8E-41E14212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2D79A-4188-414D-9984-0BF094BE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ACF37-1089-4B44-9612-2C36B289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8D645-62C8-4545-A81D-B6D687EF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8A384-D45C-47A2-9083-A083424A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08569-B4D1-43E3-A403-6AAD1C98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A095-1C5B-4AC2-B3BC-F2BFBB81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645A0-3F05-4F23-97BF-69FFE668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5E7DB-A1EF-4DF2-A3A5-F96BE529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C099D-FEC8-4DB8-8ECD-5356B43B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291-2CC3-462A-A4B3-85E23549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5A8E1-7C05-413E-922F-A163EB2F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89BFF-5CA7-4BD2-A540-9BBF60B8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C2E35-D8C7-436E-A2AD-CCB9B2A3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9BCB-0668-4C01-8B11-3A9845DB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ECD0-ACEB-4327-A168-3C44918B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52E7F-E2F6-447E-9458-333E9830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4249F-7B83-41B0-B456-C0429CB9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F6795-4812-4F5A-BE97-867A9D1E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D2F76-E7FA-4277-A3BE-8A3C8319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49F-9E5E-46EE-9B85-75E6BCFD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020-05D3-4AD8-A86D-D54D0EDE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27B-BD30-4740-BC3F-42007DBA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C19-0114-403A-993F-F23B2927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B30-4C99-4BFA-BDCB-BB1A9A68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CCB02-83AB-49E2-B7F2-1FCE2506471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8C911-D9C9-4973-8390-5506DD32347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8F486-B298-41D2-9607-4EF53DA58F5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C8C9B-E9FC-4AFC-8A9B-AEC981D9842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ru-RU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1500120"/>
            <a:ext cx="8389800" cy="38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Times New Roman"/>
              </a:rPr>
              <a:t>«Активизация 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Times New Roman"/>
              </a:rPr>
              <a:t>познавательной деятельности обучающихся в процессе обучения  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Times New Roman"/>
              </a:rPr>
              <a:t>математике»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Times New Roman"/>
              </a:rPr>
              <a:t>                                                                                                 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</a:rPr>
              <a:t>Учитель математики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</a:rPr>
              <a:t>МБОУ СШ № 42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1" lang="ru-RU" sz="1700" spc="-1" strike="noStrike">
                <a:solidFill>
                  <a:srgbClr val="c00000"/>
                </a:solidFill>
                <a:latin typeface="Times New Roman"/>
              </a:rPr>
              <a:t>Кузьменко Т.А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468360" y="404640"/>
            <a:ext cx="7488360" cy="62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)  «Незнакомец и  купец»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роблемная ситуация)    Однажды незнакомец постучал в окно к богатому купцу и предложил такую сделку : «Я буду ежедневно в течение 30 дней приносить тебе по 100000р. А ты мне в первый день за 100000 дашь 1коп., во второй день за 100000-2коп. И так каждый день будешь увеличивать предыдущее число денег в 2раза. Если тебе выгодна сделка, то с завтрашнего дня начнем.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пец обрадовался такой удаче. Он подсчитал, что за 30 дней получит от незнакомца 3000000р. На следующий день пошли к нотариусу и узаконили сделк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здается проблемная ситуация. Кто в этой сделке проиграл: купец или незнакомец? Учащиеся составляют последовательность чисел:1;2;4;8;16; 32;64;….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беждаются, что эти числа составляют геометрическую прогрессию со знаменателем q=2, первым членом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=1 и количеством членов 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=30. Вычисляют сумму 30 членов этой прогрессии и убеждаются, что это число больше миллиарда! Неожиданными  бывают результаты, когда не знаешь математик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5"/>
          <p:cNvSpPr/>
          <p:nvPr/>
        </p:nvSpPr>
        <p:spPr>
          <a:xfrm>
            <a:off x="468360" y="1773360"/>
            <a:ext cx="851040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Times New Roman"/>
                <a:ea typeface="Calibri"/>
              </a:rPr>
              <a:t>СПАСИБО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8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 внимание 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1469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здание условий для развития способности ребёнка к самоопределению в направлениях и средствах самообразования через развитие их творческих и индивидуальных возможност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Формирование положительного отношения школьников к учебной деятельности, развитие их стремления к глубокому познанию изучаемых предметов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ирование у обучающихся потребности к самопознанию, саморазвитию, самореализации; опыта деятельностного постижения окружающей действительности, опыта открытий, навыков исследовательской деятельности; основ научных знаний по математике; научного мировоззрения и познавательных интересов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Заголовок 3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2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3"/>
          <p:cNvSpPr/>
          <p:nvPr/>
        </p:nvSpPr>
        <p:spPr>
          <a:xfrm>
            <a:off x="2928960" y="2071800"/>
            <a:ext cx="3643200" cy="114300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едства активизации обуче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Прямоугольник 4"/>
          <p:cNvSpPr/>
          <p:nvPr/>
        </p:nvSpPr>
        <p:spPr>
          <a:xfrm>
            <a:off x="1071720" y="642960"/>
            <a:ext cx="2571480" cy="92880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ебное содержа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Прямоугольник 6"/>
          <p:cNvSpPr/>
          <p:nvPr/>
        </p:nvSpPr>
        <p:spPr>
          <a:xfrm>
            <a:off x="3492360" y="3860640"/>
            <a:ext cx="2643480" cy="100044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Прямоугольник 7"/>
          <p:cNvSpPr/>
          <p:nvPr/>
        </p:nvSpPr>
        <p:spPr>
          <a:xfrm>
            <a:off x="500040" y="4857840"/>
            <a:ext cx="2571840" cy="12142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тандартны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6156360" y="4941720"/>
            <a:ext cx="2773440" cy="121464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естандартны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Прямоугольник 9"/>
          <p:cNvSpPr/>
          <p:nvPr/>
        </p:nvSpPr>
        <p:spPr>
          <a:xfrm>
            <a:off x="5786280" y="714240"/>
            <a:ext cx="2643480" cy="92880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ёмы и формы обуч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Стрелка вправо 10"/>
          <p:cNvSpPr/>
          <p:nvPr/>
        </p:nvSpPr>
        <p:spPr>
          <a:xfrm rot="13553400">
            <a:off x="2761920" y="1717200"/>
            <a:ext cx="700200" cy="20484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000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Стрелка вправо 11"/>
          <p:cNvSpPr/>
          <p:nvPr/>
        </p:nvSpPr>
        <p:spPr>
          <a:xfrm rot="18522600">
            <a:off x="6148080" y="1765440"/>
            <a:ext cx="699840" cy="14112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c000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Стрелка вправо 12"/>
          <p:cNvSpPr/>
          <p:nvPr/>
        </p:nvSpPr>
        <p:spPr>
          <a:xfrm rot="5400000">
            <a:off x="4421520" y="3436200"/>
            <a:ext cx="585720" cy="14292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c000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Стрелка вправо 13"/>
          <p:cNvSpPr/>
          <p:nvPr/>
        </p:nvSpPr>
        <p:spPr>
          <a:xfrm rot="8774400">
            <a:off x="2861640" y="4508280"/>
            <a:ext cx="601560" cy="19980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c000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Стрелка вправо 14"/>
          <p:cNvSpPr/>
          <p:nvPr/>
        </p:nvSpPr>
        <p:spPr>
          <a:xfrm rot="1681200">
            <a:off x="6227280" y="4581360"/>
            <a:ext cx="722520" cy="195480"/>
          </a:xfrm>
          <a:prstGeom prst="rightArrow">
            <a:avLst>
              <a:gd name="adj1" fmla="val 50000"/>
              <a:gd name="adj2" fmla="val 49966"/>
            </a:avLst>
          </a:prstGeom>
          <a:solidFill>
            <a:srgbClr val="c000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овременные педагогические технологии, используемые в образовательном процессе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79280" y="17553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личностно-ориентированное обуче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ИК – технолог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развивающее обуче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проблемное обуче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дифференцированное обуче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разноуровневое обуче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игровые технолог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- технология развития исследовательских умений и навыко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Заголовок 3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стандартные уроки, используемые в образовательном процессе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- урок-соревнование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- урок-игр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- урок-путешествие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- урок-практикум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- урок-лекци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-  урок-консультаци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- урок-исследование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- урок – дискусс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24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24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Формы проведения внеклассной работы </a:t>
            </a: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с учащимися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5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Неделя математик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математические олимпиады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математические викторины, дискуссии, конкурсы, познавательные игры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математические вечера, математические экскурсии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математические рефераты, проекты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мультимедийные презентации по математике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изготовление математических моделей 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539640" y="692280"/>
            <a:ext cx="6318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которые средства повышения эффективности обучения и приемы активизации познавательной деятельности учащихся, которые мною используются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нообразные виды устного счета (когда примеры оформлены в виде лото, всевозможные формы кодирования ответов, игры «Собери цветы», «Поймай рыбку», «Лесенка», «Удивительная цепочка» и др.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создание на уроке учебной проблемной ситуаци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актические работы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сообщение сведений из истории математик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792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) Вы сможете прочитать название высочайшей горной вершины мира, если правильно решите примеры и впишите буквы:</a:t>
            </a:r>
            <a:br>
              <a:rPr sz="24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Рисунок 4" descr=""/>
          <p:cNvPicPr/>
          <p:nvPr/>
        </p:nvPicPr>
        <p:blipFill>
          <a:blip r:embed="rId2"/>
          <a:stretch/>
        </p:blipFill>
        <p:spPr>
          <a:xfrm>
            <a:off x="539640" y="1797120"/>
            <a:ext cx="8661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2920" y="475920"/>
            <a:ext cx="885672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) В старину корой этого дерева «заговаривали» зубы и лихорадку. Вырежут из коры треугольник, чтобы отдать дань Богу Отцу, Богу Сыну, Святому духу, и трут десны, читая молитву. А потом треугольник прикладывают на место, откуда вырезали. И боль утихает. И неведомо было людям, что дело не в богах, а в содержащихся веществах в коре именно этого дерева. О каком дереве идет речь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14840 : 760 – 57 * 13 + 204476 : 68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79280" y="4016520"/>
          <a:ext cx="8496360" cy="1233360"/>
        </p:xfrm>
        <a:graphic>
          <a:graphicData uri="http://schemas.openxmlformats.org/drawingml/2006/table">
            <a:tbl>
              <a:tblPr/>
              <a:tblGrid>
                <a:gridCol w="573120"/>
                <a:gridCol w="430200"/>
                <a:gridCol w="573120"/>
                <a:gridCol w="573120"/>
                <a:gridCol w="747720"/>
                <a:gridCol w="649440"/>
                <a:gridCol w="730080"/>
                <a:gridCol w="730440"/>
                <a:gridCol w="649080"/>
                <a:gridCol w="730440"/>
                <a:gridCol w="730080"/>
                <a:gridCol w="730440"/>
                <a:gridCol w="649080"/>
              </a:tblGrid>
              <a:tr h="564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Rectangle 4"/>
          <p:cNvSpPr/>
          <p:nvPr/>
        </p:nvSpPr>
        <p:spPr>
          <a:xfrm>
            <a:off x="1403280" y="3787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7:09:42Z</dcterms:created>
  <dc:creator>сергей</dc:creator>
  <dc:description/>
  <dc:language>en-US</dc:language>
  <cp:lastModifiedBy>Пользователь</cp:lastModifiedBy>
  <dcterms:modified xsi:type="dcterms:W3CDTF">2020-10-14T15:11:17Z</dcterms:modified>
  <cp:revision>114</cp:revision>
  <dc:subject/>
  <dc:title>   </dc:title>
</cp:coreProperties>
</file>