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8B0B-D270-44CD-B907-8EECCD56AE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8A01-AE28-4154-AF68-78CD592986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011A-900C-48A0-B1DB-66C168E6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7641-375B-4F3D-82C7-24F6A53F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C43B-6B91-4B74-98EE-5202F38A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5996-5B9C-4F8B-9C46-A8EA7D0E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8A35-8518-4569-97BE-29B1BB4D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B731-9941-4CAA-A046-6419C1C0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C413-406C-4DB9-A2C2-1A7C686A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CBFD-76A0-4751-8A2B-F87DB904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7117-BA8B-487C-9065-47D75BEB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1459-398A-4289-94E1-FF074547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8E6A-4F80-4454-B75C-79C80884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07F1-C3FB-4A99-8C74-C4128B48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4F5E-0673-454F-B6E4-14037FC716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alibri"/>
              </a:rPr>
              <a:t>КЛАССНЫЙ ЧАС НА ТЕМУ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 u="sng">
                <a:solidFill>
                  <a:srgbClr val="604a7b"/>
                </a:solidFill>
                <a:uFillTx/>
                <a:latin typeface="Calibri"/>
              </a:rPr>
              <a:t>«</a:t>
            </a:r>
            <a:r>
              <a:rPr b="0" i="1" lang="ru-RU" sz="6000" spc="-1" strike="noStrike" u="sng">
                <a:solidFill>
                  <a:srgbClr val="604a7b"/>
                </a:solidFill>
                <a:uFillTx/>
                <a:latin typeface="Calibri"/>
              </a:rPr>
              <a:t>ПОГОВОРИМ О ТОЛЕРАНТНОСТИ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214200" y="2071800"/>
            <a:ext cx="8715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ы получим больше, чем отдадим, если будем чаще вспоминать про то, что нас соединяет, про то, что человек становится Человеком только благодаря другому человеку.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ы живем, потому что мы раз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Картинка 54 из 64000"/>
          <p:cNvPicPr/>
          <p:nvPr/>
        </p:nvPicPr>
        <p:blipFill>
          <a:blip r:embed="rId1"/>
          <a:stretch/>
        </p:blipFill>
        <p:spPr>
          <a:xfrm>
            <a:off x="6456240" y="4857840"/>
            <a:ext cx="2479680" cy="1871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Картинка 289 из 4544"/>
          <p:cNvPicPr/>
          <p:nvPr/>
        </p:nvPicPr>
        <p:blipFill>
          <a:blip r:embed="rId2"/>
          <a:stretch/>
        </p:blipFill>
        <p:spPr>
          <a:xfrm>
            <a:off x="360360" y="139680"/>
            <a:ext cx="2998800" cy="2000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Documents and Settings\Admin\Рабочий стол\Конкурс Дюндик\презентация\Картинки\580945b0c37c.jpg"/>
          <p:cNvPicPr/>
          <p:nvPr/>
        </p:nvPicPr>
        <p:blipFill>
          <a:blip r:embed="rId3"/>
          <a:stretch/>
        </p:blipFill>
        <p:spPr>
          <a:xfrm>
            <a:off x="5499000" y="139680"/>
            <a:ext cx="3187800" cy="2219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4" descr="Картинка 11 из 64000"/>
          <p:cNvPicPr/>
          <p:nvPr/>
        </p:nvPicPr>
        <p:blipFill>
          <a:blip r:embed="rId4"/>
          <a:stretch/>
        </p:blipFill>
        <p:spPr>
          <a:xfrm>
            <a:off x="360360" y="4998960"/>
            <a:ext cx="25416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2286000" y="13572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лерантность( терпимость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ет уважение, принятие и правильное понимание богатого многообразия культур нашего мира, наших форм самовыражения и способов проявлений человеческой индивидуа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500120" y="357120"/>
            <a:ext cx="63579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lerance (англ.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ость быть терпимым, снисходительным; быть терпимым, позволять существование различных мнений без их дискримин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928800" y="1285920"/>
            <a:ext cx="6643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lerenz (немец.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пимость к чужим мнениям, верованиям, повед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357200" y="1857240"/>
            <a:ext cx="60724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lerance (франц.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жденность в том, что другие могут думать и действовать в манере, отличной от нашей собств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214280" y="2714760"/>
            <a:ext cx="66438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lerencia (испан.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пособность принимать идеи или мнения, отличные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1428840" y="3643200"/>
            <a:ext cx="6429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uan rong (китайск.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инимать других такими, какие они есть, и           быть великодушными по отношению к друг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1071720" y="5643720"/>
            <a:ext cx="7429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asamul (араб.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нисхождение, милосердие, всепрощение, умение принимать  других такими, какие они есть, и прощ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928800" y="4500720"/>
            <a:ext cx="72864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лерантность (руск.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умение терпеть, принимать и признавать существование кого-либо, примирять, приводить в соответствие с самим собой по отношению к кому-либо или чему-либо, быть снисходитель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3429000" y="1214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3581280" y="1366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Diagram 32"/>
          <p:cNvGrpSpPr/>
          <p:nvPr/>
        </p:nvGrpSpPr>
        <p:grpSpPr>
          <a:xfrm>
            <a:off x="2054880" y="103680"/>
            <a:ext cx="5036040" cy="6168960"/>
            <a:chOff x="2054880" y="103680"/>
            <a:chExt cx="5036040" cy="6168960"/>
          </a:xfrm>
        </p:grpSpPr>
        <p:sp>
          <p:nvSpPr>
            <p:cNvPr id="62" name="_s1028"/>
            <p:cNvSpPr/>
            <p:nvPr/>
          </p:nvSpPr>
          <p:spPr>
            <a:xfrm flipV="1">
              <a:off x="4570560" y="1760760"/>
              <a:ext cx="0" cy="83736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29"/>
            <p:cNvSpPr/>
            <p:nvPr/>
          </p:nvSpPr>
          <p:spPr>
            <a:xfrm>
              <a:off x="3918240" y="103680"/>
              <a:ext cx="1306080" cy="1659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Отношение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к другому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с позиции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равног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0"/>
            <p:cNvSpPr/>
            <p:nvPr/>
          </p:nvSpPr>
          <p:spPr>
            <a:xfrm flipV="1">
              <a:off x="5190120" y="2911320"/>
              <a:ext cx="626760" cy="25956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1"/>
            <p:cNvSpPr/>
            <p:nvPr/>
          </p:nvSpPr>
          <p:spPr>
            <a:xfrm>
              <a:off x="5784840" y="1826640"/>
              <a:ext cx="1306080" cy="1660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Воспита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32"/>
            <p:cNvSpPr/>
            <p:nvPr/>
          </p:nvSpPr>
          <p:spPr>
            <a:xfrm>
              <a:off x="4950720" y="4093920"/>
              <a:ext cx="388080" cy="67968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3"/>
            <p:cNvSpPr/>
            <p:nvPr/>
          </p:nvSpPr>
          <p:spPr>
            <a:xfrm>
              <a:off x="5070600" y="4612320"/>
              <a:ext cx="1306080" cy="1660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озитивное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взаимодействие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с людь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34"/>
            <p:cNvSpPr/>
            <p:nvPr/>
          </p:nvSpPr>
          <p:spPr>
            <a:xfrm flipH="1">
              <a:off x="3799440" y="4091040"/>
              <a:ext cx="388080" cy="67968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5"/>
            <p:cNvSpPr/>
            <p:nvPr/>
          </p:nvSpPr>
          <p:spPr>
            <a:xfrm>
              <a:off x="2766600" y="4612320"/>
              <a:ext cx="1306080" cy="1660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Терпимое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отношение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к ины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36"/>
            <p:cNvSpPr/>
            <p:nvPr/>
          </p:nvSpPr>
          <p:spPr>
            <a:xfrm flipH="1" flipV="1">
              <a:off x="3326040" y="2908440"/>
              <a:ext cx="626760" cy="25884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37"/>
            <p:cNvSpPr/>
            <p:nvPr/>
          </p:nvSpPr>
          <p:spPr>
            <a:xfrm>
              <a:off x="2054880" y="1826640"/>
              <a:ext cx="1306080" cy="1660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Уважение,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ринят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8"/>
            <p:cNvSpPr/>
            <p:nvPr/>
          </p:nvSpPr>
          <p:spPr>
            <a:xfrm>
              <a:off x="3918240" y="2598480"/>
              <a:ext cx="1306080" cy="1660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8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Толерант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5"/>
          <p:cNvSpPr/>
          <p:nvPr/>
        </p:nvSpPr>
        <p:spPr>
          <a:xfrm>
            <a:off x="858960" y="714240"/>
            <a:ext cx="167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а 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6512400" y="857160"/>
            <a:ext cx="240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о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1571760" y="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нципы толеран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142920" y="500040"/>
            <a:ext cx="87868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" algn="ctr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отказ от насилия</a:t>
            </a:r>
            <a:r>
              <a:rPr b="0" lang="ru-RU" sz="2800" spc="-1" strike="noStrike">
                <a:solidFill>
                  <a:srgbClr val="17375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</a:rPr>
              <a:t>как неприемлемого средства приобщения человека к какой-либо иде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добровольность выбора</a:t>
            </a:r>
            <a:r>
              <a:rPr b="0" lang="ru-RU" sz="2800" spc="-1" strike="noStrike">
                <a:solidFill>
                  <a:srgbClr val="17375e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</a:rPr>
              <a:t>акцент на искренности его убеждений, «свобода совести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умение принудить себя, не принуждая других</a:t>
            </a:r>
            <a:r>
              <a:rPr b="0" lang="ru-RU" sz="2800" spc="-1" strike="noStrike">
                <a:solidFill>
                  <a:srgbClr val="17375e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подчинение законам,</a:t>
            </a:r>
            <a:r>
              <a:rPr b="0" lang="ru-RU" sz="2800" spc="-1" strike="noStrike">
                <a:solidFill>
                  <a:srgbClr val="17375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17375e"/>
                </a:solidFill>
                <a:latin typeface="Times New Roman"/>
              </a:rPr>
              <a:t>традициям и обычаям, не нарушая их и удовлетворяя общественные потребности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принятие Друго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17375e"/>
                </a:solidFill>
                <a:latin typeface="Times New Roman"/>
              </a:rPr>
              <a:t>который может отличаться по разным признакам — </a:t>
            </a:r>
            <a:r>
              <a:rPr b="0" lang="ru-RU" sz="2800" spc="-1" strike="noStrike">
                <a:solidFill>
                  <a:srgbClr val="17375e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17375e"/>
                </a:solidFill>
                <a:latin typeface="Times New Roman"/>
              </a:rPr>
              <a:t>национальным, расовым, культурным, религиозным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Diagram 23"/>
          <p:cNvGrpSpPr/>
          <p:nvPr/>
        </p:nvGrpSpPr>
        <p:grpSpPr>
          <a:xfrm>
            <a:off x="694080" y="862200"/>
            <a:ext cx="7687080" cy="5148720"/>
            <a:chOff x="694080" y="862200"/>
            <a:chExt cx="7687080" cy="5148720"/>
          </a:xfrm>
        </p:grpSpPr>
        <p:sp>
          <p:nvSpPr>
            <p:cNvPr id="78" name="_s2052"/>
            <p:cNvSpPr/>
            <p:nvPr/>
          </p:nvSpPr>
          <p:spPr>
            <a:xfrm flipH="1" flipV="1">
              <a:off x="3162240" y="2392200"/>
              <a:ext cx="814320" cy="65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2053"/>
            <p:cNvSpPr/>
            <p:nvPr/>
          </p:nvSpPr>
          <p:spPr>
            <a:xfrm>
              <a:off x="1724760" y="1340640"/>
              <a:ext cx="1755360" cy="118944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ежрасов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054"/>
            <p:cNvSpPr/>
            <p:nvPr/>
          </p:nvSpPr>
          <p:spPr>
            <a:xfrm flipH="1" flipV="1">
              <a:off x="2433600" y="3249720"/>
              <a:ext cx="1243440" cy="14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055"/>
            <p:cNvSpPr/>
            <p:nvPr/>
          </p:nvSpPr>
          <p:spPr>
            <a:xfrm>
              <a:off x="694080" y="2549880"/>
              <a:ext cx="1755360" cy="118944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асов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2056"/>
            <p:cNvSpPr/>
            <p:nvPr/>
          </p:nvSpPr>
          <p:spPr>
            <a:xfrm flipH="1">
              <a:off x="2691000" y="3795840"/>
              <a:ext cx="1091160" cy="42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57"/>
            <p:cNvSpPr/>
            <p:nvPr/>
          </p:nvSpPr>
          <p:spPr>
            <a:xfrm>
              <a:off x="1053360" y="3924720"/>
              <a:ext cx="1756080" cy="1189440"/>
            </a:xfrm>
            <a:prstGeom prst="ellipse">
              <a:avLst/>
            </a:prstGeom>
            <a:solidFill>
              <a:srgbClr val="1a0fff"/>
            </a:solidFill>
            <a:ln w="28440">
              <a:solidFill>
                <a:srgbClr val="0a0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изиологическ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2058"/>
            <p:cNvSpPr/>
            <p:nvPr/>
          </p:nvSpPr>
          <p:spPr>
            <a:xfrm flipH="1">
              <a:off x="3811320" y="4054320"/>
              <a:ext cx="429120" cy="80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59"/>
            <p:cNvSpPr/>
            <p:nvPr/>
          </p:nvSpPr>
          <p:spPr>
            <a:xfrm>
              <a:off x="2631240" y="4821480"/>
              <a:ext cx="1755360" cy="118944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литическ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60"/>
            <p:cNvSpPr/>
            <p:nvPr/>
          </p:nvSpPr>
          <p:spPr>
            <a:xfrm>
              <a:off x="4838760" y="4054320"/>
              <a:ext cx="432720" cy="80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061"/>
            <p:cNvSpPr/>
            <p:nvPr/>
          </p:nvSpPr>
          <p:spPr>
            <a:xfrm>
              <a:off x="4692240" y="4821480"/>
              <a:ext cx="1755360" cy="118944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зрастн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62"/>
            <p:cNvSpPr/>
            <p:nvPr/>
          </p:nvSpPr>
          <p:spPr>
            <a:xfrm>
              <a:off x="5296680" y="3793320"/>
              <a:ext cx="1090440" cy="42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063"/>
            <p:cNvSpPr/>
            <p:nvPr/>
          </p:nvSpPr>
          <p:spPr>
            <a:xfrm>
              <a:off x="6269760" y="3922920"/>
              <a:ext cx="1755360" cy="11894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разовательн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64"/>
            <p:cNvSpPr/>
            <p:nvPr/>
          </p:nvSpPr>
          <p:spPr>
            <a:xfrm flipV="1">
              <a:off x="5398200" y="3245760"/>
              <a:ext cx="1240560" cy="14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2065"/>
            <p:cNvSpPr/>
            <p:nvPr/>
          </p:nvSpPr>
          <p:spPr>
            <a:xfrm>
              <a:off x="6625800" y="2547360"/>
              <a:ext cx="1755360" cy="11901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еографическ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2066"/>
            <p:cNvSpPr/>
            <p:nvPr/>
          </p:nvSpPr>
          <p:spPr>
            <a:xfrm flipV="1">
              <a:off x="5099760" y="2390040"/>
              <a:ext cx="807840" cy="65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67"/>
            <p:cNvSpPr/>
            <p:nvPr/>
          </p:nvSpPr>
          <p:spPr>
            <a:xfrm>
              <a:off x="5595120" y="1338480"/>
              <a:ext cx="1756080" cy="118944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лигиозн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68"/>
            <p:cNvSpPr/>
            <p:nvPr/>
          </p:nvSpPr>
          <p:spPr>
            <a:xfrm flipV="1">
              <a:off x="4536360" y="2051640"/>
              <a:ext cx="0" cy="85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69"/>
            <p:cNvSpPr/>
            <p:nvPr/>
          </p:nvSpPr>
          <p:spPr>
            <a:xfrm>
              <a:off x="3658680" y="862200"/>
              <a:ext cx="1755360" cy="118944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ежнациональн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70"/>
            <p:cNvSpPr/>
            <p:nvPr/>
          </p:nvSpPr>
          <p:spPr>
            <a:xfrm>
              <a:off x="3658680" y="2905200"/>
              <a:ext cx="1755360" cy="119016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олерантность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Библиотека\дружные дети\толерантност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2"/>
          <p:cNvSpPr/>
          <p:nvPr/>
        </p:nvSpPr>
        <p:spPr>
          <a:xfrm>
            <a:off x="214200" y="1643040"/>
            <a:ext cx="878688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16 ноября 1995 год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Генеральная конференция ЮНЕСКО утвердила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Декларацию принципов толерант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16 ноябр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Международный день толерант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1999 год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«Манифест 2000 года в поддержку культуры мира и ненасил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2000 год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Международный год культуры ми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2001–2010 год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Международное десятилетие культуры мира и ненасилия в интересах детей плане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21 ма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Всемирный день культурного разнообразия во и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диалога и разви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23 август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Международный день памяти 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работорговле и ее ликвид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357120" y="14292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Международные дни и го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которые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отмечаются международными организац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системы О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умай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2560" y="785880"/>
            <a:ext cx="87152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й бог – евр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и цифры – араб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и буквы – латин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я демократия – греческ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й кофе – бразиль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й букет – француз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я кастрюля – голландск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я жизнь - славянск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 кто же м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8T13:27:03Z</dcterms:created>
  <dc:creator>XxX</dc:creator>
  <dc:description/>
  <dc:language>en-US</dc:language>
  <cp:lastModifiedBy>KBH</cp:lastModifiedBy>
  <dcterms:modified xsi:type="dcterms:W3CDTF">2025-11-15T07:49:29Z</dcterms:modified>
  <cp:revision>32</cp:revision>
  <dc:subject/>
  <dc:title>Слайд 1</dc:title>
</cp:coreProperties>
</file>