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5B8B-F2B4-411D-BAA1-7FFA3C0E6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B010-FE02-4C0D-8B9C-638988B1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D189-3F37-4BB1-871A-83D42B7E6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9110-4AE0-4854-8C60-2A046142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EE63-D030-4774-A04D-017F0D332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9E47-6FC0-482E-BEC9-FA2A5EC3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D4F1-DED1-49F9-B0D9-EBB649C8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8916-49FE-447A-A65D-483DF862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FDDC-092D-4CAC-A054-23603E06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CF6A-D5A8-4B3F-AABA-59B38E5A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2CEE-C256-4D38-B45A-CEE47099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862A-4C78-4173-BBD9-418BF758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CC24-A749-4296-9143-1C2C1626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54C9-ED02-45B5-B87A-677CA962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2E02-C881-4D40-8779-33FF1321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4CEE-AD11-4D42-895A-A158CDABE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025E-1613-4C47-AEEF-D5E26C90F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4141-9B66-4435-A39D-48C3C433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F4DE-DA59-4A5F-80EB-B789EB5E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BFAC-5E5E-4FC9-B236-BEE33213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03C9-5251-498B-8D8E-DA86A49B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A2B0-3E10-409C-9D4A-E0623272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277E-9A84-4BC2-BACB-E04825B3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AE13-58BF-41CD-8850-78106C7A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06FBB00-2B3D-4698-BB3D-C61F04938C6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622AF8-14BC-402E-9796-3237C70FCB9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file:///C:/Users/KM/Desktop/&#1040;&#1093;&#1084;&#1072;&#1090;&#1086;&#1074;&#1072;/&#1042;&#1083;&#1072;&#1076;&#1080;&#1084;&#1080;&#1088;%20&#1044;&#1072;&#1096;&#1082;&#1077;&#1074;&#1080;&#1095;%20-%20&#1056;&#1077;&#1082;&#1074;&#1080;&#1077;&#1084;%20%20(audiopoisk.com).mp3" TargetMode="External"/><Relationship Id="rId3" Type="http://schemas.microsoft.com/office/2007/relationships/media" Target="file:///C:/Users/KM/Desktop/&#1040;&#1093;&#1084;&#1072;&#1090;&#1086;&#1074;&#1072;/&#1042;&#1083;&#1072;&#1076;&#1080;&#1084;&#1080;&#1088;%20&#1044;&#1072;&#1096;&#1082;&#1077;&#1074;&#1080;&#1095;%20-%20&#1056;&#1077;&#1082;&#1074;&#1080;&#1077;&#1084;%20%20(audiopoisk.com).mp3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857560" cy="185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>
              <a:lnSpc>
                <a:spcPct val="100000"/>
              </a:lnSpc>
              <a:buNone/>
            </a:pPr>
            <a:r>
              <a:rPr b="0" i="1" lang="ru-RU" sz="4400" spc="-1" strike="noStrike">
                <a:solidFill>
                  <a:srgbClr val="642f04"/>
                </a:solidFill>
                <a:latin typeface="Impact"/>
              </a:rPr>
              <a:t>Урок литературы,</a:t>
            </a:r>
            <a:br>
              <a:rPr sz="4400"/>
            </a:br>
            <a:r>
              <a:rPr b="0" i="1" lang="ru-RU" sz="4400" spc="-1" strike="noStrike">
                <a:solidFill>
                  <a:srgbClr val="642f04"/>
                </a:solidFill>
                <a:latin typeface="Impact"/>
              </a:rPr>
              <a:t>посвященный памяти </a:t>
            </a:r>
            <a:br>
              <a:rPr sz="4400"/>
            </a:br>
            <a:r>
              <a:rPr b="0" i="1" lang="ru-RU" sz="4400" spc="-1" strike="noStrike">
                <a:solidFill>
                  <a:srgbClr val="642f04"/>
                </a:solidFill>
                <a:latin typeface="Impact"/>
              </a:rPr>
              <a:t>Анны Ахматовой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714840" y="3571920"/>
            <a:ext cx="542880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Calibri"/>
              </a:rPr>
              <a:t>Подготов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Calibri"/>
              </a:rPr>
              <a:t>учитель русского языка и литерат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Calibri"/>
              </a:rPr>
              <a:t>Шин Елена Филипп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001000" y="500040"/>
            <a:ext cx="713880" cy="71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Содержимое 5"/>
          <p:cNvSpPr/>
          <p:nvPr/>
        </p:nvSpPr>
        <p:spPr>
          <a:xfrm>
            <a:off x="1285920" y="500040"/>
            <a:ext cx="6786360" cy="5857560"/>
          </a:xfrm>
          <a:prstGeom prst="snip2DiagRect">
            <a:avLst>
              <a:gd name="adj1" fmla="val 0"/>
              <a:gd name="adj2" fmla="val 16667"/>
            </a:avLst>
          </a:prstGeom>
          <a:blipFill rotWithShape="0">
            <a:blip r:embed="rId1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88920" rotWithShape="0">
              <a:srgbClr val="000000">
                <a:alpha val="45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5429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«Кресты»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Содержимое 3" descr="'Кресты'.JPG"/>
          <p:cNvPicPr/>
          <p:nvPr/>
        </p:nvPicPr>
        <p:blipFill>
          <a:blip r:embed="rId1"/>
          <a:stretch/>
        </p:blipFill>
        <p:spPr>
          <a:xfrm>
            <a:off x="714240" y="428760"/>
            <a:ext cx="7572240" cy="50004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Содержимое 3" descr="1101143.jpg"/>
          <p:cNvPicPr/>
          <p:nvPr/>
        </p:nvPicPr>
        <p:blipFill>
          <a:blip r:embed="rId1"/>
          <a:stretch/>
        </p:blipFill>
        <p:spPr>
          <a:xfrm>
            <a:off x="1357200" y="428760"/>
            <a:ext cx="5714640" cy="564336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36360" dir="11400479" dist="12429" rotWithShape="0">
              <a:srgbClr val="000000">
                <a:alpha val="33000"/>
              </a:srgbClr>
            </a:outerShdw>
          </a:effectLst>
          <a:scene3d>
            <a:camera prst="perspectiveContrastingLeftFacing">
              <a:rot lat="540000" lon="2100000" rev="0"/>
            </a:camera>
            <a:lightRig dir="t" rig="soft"/>
          </a:scene3d>
          <a:sp3d contourW="12700" prstMaterial="matte">
            <a:bevelT w="63500" h="50800"/>
            <a:contourClr>
              <a:srgbClr val="c0c0c0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Содержимое 3" descr="800px-Комарово_будка_Ахматовой3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Содержимое 3" descr="1360077550_url-2.jpg"/>
          <p:cNvPicPr/>
          <p:nvPr/>
        </p:nvPicPr>
        <p:blipFill>
          <a:blip r:embed="rId1"/>
          <a:stretch/>
        </p:blipFill>
        <p:spPr>
          <a:xfrm>
            <a:off x="1571760" y="500040"/>
            <a:ext cx="5500440" cy="569736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36360" dir="11400479" dist="12429" rotWithShape="0">
              <a:srgbClr val="000000">
                <a:alpha val="33000"/>
              </a:srgbClr>
            </a:outerShdw>
          </a:effectLst>
          <a:scene3d>
            <a:camera prst="perspectiveContrastingLeftFacing">
              <a:rot lat="540000" lon="2100000" rev="0"/>
            </a:camera>
            <a:lightRig dir="t" rig="soft"/>
          </a:scene3d>
          <a:sp3d contourW="12700" prstMaterial="matte">
            <a:bevelT w="63500" h="50800"/>
            <a:contourClr>
              <a:srgbClr val="c0c0c0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Содержимое 3" descr="1962-Фото-И.-Бродского-580x495.jpg"/>
          <p:cNvPicPr/>
          <p:nvPr/>
        </p:nvPicPr>
        <p:blipFill>
          <a:blip r:embed="rId1"/>
          <a:stretch/>
        </p:blipFill>
        <p:spPr>
          <a:xfrm>
            <a:off x="1785960" y="1000080"/>
            <a:ext cx="5714640" cy="48574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Содержимое 6" descr="Anna_Ahmatova's_grave.jpg"/>
          <p:cNvPicPr/>
          <p:nvPr/>
        </p:nvPicPr>
        <p:blipFill>
          <a:blip r:embed="rId1"/>
          <a:stretch/>
        </p:blipFill>
        <p:spPr>
          <a:xfrm>
            <a:off x="1643040" y="1071720"/>
            <a:ext cx="5928840" cy="452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Награды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даль «За оборону Ленинграда»(1943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минирована на Нобелевскую премию по литературе (1962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мия Этно-Таормина (Италия, 1964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иплом почетного доктора Оксфордского университета (Виликобритания, 1965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85880" y="1571760"/>
            <a:ext cx="621468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чер (1912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тки (1914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лая стая (1917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орожник (1921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no domini (1922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остник (1923-1940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чет (1946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г времени (1964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928800" y="571320"/>
            <a:ext cx="7329240" cy="63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4400" spc="-1" strike="noStrike">
                <a:solidFill>
                  <a:srgbClr val="000000"/>
                </a:solidFill>
                <a:latin typeface="Impact"/>
              </a:rPr>
              <a:t>Сборники стихотворений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Поэмы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 самого моря (1914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квием (1935-1940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тём всея земли (1940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ма без героя (1942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0040" y="5429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Горенко Андрей Антонович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одержимое 5" descr="_02.jpg"/>
          <p:cNvPicPr/>
          <p:nvPr/>
        </p:nvPicPr>
        <p:blipFill>
          <a:blip r:embed="rId1"/>
          <a:stretch/>
        </p:blipFill>
        <p:spPr>
          <a:xfrm>
            <a:off x="2500200" y="285840"/>
            <a:ext cx="42858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Содержимое 3" descr="180px-Ukfyuhkiyui.jpg"/>
          <p:cNvPicPr/>
          <p:nvPr/>
        </p:nvPicPr>
        <p:blipFill>
          <a:blip r:embed="rId1"/>
          <a:stretch/>
        </p:blipFill>
        <p:spPr>
          <a:xfrm>
            <a:off x="5143680" y="214200"/>
            <a:ext cx="3785760" cy="63576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4" descr="4f6c65cabdd28.jpg"/>
          <p:cNvPicPr/>
          <p:nvPr/>
        </p:nvPicPr>
        <p:blipFill>
          <a:blip r:embed="rId2"/>
          <a:stretch/>
        </p:blipFill>
        <p:spPr>
          <a:xfrm>
            <a:off x="214200" y="214200"/>
            <a:ext cx="4714560" cy="63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5429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0000"/>
                </a:solidFill>
                <a:latin typeface="Impact"/>
              </a:rPr>
              <a:t>Горенко Инна Эразмовна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одержимое 3" descr="_02 - копия.jpg"/>
          <p:cNvPicPr/>
          <p:nvPr/>
        </p:nvPicPr>
        <p:blipFill>
          <a:blip r:embed="rId1"/>
          <a:stretch/>
        </p:blipFill>
        <p:spPr>
          <a:xfrm>
            <a:off x="2643120" y="285840"/>
            <a:ext cx="40003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3" descr="b_1646_i_006.jpg"/>
          <p:cNvPicPr/>
          <p:nvPr/>
        </p:nvPicPr>
        <p:blipFill>
          <a:blip r:embed="rId1"/>
          <a:stretch/>
        </p:blipFill>
        <p:spPr>
          <a:xfrm>
            <a:off x="214200" y="642960"/>
            <a:ext cx="3750840" cy="56433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Анна и Ольга Ахматовы.jpg"/>
          <p:cNvPicPr/>
          <p:nvPr/>
        </p:nvPicPr>
        <p:blipFill>
          <a:blip r:embed="rId2"/>
          <a:stretch/>
        </p:blipFill>
        <p:spPr>
          <a:xfrm>
            <a:off x="5357880" y="1071720"/>
            <a:ext cx="3285720" cy="40003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image025.jpg"/>
          <p:cNvPicPr/>
          <p:nvPr/>
        </p:nvPicPr>
        <p:blipFill>
          <a:blip r:embed="rId3"/>
          <a:stretch/>
        </p:blipFill>
        <p:spPr>
          <a:xfrm>
            <a:off x="3571920" y="2357280"/>
            <a:ext cx="25714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3" descr="Первая страница из сборника А.А.Ахматовой 'Вечер'.jpg"/>
          <p:cNvPicPr/>
          <p:nvPr/>
        </p:nvPicPr>
        <p:blipFill>
          <a:blip r:embed="rId1"/>
          <a:stretch/>
        </p:blipFill>
        <p:spPr>
          <a:xfrm>
            <a:off x="1643040" y="357120"/>
            <a:ext cx="5500440" cy="578628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36360" dir="11400479" dist="12429" rotWithShape="0">
              <a:srgbClr val="000000">
                <a:alpha val="33000"/>
              </a:srgbClr>
            </a:outerShdw>
          </a:effectLst>
          <a:scene3d>
            <a:camera prst="perspectiveContrastingLeftFacing">
              <a:rot lat="540000" lon="2100000" rev="0"/>
            </a:camera>
            <a:lightRig dir="t" rig="soft"/>
          </a:scene3d>
          <a:sp3d contourW="12700" prstMaterial="matte">
            <a:bevelT w="63500" h="50800"/>
            <a:contourClr>
              <a:srgbClr val="c0c0c0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4240" y="55008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Impact"/>
              </a:rPr>
              <a:t>Гумилёв Николай Степанович(1886-1921) – поэт, переводчик, критик, один из основателей поэтического направления «Акмеизм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3" descr="Николай Гумилёв.jpg"/>
          <p:cNvPicPr/>
          <p:nvPr/>
        </p:nvPicPr>
        <p:blipFill>
          <a:blip r:embed="rId1"/>
          <a:stretch/>
        </p:blipFill>
        <p:spPr>
          <a:xfrm>
            <a:off x="2571840" y="214200"/>
            <a:ext cx="3928680" cy="50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Содержимое 3" descr="Ахматова_Н.Гумилев_Л.Гумилев.jpg"/>
          <p:cNvPicPr/>
          <p:nvPr/>
        </p:nvPicPr>
        <p:blipFill>
          <a:blip r:embed="rId1"/>
          <a:stretch/>
        </p:blipFill>
        <p:spPr>
          <a:xfrm>
            <a:off x="285840" y="1214280"/>
            <a:ext cx="5000400" cy="450036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041.jpg"/>
          <p:cNvPicPr/>
          <p:nvPr/>
        </p:nvPicPr>
        <p:blipFill>
          <a:blip r:embed="rId2"/>
          <a:stretch/>
        </p:blipFill>
        <p:spPr>
          <a:xfrm>
            <a:off x="5500800" y="571320"/>
            <a:ext cx="3428640" cy="23569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5" descr="022.jpg"/>
          <p:cNvPicPr/>
          <p:nvPr/>
        </p:nvPicPr>
        <p:blipFill>
          <a:blip r:embed="rId3"/>
          <a:stretch/>
        </p:blipFill>
        <p:spPr>
          <a:xfrm>
            <a:off x="5500800" y="3143160"/>
            <a:ext cx="3428640" cy="31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0040" y="5286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ото из следственного дел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Содержимое 3" descr="Фото Льва Гумилёва из следственного дела.jpg"/>
          <p:cNvPicPr/>
          <p:nvPr/>
        </p:nvPicPr>
        <p:blipFill>
          <a:blip r:embed="rId1"/>
          <a:stretch/>
        </p:blipFill>
        <p:spPr>
          <a:xfrm>
            <a:off x="1643040" y="857160"/>
            <a:ext cx="5967360" cy="42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1320" y="5429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Осип Мандельштам (1891-1938) – поэт 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лучший друг Анны Ахматовой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Содержимое 5" descr="Осип Мандельштам.jpg"/>
          <p:cNvPicPr/>
          <p:nvPr/>
        </p:nvPicPr>
        <p:blipFill>
          <a:blip r:embed="rId1"/>
          <a:stretch/>
        </p:blipFill>
        <p:spPr>
          <a:xfrm>
            <a:off x="2357280" y="285840"/>
            <a:ext cx="39286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  <Words>163</Words>
  <Paragraphs>29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4T12:43:55Z</dcterms:created>
  <dc:creator>KM</dc:creator>
  <dc:description/>
  <dc:language>en-US</dc:language>
  <cp:lastModifiedBy>Владимир Остапченко</cp:lastModifiedBy>
  <dcterms:modified xsi:type="dcterms:W3CDTF">2025-08-29T08:28:50Z</dcterms:modified>
  <cp:revision>11</cp:revision>
  <dc:subject/>
  <dc:title>Литературный вечер, посвященный памяти  Анны Ахматово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20</vt:r8>
  </property>
</Properties>
</file>