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3AF-205B-4130-A5DC-C01FE5F9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A32-A035-48B9-9BB3-962A956A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D80-5803-4A1B-9317-2782C7DE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9FB-D14D-4917-9D9C-138F9CAC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119B-1665-4439-8AA8-2DA551F0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B9E4-4447-4CE2-82FF-93CA2DF2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02BC-E1F5-4F94-BD7A-07A72949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73BD-3665-40BA-BCA4-EB3468C2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A592-3D45-455D-8075-5605459A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9C18-5CFB-413A-9B20-D616C43E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1061-563D-4642-9693-1A0926BA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B39-1596-41D6-9BD2-97572FF0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DC43-6C9A-4D51-967D-81E51F73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F138-8365-41C6-921F-AB40D257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285B-CABA-4C0A-9850-57A75439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924C-49D5-47B4-9B31-547DE556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5095-0D8D-4599-AC2F-C0D07005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752-A294-437F-B45F-18B6C458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BB7-6B24-46E1-A70E-BA312440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CC1-247C-491A-A30A-DBD0D835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09F-55CF-4DBF-8EF3-CA55A909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908-9F39-4E4A-B8E9-772AF8E8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A1F-1E8D-48ED-8134-B680114C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EDD-C138-44AA-9FAA-2E740FC2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C188-299D-4187-9F94-6BDF5F40B8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AD9C-C5E1-454F-8F6A-415DE0A4D32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Гимнастические упражнения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детей специальной медицинской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а: Учитель физической культуры Капитан Л.Ф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sh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бщеразвивающие упражнения для предупреждения нарушенний и исправления осанки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И.п- ноги врозь, руки согнуты в локтевых суставах, палка сзади в локтевых сгибах;1-2- наклон вперед, прогнуться; 3-4- и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И.п.-сед ноги врозь ,скакалка за головой, руки в стороны; 1- пружинящий поворот направо, натягивая скакалку руками; 2- и.п., 3-4- то же в другую сторо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И.п.-стоя на коленях, руки в стороны; 1- наклон в право, правой рукой коснуться левой стопы; 2- и.п.; 3-4- то же в другую сторо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И.п.- упор стоя на коленях; 1-2- прогнуться; 3-4- выгнуть спи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И .п.- лежа на животе, руки согнуты. 1-2-медленно разогнуть руки, упор лежа на бедрах, прогнуться; 3-4- и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И. п. – лежа на животе, руки вверху; 1-2- прогнуться, отвести ноги ; 3-4- и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sh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Упражнения при заболеваниях органов дыхания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( хронический бронхит, воспаления легких, бронхиальная астма)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пражнения способствующие усилению вдох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И.п.- о.с. 1-2- шаг левой вперед, правая назад на носок, руки вверх- вдох; 3-4-и.п., выдох, 5-8- тоже с другой но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И.п.- стойка ноги врозь , палка горизонтально вниз, 1-2- с поворотом туловища на вдохе палку вверх; 3-4- и.п., выдох; 5-8- то же в другую сторо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И.п.- стоя на коленях, палка горизонтально вниз. 1-2- прогибаясь, руки вверх- назад, наклон назад, вдох; 3-4- и.п., выдо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И.п.- стоя спиной к гимнастической стенке, руки хватом за рейку на уровне головы; 1-2- выпад правой, прогнуться, вдох; 3-4- и.п., выдох; 5-8- то же с другой но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sh dir="r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пражнения при заболеваниях органов дыхания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пражнения , способствующие усилению выдох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И.п.- стойка ноги врозь, руки вверху, пальцы сцеплены, слегка прогнуться; 1- наклон туловища вперед, руки вниз; 2- и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И.п.- сед, руки в стороны, 1- наклон вперед , ладонями коснуться носков ног; 2- и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И п.- на гимнастической скамейке сед поперек, ноги врозь, руки на поясе; 1- наклон к правой ноге, коснуться носка ноги; 2- и.п.; 3-4- то же к другой ног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И .п.- лежа на левом боку; 1- согнуть правую ногу, обхватить руками колено, прижать к груди; 2- и.п. То же на другом бо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sh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бщеразвивающие упражнения при заболеваниях почек ( нефриты, пиелонефриты ,нефроз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И.п.- на гимнастической скамейке сед поперек, ноги врозь, руки за головой; 1- согнуть правую ногу,  обхватить руками колено, прижать к груди; 2- и.п. ; 3-4 – то же с другой но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И .п.- лежа на спине, руки вверху; 1- согнуть правую ногу, поднять туловище, руками обхватить голень; 2- и.п. ; 3-4- то же с другой но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И, п.- лежа на спине, руки вверху; 1- поднять колени к груди, руками взяться за голени; 2- и.п.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И.п.- лежа на спине, руки за головой; 1- согнуть правую ногу, поворот туловища вправо, коснуться левым локтем правого колена; 2- и.п.; 3-4 – то же с другой ног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sh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екомендации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упражнения для детей , имеющих отклонения со стороны сердечно- сосудистой системы, рекомендуются такие, в которых задействованы все мышечные группы, из различных полож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Противопоказано выполнения упражнений с задержкой дыхания, с натуживанием, с большой амплитудой дви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ри нарушениях нервной системы ограничиваються упражнения вызывающие перенапряж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С заболеваниями органов зрения противопоказаны упражнения с натуживанием, прыжки, кувырки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sh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9:55:42Z</dcterms:created>
  <dc:creator>user</dc:creator>
  <dc:description/>
  <dc:language>en-US</dc:language>
  <cp:lastModifiedBy>User</cp:lastModifiedBy>
  <dcterms:modified xsi:type="dcterms:W3CDTF">2025-05-21T06:35:46Z</dcterms:modified>
  <cp:revision>4</cp:revision>
  <dc:subject/>
  <dc:title>Гимнастические упражнения.</dc:title>
</cp:coreProperties>
</file>