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813-1E41-48CA-B4BB-EADBD6E8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FDC-A4A7-44E1-A29F-C1C110B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E60-8AF1-400B-B762-6B91C8FA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5EF-156C-4B99-B071-DE056117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4474-D87B-4E14-B51E-8F8BDA01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EE97-3DBF-4143-B2A4-D0FB3B52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ECED-16EB-495E-A36A-EBC991E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B2CE-06CB-4CDD-BC39-BADF73E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86F9-C7DD-4609-A058-DC94CC17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7F93-7099-48B3-88A4-0CEEB21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12F6-4EED-4293-8A58-E30383A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812-77CC-4FAB-BAEC-4FD5C713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AAB2-C2BC-4207-A3ED-10807A9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D775-6E0E-4DBD-861A-9E9DABD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6877-5BE5-44D4-A62A-AF7AD96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5D6-BCC4-49C4-802A-B226EF71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F743-A6F8-459B-80EF-4CF7A44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B8D-B21B-4F1D-B868-2479F09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098-42FA-4311-A97D-0AAE118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028-0F34-4BFE-A088-D04A5454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BE3-9E3C-4EB4-A15E-C01408A7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8D7-77E0-4229-99E7-59EE3893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64E-5D81-46FC-8054-0D8D4D7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86A-69D7-4FD6-B8E3-7E728E71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268A-0981-4526-AC6E-7852844ACD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59760"/>
              <a:ext cx="3620160" cy="6132600"/>
              <a:chOff x="5410080" y="59760"/>
              <a:chExt cx="362016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1040"/>
                <a:ext cx="38844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320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6280"/>
              <a:ext cx="893160" cy="824760"/>
              <a:chOff x="564948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96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20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200" y="5259960"/>
              <a:ext cx="1059120" cy="829800"/>
              <a:chOff x="97020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0B2-CACB-4CB9-ADCA-99DF1956B08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596520"/>
            <a:ext cx="754380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витие речи  и творческих способностей детей старшего дошкольного возраста по средствам театрализованных игр и театральн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352680" y="4495320"/>
            <a:ext cx="5486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илакова А.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стрякова Е.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вободная театральная деятельность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138240" y="1600200"/>
            <a:ext cx="4128840" cy="42670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"/>
          <p:cNvPicPr/>
          <p:nvPr/>
        </p:nvPicPr>
        <p:blipFill>
          <a:blip r:embed="rId2"/>
          <a:stretch/>
        </p:blipFill>
        <p:spPr>
          <a:xfrm>
            <a:off x="4281480" y="1600200"/>
            <a:ext cx="4724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0" y="1417680"/>
            <a:ext cx="4253040" cy="50292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42055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733920" cy="4684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52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нига-театр «Кот в сапогах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Рисунок 2" descr=""/>
          <p:cNvPicPr/>
          <p:nvPr/>
        </p:nvPicPr>
        <p:blipFill>
          <a:blip r:embed="rId1"/>
          <a:stretch/>
        </p:blipFill>
        <p:spPr>
          <a:xfrm>
            <a:off x="442800" y="914400"/>
            <a:ext cx="3824280" cy="49528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узыкальный ансамбль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Рисунок 2" descr=""/>
          <p:cNvPicPr/>
          <p:nvPr/>
        </p:nvPicPr>
        <p:blipFill>
          <a:blip r:embed="rId1"/>
          <a:stretch/>
        </p:blipFill>
        <p:spPr>
          <a:xfrm>
            <a:off x="442800" y="990720"/>
            <a:ext cx="82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228600" y="-4543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еневой теат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Рисунок 4" descr=""/>
          <p:cNvPicPr/>
          <p:nvPr/>
        </p:nvPicPr>
        <p:blipFill>
          <a:blip r:embed="rId1"/>
          <a:srcRect l="5908" t="0" r="19094" b="0"/>
          <a:stretch/>
        </p:blipFill>
        <p:spPr>
          <a:xfrm>
            <a:off x="3200400" y="1009800"/>
            <a:ext cx="5715000" cy="41734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"/>
          <p:cNvPicPr/>
          <p:nvPr/>
        </p:nvPicPr>
        <p:blipFill>
          <a:blip r:embed="rId2"/>
          <a:srcRect l="0" t="22965" r="0" b="14006"/>
          <a:stretch/>
        </p:blipFill>
        <p:spPr>
          <a:xfrm>
            <a:off x="15228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ывод</a:t>
            </a:r>
            <a:br>
              <a:rPr sz="4400"/>
            </a:br>
            <a:br>
              <a:rPr sz="2400"/>
            </a:br>
            <a:r>
              <a:rPr b="1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еатрализованная деятельность обогащает словарь диалогическую и монологическую речь, память, мышление, воображение; учит детей быть творческими личностями, способными к восприятию новизны, умению импровизироват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Это прекрасное средство для интенсивного развития речи детей, обогащение словаря, развития мышления, воображения, творческих способностей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2800" y="228240"/>
            <a:ext cx="75438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еатрализованная деятельность-это не просто игр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бота по речевому развитию в театрализованной деятельн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17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осмотр видеоматериа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гры-драматиз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ыгрывание разнообразных сценок, песенок и стих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пражнения по развитию мимики, пантомимики, мотор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гры и ситуации по произведения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движные речевые игры с персонажами сказ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осмотр спектаклей и беседы по ни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-16380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формирование устной речи детей, культуры общения с окружающими, соответствующих возрастному периоду детей посредствам театрализованной деятель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ктивизировать и обогащать словарный запас дошкольник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вивать монологическую и диалогическую формы реч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звивать устойчивый интерес к театрально-игровой деятельности, развивать творческие способ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ами мастерим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457200" y="1927080"/>
            <a:ext cx="822960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зготовление атрибутов к басн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4052880" cy="55227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724280" y="1357200"/>
            <a:ext cx="41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асня «Свинья под дубом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185760" y="838080"/>
            <a:ext cx="4343400" cy="601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2"/>
          <a:stretch/>
        </p:blipFill>
        <p:spPr>
          <a:xfrm>
            <a:off x="4697280" y="838080"/>
            <a:ext cx="4294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838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304920" y="103320"/>
            <a:ext cx="3962160" cy="67546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"/>
          <p:cNvPicPr/>
          <p:nvPr/>
        </p:nvPicPr>
        <p:blipFill>
          <a:blip r:embed="rId2"/>
          <a:stretch/>
        </p:blipFill>
        <p:spPr>
          <a:xfrm>
            <a:off x="4767120" y="103320"/>
            <a:ext cx="403884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440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разучивании басни  дети познакомились с архаизмами русского языка </a:t>
            </a:r>
            <a:br>
              <a:rPr sz="2400"/>
            </a:b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рхаизм-это устаревшее слово или оборот речи.</a:t>
            </a:r>
            <a:br>
              <a:rPr sz="2400"/>
            </a:b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спользуется как средство художественной выразительности для воссоздания исторического колорита, речи героев, для придания произведению возвышенного характер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5-03-25T00:26:0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