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828D-520B-4861-908B-B1AB4C3022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049C-3A8C-4DE3-980D-045331BD4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CE0-FE0A-4746-BFB5-C1FEDF776A21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E65-78BB-4D9A-B3B1-CAF543C12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164-E457-4249-9012-059A44EE523C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8E0-237E-4B06-B058-BBF402C8D2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FE1-7786-4322-A6B6-F0261849FD97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7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ллекция учебных динамических слайдов по химии 8 класс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5F3-2F68-4F1B-95D6-569D555A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A5B-8FD5-4873-9B6B-BA93ACE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C938-D21E-44CA-8379-56E3E082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842D3-C27B-4CB9-939E-5FA8D145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FA783-D35C-4308-9D4E-D4FA7EF8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6488-1B00-4D69-80BC-1206AE1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848F-E6D1-4F58-B09E-B222459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A005-DE43-4EA7-9308-3DFA065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6B831-11B7-4723-B8CD-CE4A02D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973A9-C546-4EFA-8C90-4932DC2A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AABD-2BBC-4AD7-A318-F539DAB7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6E42C-E24A-44F6-9AA8-4D8B9F85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F54-F5EF-4EA3-8F41-4AD87F82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97F5B-B7CB-479C-A167-DD0F5472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9C64-999B-4A2D-8AD0-F402860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60C41-207E-4E9A-AEA1-74983C13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931A7-90EB-4B71-9D57-80A4EE5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FBF81-1515-4034-AD13-55DC73E3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67C0-3B21-446E-A9B7-69ACF50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856D0-96A7-4A15-B128-6F41632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556F-4553-4F31-9860-D147B25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9A3A3-89CA-4930-9DC8-6537EC8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AC279-EFE2-46EC-9BB4-8803E996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F3C-AF3D-4B1E-855A-776BF4A3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71D2-8A49-4783-B4AF-27159902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F0213-E94A-41DF-B072-AB1998A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77657-8E76-45F3-AEEE-33A8143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28AD9-10E6-4195-B9FD-8847E83F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721E-6E0D-4318-9150-6B2E2D2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5E4E4-4E46-4BFA-B68A-34635BF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F922-EB07-4D26-AACB-2155EF6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80F49-7AA2-44AB-94FC-0EE215C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319DF-A746-45F3-AD95-6B78A61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F814-39C9-483D-BE11-C0B58F23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01E8-65EB-4AD0-A500-7B456F0A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4403F-68D2-47CB-A616-1C2F39A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C6B69-D971-45D9-B5E6-D581C0C3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6600C-09D1-4C3C-9FB4-5A123A16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6250C-52A5-4FEF-A6A7-B586C5D4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86B0-49B9-43D8-91AB-89B5798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2FA1C-A876-423C-BCA5-FE7FAB8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E5CAF-DA08-41E2-9A22-FEA4DA8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CC405-CA8F-4796-99EA-6AF9879D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DB9CA-0DA4-470C-9A23-47D207B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C9E43-0B75-40ED-9C84-C0CF720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845-1DE3-4C79-A081-16E879A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5822C-F71D-454E-8807-06E2225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FED0-5A02-43BA-ADDF-0D749C1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FC9EF-21D3-48AD-A091-8E97DC5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8ACD7-4F31-4576-9E69-89FCE082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6804D-4DA4-40EE-BE08-EE8BA0B2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592E3-3D3F-46B6-8383-8FFDFD93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008C7-8509-4E60-9DBC-E312684C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1B6D0-5331-42CF-AF35-D203DA9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5347A-F402-4A73-B956-95BA72B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9EFA1-5D36-4B6A-83C3-6A251CC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FFD-40E3-4351-9C2E-B28387BA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941D6-4441-4FB6-9195-7E10818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7FEB2-D47B-4E09-863F-C11A1AB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2F4DE-045B-4452-80F4-339358E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B8088-C922-46DB-AF17-564D425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4DC0D-9AB4-44FA-AF3B-8C703227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38936-EAE2-4C82-9843-FF695D8C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C55E0-3325-4DD5-B8D9-230973B4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F82F4-235A-476C-8ACC-CFD7543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59D2A-3B12-4BCA-BA00-4EFFE67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60366-AF25-4246-802B-E39B2B1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7F3-E8E6-4135-8052-5D65EF2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55855-E9D9-4B8E-8E45-BA5BF64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73E80-7635-4262-8128-29DB321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AF487-A7CF-4D6F-A4CD-21F51B3C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81383-005E-40AA-B097-4B3C195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6B97B-FBCB-4E66-9814-0E0AE9B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935BD-D04A-47D5-8E8F-03A6C09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4CF4E-E270-4AAE-AEC1-9D199E3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74BC3-8D6E-4F2C-9F91-3303F3D3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FBA91-956F-41A4-869D-7F17DB90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B7D60-2DAB-4F43-B611-DB7D3D20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AFA-FC96-49BA-8DD7-B3216CF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66EE3-95AD-4D02-A718-7324B8FD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AEB2D-95A5-4E0A-ABC6-B0CA0B8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D99FF-5B36-49DA-8B05-9603841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0B8CB-34D4-4C0D-BD95-2212ED6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D17E0-512C-4A01-A335-F6D58761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A59F6-25EB-497A-95AA-0154CEF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C6FA7-46E5-4AE5-8DBD-AB8A7F8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341AD-DC94-4D00-AECB-ABD2017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E32CC-E95D-430E-B6EE-FB5AA93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80A89-FE3B-4A16-9528-33975E28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C76-072E-4536-A617-8AEE75B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40B8B-37DE-4C61-AA17-EEDCCB32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8D84D-AC21-4DA8-8504-49F2F02C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B4E47-9684-4020-BCE4-0A755FC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687F8-2701-447D-B645-9D160E01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89216-1DB3-4800-A939-441A303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68ED3-2C61-412E-870A-183F45C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0C9DD-CDF6-4DCF-9A3F-A9226F23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55EF6-CDE5-4E2D-B09A-F97A134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98827-1504-4F31-8C81-D6426B9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89836-6993-4AB2-99AA-307E01F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4124-C87A-4CED-9EDA-56B1826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CE03A-FB6A-49A0-A1A5-B95FB8D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B282D-407B-4CF4-A4D9-C1C680E3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E0DB9-90F0-43BE-AF79-C2FD3DFF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C32-A7F8-4A2A-9924-B328054C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A37-02F0-4045-9F63-14C7A66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6ED-2B2B-49D1-9912-1055E47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AE46-65A4-4D2B-A6A3-2030018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2C3-2744-4BBD-A5E1-1521F06E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4379-803F-4036-BC1A-D9F60F73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5F31-B6AE-4F5D-B464-F2F472B6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2D83-6C01-4096-83FD-52E2E21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2CF5-DB07-4CC9-9BD9-87CD9FCA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5701-18AF-41E6-A22C-E70A8A7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3BA8-662B-4111-AA9B-5038E35A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D20-6E7C-4272-BD73-02B3C64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57C0-F23D-4CBF-B44B-F33BFC6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ACDE-BC1C-413B-B7A9-283B2B6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D723-7354-4D13-AEA0-924D194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18D2-D055-4223-B7C3-BFC5160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C193-C306-4216-8E46-97698BB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F184-FA4F-4464-AB8D-9CBADEF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15DC-F99E-44B9-84AB-D601CF8C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352D-3FB7-4810-8CB2-47140EB2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EA43-7E8C-4A04-A8F3-9CB606D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0053-373E-42CD-A9E8-3449BD2E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8C3-5E6B-4E4D-AF83-DF3D904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3827-F212-4B84-90CC-7A271D1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3A39-8962-4984-96D9-B076C0B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83FD-C29F-428B-87D6-A20A9CB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E8DD-12F9-4380-8EE7-382662B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F603-4279-468D-B360-FE6C7F0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31F6-1165-4ECC-875A-6FA71F8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237B-EE68-4A10-B945-B24760E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3622-497B-4566-A4D7-A3B7BE9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9668-9884-488D-946D-EBE3F62F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EF33-2B47-4CD1-8A83-D3976470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840-98BC-46C8-9C94-DC5D3B4E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2210-E83D-4BA0-A400-F8DFC41D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083B-D6B5-47CC-9572-BDCD0BC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6AB7-3971-4C54-9CEF-1C6BEE1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58BD-0294-4CB9-BD16-48903A0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2BEC-01EA-457C-B829-0D6F3AE6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8AEA-E948-4ED9-AC6B-65FA7FD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BDF1-E9E7-4FC0-B854-B06AC20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B188-21F2-4041-8AF8-8FE6E65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41B4-26A3-4672-BF4A-6A5FAB3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5EA4-BF13-43C7-B187-4D6CC4BE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D68-4AC9-40E8-A603-74BE784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2634-0E2C-4D41-870F-77B54FBE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DAE0-F9A9-424D-8A36-CA4AE951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95052-3016-41DD-ACA1-5C68656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DDFA-1087-4662-9CFA-77B7E84D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2B44-4A81-47D3-B4D0-036A187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0D6A-1263-4B60-A1E2-5C0A279D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34EB-F464-4925-8575-37AFD9E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C8DD-7123-4F70-B198-155CF22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54B6-8204-4475-96CE-7E73FF9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1B0F-11BF-4385-9772-F8159A1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308-EC04-4553-A90F-0FD939C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33B4-372E-472C-98A3-2591EA7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2864-2384-4588-915B-E9872DC1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8173A-C0A9-4AA2-B31D-8C8A1627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BDEE-B53F-4150-8CA3-F73756B6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6C44-66C9-4256-B9DC-F0746A3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A880-DAC2-4BF5-A433-2F2BA8B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90D8-3705-4A70-846E-4C64C8F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B7407-8B1F-4953-9A9A-D911666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B2B1A-CDE2-4076-BB36-23CFBE46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28A9-471D-4EBB-A2F2-C9B6D15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779-6B50-42D6-8562-202CFBB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23B3-3199-4ADB-A836-02362A2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774D-E280-4BEE-8D31-4AF7526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3F8DF-B6C6-4862-AE2F-BFB8AEF0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274D-6E86-460A-9332-A7DB752E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22DA-613C-4C35-B3F6-123BE40A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B2B9-0017-4C2F-93F3-F264CBDA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4691-DC7B-40A7-B20C-12C5CC5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D9DC-B64A-4D4D-8D7F-9106EB3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35B19-72D4-4D2F-AE54-8F939F8C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7F601-6EC9-439C-80A2-4CB5AD85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BCF-5987-44EB-9306-58765BC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91760"/>
            <a:ext cx="49528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947B-6D9E-4445-89C1-AE6439B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FB449-427F-474D-B90D-3C5E4AC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E0F8-AE15-4996-9671-E336A88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FAC2-7FB9-42BC-80E2-4426539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880" y="3021480"/>
            <a:ext cx="830592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8B028-945B-4A30-B17C-44F0E67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7160" y="120024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37160" y="3021480"/>
            <a:ext cx="40532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1D90C-76DC-4D58-BAE2-70E3FBA1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960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97960" y="120024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88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960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97960" y="3021480"/>
            <a:ext cx="2674440" cy="16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4567-B5A9-44ED-83DB-D1BC8C49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5B692-B641-4453-8059-E66EFE61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A8BD-BEEE-4657-8F59-89099C48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43880"/>
            <a:ext cx="495288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9EF1-32E6-4557-9AE5-F5F24E19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E67-1F69-4A0E-A923-49DD1FAF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2F1-91D6-4175-BDC9-126224FE1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EBEE-88EE-44D8-A1F2-698F0BA1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F02-AB34-41EE-89B2-D68CD83D2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C77-B2C2-43FD-92B2-052EBFC8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D946-4DB9-4E3F-8043-BCB1347D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9906-510A-465D-9637-69F7F2AD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0BE-C744-4597-82DE-98F8568467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E2C-7086-4894-9525-3DE694B188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4"/>
          <p:cNvSpPr/>
          <p:nvPr/>
        </p:nvSpPr>
        <p:spPr>
          <a:xfrm>
            <a:off x="368280" y="297000"/>
            <a:ext cx="1384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857480"/>
            <a:ext cx="213372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85748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857480"/>
            <a:ext cx="2133720" cy="18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9FD-4B12-4B76-81D2-7DE4AE9349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DBCB-1507-4E12-8AEB-DC9DAB59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005-94C7-4ECE-A593-9516883D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791-F968-496D-A24D-8AAA3C1B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D4F-EC2C-4097-8BC2-99F60ACE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C83-019C-40F3-A956-39A1B1FA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5840" indent="-21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46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520" indent="-217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04920" y="480060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2971440" y="48006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ACE4-DD28-4D31-8B1C-C0D0AD7BC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Рисунок 2" descr=""/>
          <p:cNvPicPr/>
          <p:nvPr/>
        </p:nvPicPr>
        <p:blipFill>
          <a:blip r:embed="rId1"/>
          <a:stretch/>
        </p:blipFill>
        <p:spPr>
          <a:xfrm>
            <a:off x="-612720" y="-1697040"/>
            <a:ext cx="10261440" cy="684072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1"/>
          <p:cNvSpPr/>
          <p:nvPr/>
        </p:nvSpPr>
        <p:spPr>
          <a:xfrm>
            <a:off x="0" y="357120"/>
            <a:ext cx="8358120" cy="131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Schoolbook"/>
              </a:rPr>
              <a:t>Реакции ионного обмен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CO</a:t>
            </a:r>
            <a:r>
              <a:rPr b="1" lang="en-US" sz="1800" spc="-1" strike="noStrike">
                <a:solidFill>
                  <a:srgbClr val="0a1c74"/>
                </a:solidFill>
                <a:latin typeface="Tahoma"/>
              </a:rPr>
              <a:t>3</a:t>
            </a:r>
            <a:r>
              <a:rPr b="1" lang="en-US" sz="2400" spc="-1" strike="noStrike" baseline="40000">
                <a:solidFill>
                  <a:srgbClr val="0a1c74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0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3070080" y="4140360"/>
            <a:ext cx="914400" cy="603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004c4a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Oval 5"/>
          <p:cNvSpPr/>
          <p:nvPr/>
        </p:nvSpPr>
        <p:spPr>
          <a:xfrm>
            <a:off x="2416320" y="2473200"/>
            <a:ext cx="914400" cy="6876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685800" y="1787400"/>
            <a:ext cx="107784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Oval 13"/>
          <p:cNvSpPr/>
          <p:nvPr/>
        </p:nvSpPr>
        <p:spPr>
          <a:xfrm>
            <a:off x="7183440" y="1592280"/>
            <a:ext cx="107964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Oval 14"/>
          <p:cNvSpPr/>
          <p:nvPr/>
        </p:nvSpPr>
        <p:spPr>
          <a:xfrm>
            <a:off x="6008760" y="4041720"/>
            <a:ext cx="1079280" cy="72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Oval 15"/>
          <p:cNvSpPr/>
          <p:nvPr/>
        </p:nvSpPr>
        <p:spPr>
          <a:xfrm>
            <a:off x="782640" y="2817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Oval 16"/>
          <p:cNvSpPr/>
          <p:nvPr/>
        </p:nvSpPr>
        <p:spPr>
          <a:xfrm>
            <a:off x="2351160" y="159228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Oval 17"/>
          <p:cNvSpPr/>
          <p:nvPr/>
        </p:nvSpPr>
        <p:spPr>
          <a:xfrm>
            <a:off x="7969320" y="25225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Oval 18"/>
          <p:cNvSpPr/>
          <p:nvPr/>
        </p:nvSpPr>
        <p:spPr>
          <a:xfrm>
            <a:off x="1436760" y="3551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9 0.00021 L 0.17136 0.00021 E">
                                      <p:cBhvr>
                                        <p:cTn id="751" dur="2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9607E-006 3.17667E-006 L 0.24988 0.06672 E">
                                      <p:cBhvr>
                                        <p:cTn id="753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7585E-006 -3.59631E-006 L -0.13076 -0.00147 E">
                                      <p:cBhvr>
                                        <p:cTn id="755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88 0.06672 L 0.24988 0.40012 E">
                                      <p:cBhvr>
                                        <p:cTn id="759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36 0.00021 L 0.17136 0.33361 E">
                                      <p:cBhvr>
                                        <p:cTn id="761" dur="2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76 -0.00147 L -0.13076 0.33194 E">
                                      <p:cBhvr>
                                        <p:cTn id="763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4634E-006 1.98909E-006 L -0.00709 -0.71528 E">
                                      <p:cBhvr>
                                        <p:cTn id="769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 0.41083 L 0.00047 -0.27843 E">
                                      <p:cBhvr>
                                        <p:cTn id="773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21"/>
          <p:cNvSpPr/>
          <p:nvPr/>
        </p:nvSpPr>
        <p:spPr>
          <a:xfrm>
            <a:off x="1405440" y="1522440"/>
            <a:ext cx="430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 +   NaOH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+ 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TextBox 24"/>
          <p:cNvSpPr/>
          <p:nvPr/>
        </p:nvSpPr>
        <p:spPr>
          <a:xfrm>
            <a:off x="1369800" y="1522440"/>
            <a:ext cx="50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TextBox 26"/>
          <p:cNvSpPr/>
          <p:nvPr/>
        </p:nvSpPr>
        <p:spPr>
          <a:xfrm>
            <a:off x="1676160" y="1522440"/>
            <a:ext cx="51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129132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Прямоугольник 31"/>
          <p:cNvSpPr/>
          <p:nvPr/>
        </p:nvSpPr>
        <p:spPr>
          <a:xfrm>
            <a:off x="201204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TextBox 32"/>
          <p:cNvSpPr/>
          <p:nvPr/>
        </p:nvSpPr>
        <p:spPr>
          <a:xfrm>
            <a:off x="2521440" y="1522440"/>
            <a:ext cx="68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TextBox 33"/>
          <p:cNvSpPr/>
          <p:nvPr/>
        </p:nvSpPr>
        <p:spPr>
          <a:xfrm>
            <a:off x="2863800" y="1522440"/>
            <a:ext cx="70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Прямоугольник 34"/>
          <p:cNvSpPr/>
          <p:nvPr/>
        </p:nvSpPr>
        <p:spPr>
          <a:xfrm>
            <a:off x="283104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Прямоугольник 42"/>
          <p:cNvSpPr/>
          <p:nvPr/>
        </p:nvSpPr>
        <p:spPr>
          <a:xfrm>
            <a:off x="6500880" y="2517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TextBox 43"/>
          <p:cNvSpPr/>
          <p:nvPr/>
        </p:nvSpPr>
        <p:spPr>
          <a:xfrm>
            <a:off x="1714680" y="4260960"/>
            <a:ext cx="7429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3" name="Прямоугольник 48"/>
          <p:cNvSpPr/>
          <p:nvPr/>
        </p:nvSpPr>
        <p:spPr>
          <a:xfrm>
            <a:off x="3567960" y="205596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4" name="TextBox 50"/>
          <p:cNvSpPr/>
          <p:nvPr/>
        </p:nvSpPr>
        <p:spPr>
          <a:xfrm>
            <a:off x="3947760" y="1522440"/>
            <a:ext cx="747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TextBox 52"/>
          <p:cNvSpPr/>
          <p:nvPr/>
        </p:nvSpPr>
        <p:spPr>
          <a:xfrm>
            <a:off x="4943160" y="1522440"/>
            <a:ext cx="68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Прямоугольник 53"/>
          <p:cNvSpPr/>
          <p:nvPr/>
        </p:nvSpPr>
        <p:spPr>
          <a:xfrm>
            <a:off x="5663160" y="205596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TextBox 55"/>
          <p:cNvSpPr/>
          <p:nvPr/>
        </p:nvSpPr>
        <p:spPr>
          <a:xfrm>
            <a:off x="5287680" y="1522440"/>
            <a:ext cx="51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Прямая соединительная линия 60"/>
          <p:cNvSpPr/>
          <p:nvPr/>
        </p:nvSpPr>
        <p:spPr>
          <a:xfrm flipV="1">
            <a:off x="153972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9" name="Прямая соединительная линия 66"/>
          <p:cNvSpPr/>
          <p:nvPr/>
        </p:nvSpPr>
        <p:spPr>
          <a:xfrm flipV="1">
            <a:off x="6108840" y="1982880"/>
            <a:ext cx="66816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Прямая соединительная линия 67"/>
          <p:cNvSpPr/>
          <p:nvPr/>
        </p:nvSpPr>
        <p:spPr>
          <a:xfrm flipV="1">
            <a:off x="232560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Прямая соединительная линия 68"/>
          <p:cNvSpPr/>
          <p:nvPr/>
        </p:nvSpPr>
        <p:spPr>
          <a:xfrm flipV="1">
            <a:off x="4976640" y="198288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2" name="TextBox 71"/>
          <p:cNvSpPr/>
          <p:nvPr/>
        </p:nvSpPr>
        <p:spPr>
          <a:xfrm>
            <a:off x="828360" y="2079720"/>
            <a:ext cx="50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Прямоугольник 72"/>
          <p:cNvSpPr/>
          <p:nvPr/>
        </p:nvSpPr>
        <p:spPr>
          <a:xfrm>
            <a:off x="2421360" y="2706840"/>
            <a:ext cx="35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TextBox 73"/>
          <p:cNvSpPr/>
          <p:nvPr/>
        </p:nvSpPr>
        <p:spPr>
          <a:xfrm>
            <a:off x="3068640" y="2079720"/>
            <a:ext cx="70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Прямоугольник 74"/>
          <p:cNvSpPr/>
          <p:nvPr/>
        </p:nvSpPr>
        <p:spPr>
          <a:xfrm>
            <a:off x="3477600" y="270684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TextBox 75"/>
          <p:cNvSpPr/>
          <p:nvPr/>
        </p:nvSpPr>
        <p:spPr>
          <a:xfrm>
            <a:off x="3947760" y="2079720"/>
            <a:ext cx="747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Прямоугольник 41"/>
          <p:cNvSpPr/>
          <p:nvPr/>
        </p:nvSpPr>
        <p:spPr>
          <a:xfrm>
            <a:off x="4706280" y="2101680"/>
            <a:ext cx="312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8" name="TextBox 57"/>
          <p:cNvSpPr/>
          <p:nvPr/>
        </p:nvSpPr>
        <p:spPr>
          <a:xfrm>
            <a:off x="812880" y="3625920"/>
            <a:ext cx="708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акцию, между кислотой и щёлочью, называют </a:t>
            </a:r>
            <a:r>
              <a:rPr b="1" lang="ru-RU" sz="1800" spc="-1" strike="noStrike">
                <a:solidFill>
                  <a:srgbClr val="4987e3"/>
                </a:solidFill>
                <a:latin typeface="Century Schoolbook"/>
              </a:rPr>
              <a:t>реакцией нейтрализац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9" name="Прямоугольник 28"/>
          <p:cNvSpPr/>
          <p:nvPr/>
        </p:nvSpPr>
        <p:spPr>
          <a:xfrm>
            <a:off x="357120" y="2142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Условия протекания реакций ионного обме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0" name="TextBox 29"/>
          <p:cNvSpPr/>
          <p:nvPr/>
        </p:nvSpPr>
        <p:spPr>
          <a:xfrm>
            <a:off x="285840" y="5716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Если образуется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9799E-007 -0.00903 L -0.0465 0.10301 E">
                                      <p:cBhvr>
                                        <p:cTn id="803" dur="1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727E-006 -1.48148E-006 L -0.01563 0.10301 E">
                                      <p:cBhvr>
                                        <p:cTn id="810" dur="1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819" dur="1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823" dur="1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6369E-006 -7.40741E-007 L 0.0073 0.10301 E">
                                      <p:cBhvr>
                                        <p:cTn id="835" dur="1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5 -7.40741E-007 L 0.01458 0.10301 E">
                                      <p:cBhvr>
                                        <p:cTn id="841" dur="1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2467E-006 -7.40741E-007 L 0.08713 0.10301 E">
                                      <p:cBhvr>
                                        <p:cTn id="849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872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0.00533 L -0.03309 0.11157 E">
                                      <p:cBhvr>
                                        <p:cTn id="879" dur="1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886" dur="1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OH</a:t>
            </a:r>
            <a:r>
              <a:rPr b="1" lang="en-US" sz="2400" spc="-1" strike="noStrike" baseline="40000">
                <a:solidFill>
                  <a:srgbClr val="0a1c74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2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3" name="Oval 4"/>
          <p:cNvSpPr/>
          <p:nvPr/>
        </p:nvSpPr>
        <p:spPr>
          <a:xfrm>
            <a:off x="782640" y="3011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4" name="Oval 5"/>
          <p:cNvSpPr/>
          <p:nvPr/>
        </p:nvSpPr>
        <p:spPr>
          <a:xfrm>
            <a:off x="2362320" y="245736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Tahoma"/>
              </a:rPr>
              <a:t>H</a:t>
            </a:r>
            <a:r>
              <a:rPr b="1" lang="en-US" sz="2400" spc="-1" strike="noStrike" baseline="30000">
                <a:solidFill>
                  <a:srgbClr val="0a1c74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Oval 7"/>
          <p:cNvSpPr/>
          <p:nvPr/>
        </p:nvSpPr>
        <p:spPr>
          <a:xfrm>
            <a:off x="3135240" y="399240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Oval 12"/>
          <p:cNvSpPr/>
          <p:nvPr/>
        </p:nvSpPr>
        <p:spPr>
          <a:xfrm>
            <a:off x="6988320" y="389412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Oval 13"/>
          <p:cNvSpPr/>
          <p:nvPr/>
        </p:nvSpPr>
        <p:spPr>
          <a:xfrm>
            <a:off x="7510320" y="159228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1" name="Oval 14"/>
          <p:cNvSpPr/>
          <p:nvPr/>
        </p:nvSpPr>
        <p:spPr>
          <a:xfrm>
            <a:off x="2220840" y="1541520"/>
            <a:ext cx="6080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Tahoma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2" name="Oval 15"/>
          <p:cNvSpPr/>
          <p:nvPr/>
        </p:nvSpPr>
        <p:spPr>
          <a:xfrm>
            <a:off x="1371600" y="3503520"/>
            <a:ext cx="1208160" cy="8240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076 -0.00416 -0.02135 -0.0081 -0.04497 -0.00995 C -0.06858 -0.0118 -0.12569 -0.01134 -0.14167 -0.01157 E">
                                      <p:cBhvr>
                                        <p:cTn id="898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C 0.01875 0.02547 0.03732 0.05162 0.0651 0.05625 C 0.09305 0.06088 0.14948 0.03311 0.16666 0.02801 E">
                                      <p:cBhvr>
                                        <p:cTn id="90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a1b6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a1b6"/>
                                      </p:to>
                                    </p:animClr>
                                    <p:set>
                                      <p:cBhvr>
                                        <p:cTn id="90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2801 L 0.16667 0.32223 E">
                                      <p:cBhvr>
                                        <p:cTn id="91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01158 L -0.14167 0.28889 E">
                                      <p:cBhvr>
                                        <p:cTn id="912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2329E-006 -3.78514E-006 C 0.06656 0.01175 0.12793 -0.06357 0.13675 -0.17016 C 0.14634 -0.27213 0.10559 -0.37159 0.04107 -0.38292 C -0.01857 -0.3953 -0.07757 -0.33298 -0.0856 -0.2373 C -0.09252 -0.15002 -0.05932 -0.06399 -0.00362 -0.05329 C 0.04689 -0.04259 0.09741 -0.09504 0.10496 -0.17624 C 0.11125 -0.25115 0.0834 -0.32375 0.03667 -0.33193 C -0.00503 -0.34011 -0.04799 -0.29878 -0.05287 -0.23185 C -0.05853 -0.17142 -0.03713 -0.11183 0.00063 -0.10428 C 0.03446 -0.09819 0.06877 -0.12904 0.07317 -0.1817 C 0.07726 -0.22786 0.06121 -0.2757 0.03242 -0.28094 C 0.00756 -0.28661 -0.01731 -0.26437 -0.02108 -0.22618 C -0.02455 -0.1945 -0.01495 -0.15988 0.00488 -0.15694 C 0.02077 -0.15233 0.03824 -0.16387 0.04139 -0.18737 C 0.04217 -0.20688 0.03903 -0.22597 0.02817 -0.22996 C 0.02125 -0.23227 0.01401 -0.22954 0.0107 -0.22031 C 0.00944 -0.21548 0.00944 -0.21212 0.01007 -0.20751 E">
                                      <p:cBhvr>
                                        <p:cTn id="918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ижний колонтитул 1"/>
          <p:cNvSpPr/>
          <p:nvPr/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4" name="Прямоугольник 2"/>
          <p:cNvSpPr/>
          <p:nvPr/>
        </p:nvSpPr>
        <p:spPr>
          <a:xfrm>
            <a:off x="1403280" y="1419120"/>
            <a:ext cx="640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ые реакц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еакции, с помощью которых можно обнаружить и доказать наличие иона в растворе. Это можно сделать, если перевести ион в осадок (нерастворимое вещество), газ или изменить цв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пределения ионов можно воспользовать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й растворимост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1"/>
          <p:cNvSpPr/>
          <p:nvPr/>
        </p:nvSpPr>
        <p:spPr>
          <a:xfrm>
            <a:off x="1486080" y="571680"/>
            <a:ext cx="6172200" cy="703440"/>
          </a:xfrm>
          <a:prstGeom prst="rect">
            <a:avLst/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ение знан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Прямоугольник 2"/>
          <p:cNvSpPr/>
          <p:nvPr/>
        </p:nvSpPr>
        <p:spPr>
          <a:xfrm>
            <a:off x="3809520" y="1828800"/>
            <a:ext cx="1220040" cy="642600"/>
          </a:xfrm>
          <a:prstGeom prst="rect">
            <a:avLst/>
          </a:prstGeom>
          <a:solidFill>
            <a:srgbClr val="d2351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2400" y="456840"/>
            <a:ext cx="43736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обмен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4"/>
          <p:cNvSpPr txBox="1"/>
          <p:nvPr/>
        </p:nvSpPr>
        <p:spPr>
          <a:xfrm>
            <a:off x="260280" y="1150920"/>
            <a:ext cx="43117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B + CD = AD + C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9" name="Прямоугольник 1"/>
          <p:cNvSpPr/>
          <p:nvPr/>
        </p:nvSpPr>
        <p:spPr>
          <a:xfrm>
            <a:off x="4562640" y="149544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еакции замещ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WordArt 4"/>
          <p:cNvSpPr txBox="1"/>
          <p:nvPr/>
        </p:nvSpPr>
        <p:spPr>
          <a:xfrm>
            <a:off x="4869000" y="2036880"/>
            <a:ext cx="40557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A + CD = AD + C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314280" y="2341440"/>
            <a:ext cx="4203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WordArt 4"/>
          <p:cNvSpPr txBox="1"/>
          <p:nvPr/>
        </p:nvSpPr>
        <p:spPr>
          <a:xfrm>
            <a:off x="369720" y="3049560"/>
            <a:ext cx="348156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AB = A + 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893" name="WordArt 4"/>
          <p:cNvSpPr txBox="1"/>
          <p:nvPr/>
        </p:nvSpPr>
        <p:spPr>
          <a:xfrm>
            <a:off x="4572000" y="3543480"/>
            <a:ext cx="41911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00b300"/>
                </a:solidFill>
                <a:latin typeface="Times New Roman"/>
              </a:rPr>
              <a:t>A+B  = AB</a:t>
            </a:r>
            <a:endParaRPr b="1" lang="en-US" sz="7300" spc="1" strike="noStrike">
              <a:ln w="50760">
                <a:solidFill>
                  <a:srgbClr val="000000"/>
                </a:solidFill>
                <a:miter/>
              </a:ln>
              <a:solidFill>
                <a:srgbClr val="00b300"/>
              </a:solidFill>
              <a:latin typeface="Times New Roman"/>
              <a:ea typeface="Times New Roman"/>
            </a:endParaRPr>
          </a:p>
        </p:txBody>
      </p:sp>
      <p:sp>
        <p:nvSpPr>
          <p:cNvPr id="894" name="Прямоугольник 8"/>
          <p:cNvSpPr/>
          <p:nvPr/>
        </p:nvSpPr>
        <p:spPr>
          <a:xfrm>
            <a:off x="4509720" y="301320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2f13"/>
                </a:solidFill>
                <a:latin typeface="Century Schoolbook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1209600" y="776520"/>
            <a:ext cx="7224120" cy="123768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уравнение реакции ионного об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Овал 228"/>
          <p:cNvSpPr/>
          <p:nvPr/>
        </p:nvSpPr>
        <p:spPr>
          <a:xfrm>
            <a:off x="1214280" y="714240"/>
            <a:ext cx="981360" cy="490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Скругленный прямоугольник 221"/>
          <p:cNvSpPr/>
          <p:nvPr/>
        </p:nvSpPr>
        <p:spPr>
          <a:xfrm>
            <a:off x="1143000" y="2081160"/>
            <a:ext cx="734688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Al + 6HCl = 2Al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Овал 228"/>
          <p:cNvSpPr/>
          <p:nvPr/>
        </p:nvSpPr>
        <p:spPr>
          <a:xfrm>
            <a:off x="1143000" y="221472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Скругленный прямоугольник 221"/>
          <p:cNvSpPr/>
          <p:nvPr/>
        </p:nvSpPr>
        <p:spPr>
          <a:xfrm>
            <a:off x="1174680" y="2717640"/>
            <a:ext cx="7326360" cy="7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Na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2Na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Овал 228"/>
          <p:cNvSpPr/>
          <p:nvPr/>
        </p:nvSpPr>
        <p:spPr>
          <a:xfrm>
            <a:off x="1174680" y="2865600"/>
            <a:ext cx="3272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Скругленный прямоугольник 221"/>
          <p:cNvSpPr/>
          <p:nvPr/>
        </p:nvSpPr>
        <p:spPr>
          <a:xfrm>
            <a:off x="1174680" y="3452760"/>
            <a:ext cx="7326360" cy="7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6KOH = 2Al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3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Скругленный прямоугольник 221"/>
          <p:cNvSpPr/>
          <p:nvPr/>
        </p:nvSpPr>
        <p:spPr>
          <a:xfrm>
            <a:off x="1174680" y="4189320"/>
            <a:ext cx="7326360" cy="73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Ba +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B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Овал 228"/>
          <p:cNvSpPr/>
          <p:nvPr/>
        </p:nvSpPr>
        <p:spPr>
          <a:xfrm>
            <a:off x="1174680" y="3649680"/>
            <a:ext cx="3272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Овал 228"/>
          <p:cNvSpPr/>
          <p:nvPr/>
        </p:nvSpPr>
        <p:spPr>
          <a:xfrm>
            <a:off x="1174680" y="4384800"/>
            <a:ext cx="3272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557280" y="486000"/>
            <a:ext cx="8069040" cy="105840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ей нейтрализации является                реакция между парой веще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Овал 228"/>
          <p:cNvSpPr/>
          <p:nvPr/>
        </p:nvSpPr>
        <p:spPr>
          <a:xfrm>
            <a:off x="571680" y="428760"/>
            <a:ext cx="979200" cy="49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Скругленный прямоугольник 221"/>
          <p:cNvSpPr/>
          <p:nvPr/>
        </p:nvSpPr>
        <p:spPr>
          <a:xfrm>
            <a:off x="522360" y="1690560"/>
            <a:ext cx="313524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Овал 228"/>
          <p:cNvSpPr/>
          <p:nvPr/>
        </p:nvSpPr>
        <p:spPr>
          <a:xfrm>
            <a:off x="522360" y="1886040"/>
            <a:ext cx="32688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Скругленный прямоугольник 221"/>
          <p:cNvSpPr/>
          <p:nvPr/>
        </p:nvSpPr>
        <p:spPr>
          <a:xfrm>
            <a:off x="522360" y="2522520"/>
            <a:ext cx="313524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a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Овал 228"/>
          <p:cNvSpPr/>
          <p:nvPr/>
        </p:nvSpPr>
        <p:spPr>
          <a:xfrm>
            <a:off x="522360" y="2717640"/>
            <a:ext cx="326880" cy="246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Скругленный прямоугольник 221"/>
          <p:cNvSpPr/>
          <p:nvPr/>
        </p:nvSpPr>
        <p:spPr>
          <a:xfrm>
            <a:off x="4703760" y="16905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Овал 228"/>
          <p:cNvSpPr/>
          <p:nvPr/>
        </p:nvSpPr>
        <p:spPr>
          <a:xfrm>
            <a:off x="4703760" y="18860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Скругленный прямоугольник 221"/>
          <p:cNvSpPr/>
          <p:nvPr/>
        </p:nvSpPr>
        <p:spPr>
          <a:xfrm>
            <a:off x="4703760" y="2522520"/>
            <a:ext cx="313380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4" name="Овал 228"/>
          <p:cNvSpPr/>
          <p:nvPr/>
        </p:nvSpPr>
        <p:spPr>
          <a:xfrm>
            <a:off x="4703760" y="18860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Овал 228"/>
          <p:cNvSpPr/>
          <p:nvPr/>
        </p:nvSpPr>
        <p:spPr>
          <a:xfrm>
            <a:off x="4703760" y="2670120"/>
            <a:ext cx="3254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556920" y="842760"/>
            <a:ext cx="8111880" cy="105876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/>
          </a:bodyPr>
          <a:p>
            <a:pPr marL="341280" indent="-34128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литом является каждое вещество в ря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Овал 228"/>
          <p:cNvSpPr/>
          <p:nvPr/>
        </p:nvSpPr>
        <p:spPr>
          <a:xfrm>
            <a:off x="500040" y="785880"/>
            <a:ext cx="979560" cy="49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Скругленный прямоугольник 221"/>
          <p:cNvSpPr/>
          <p:nvPr/>
        </p:nvSpPr>
        <p:spPr>
          <a:xfrm>
            <a:off x="457200" y="23763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Овал 228"/>
          <p:cNvSpPr/>
          <p:nvPr/>
        </p:nvSpPr>
        <p:spPr>
          <a:xfrm>
            <a:off x="457200" y="2522520"/>
            <a:ext cx="325440" cy="246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0" name="Скругленный прямоугольник 221"/>
          <p:cNvSpPr/>
          <p:nvPr/>
        </p:nvSpPr>
        <p:spPr>
          <a:xfrm>
            <a:off x="457200" y="3403440"/>
            <a:ext cx="313380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Cl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Cu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1" name="Овал 228"/>
          <p:cNvSpPr/>
          <p:nvPr/>
        </p:nvSpPr>
        <p:spPr>
          <a:xfrm>
            <a:off x="457200" y="355140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Скругленный прямоугольник 221"/>
          <p:cNvSpPr/>
          <p:nvPr/>
        </p:nvSpPr>
        <p:spPr>
          <a:xfrm>
            <a:off x="4703760" y="237636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Al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Овал 228"/>
          <p:cNvSpPr/>
          <p:nvPr/>
        </p:nvSpPr>
        <p:spPr>
          <a:xfrm>
            <a:off x="4703760" y="2571840"/>
            <a:ext cx="32544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4" name="Скругленный прямоугольник 221"/>
          <p:cNvSpPr/>
          <p:nvPr/>
        </p:nvSpPr>
        <p:spPr>
          <a:xfrm>
            <a:off x="4703760" y="3306600"/>
            <a:ext cx="3133800" cy="63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Mg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5" name="Овал 228"/>
          <p:cNvSpPr/>
          <p:nvPr/>
        </p:nvSpPr>
        <p:spPr>
          <a:xfrm>
            <a:off x="4703760" y="3503520"/>
            <a:ext cx="32544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514080" y="325080"/>
            <a:ext cx="8111880" cy="1058760"/>
          </a:xfrm>
          <a:prstGeom prst="rect">
            <a:avLst/>
          </a:prstGeom>
          <a:solidFill>
            <a:srgbClr val="36a1b6"/>
          </a:solidFill>
          <a:ln w="25560">
            <a:solidFill>
              <a:srgbClr val="92949b"/>
            </a:solidFill>
            <a:round/>
          </a:ln>
        </p:spPr>
        <p:txBody>
          <a:bodyPr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 веществ, при взаимодействии которых образуется в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Овал 228"/>
          <p:cNvSpPr/>
          <p:nvPr/>
        </p:nvSpPr>
        <p:spPr>
          <a:xfrm>
            <a:off x="457200" y="220680"/>
            <a:ext cx="979560" cy="490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8" name="Скругленный прямоугольник 221"/>
          <p:cNvSpPr/>
          <p:nvPr/>
        </p:nvSpPr>
        <p:spPr>
          <a:xfrm>
            <a:off x="782640" y="227808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9" name="Овал 228"/>
          <p:cNvSpPr/>
          <p:nvPr/>
        </p:nvSpPr>
        <p:spPr>
          <a:xfrm>
            <a:off x="782640" y="247320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0" name="Скругленный прямоугольник 221"/>
          <p:cNvSpPr/>
          <p:nvPr/>
        </p:nvSpPr>
        <p:spPr>
          <a:xfrm>
            <a:off x="782640" y="335592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Овал 228"/>
          <p:cNvSpPr/>
          <p:nvPr/>
        </p:nvSpPr>
        <p:spPr>
          <a:xfrm>
            <a:off x="782640" y="3551400"/>
            <a:ext cx="326880" cy="2458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Скругленный прямоугольник 221"/>
          <p:cNvSpPr/>
          <p:nvPr/>
        </p:nvSpPr>
        <p:spPr>
          <a:xfrm>
            <a:off x="5094360" y="2278080"/>
            <a:ext cx="31352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Овал 228"/>
          <p:cNvSpPr/>
          <p:nvPr/>
        </p:nvSpPr>
        <p:spPr>
          <a:xfrm>
            <a:off x="5094360" y="247320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Скругленный прямоугольник 221"/>
          <p:cNvSpPr/>
          <p:nvPr/>
        </p:nvSpPr>
        <p:spPr>
          <a:xfrm>
            <a:off x="5094360" y="3403440"/>
            <a:ext cx="3135240" cy="6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b9ff"/>
              </a:gs>
              <a:gs pos="100000">
                <a:srgbClr val="dfeaff"/>
              </a:gs>
            </a:gsLst>
            <a:lin ang="16200000"/>
          </a:gradFill>
          <a:ln w="9360">
            <a:solidFill>
              <a:srgbClr val="4383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a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5" name="Овал 228"/>
          <p:cNvSpPr/>
          <p:nvPr/>
        </p:nvSpPr>
        <p:spPr>
          <a:xfrm>
            <a:off x="5094360" y="3602160"/>
            <a:ext cx="326880" cy="244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91760"/>
            <a:ext cx="495288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0880" y="1200240"/>
            <a:ext cx="830592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накомиться с реакциями ион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учиться составлять ионные уравнения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знакомиться с условиями протекания реакций ион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определение качественным реакц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ижний колонтитул 3"/>
          <p:cNvSpPr/>
          <p:nvPr/>
        </p:nvSpPr>
        <p:spPr>
          <a:xfrm>
            <a:off x="6095880" y="4800600"/>
            <a:ext cx="28958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Oval 4"/>
          <p:cNvSpPr/>
          <p:nvPr/>
        </p:nvSpPr>
        <p:spPr>
          <a:xfrm>
            <a:off x="2133720" y="251460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a1c74"/>
                </a:solidFill>
                <a:latin typeface="Arial"/>
              </a:rPr>
              <a:t>4</a:t>
            </a:r>
            <a:r>
              <a:rPr b="1" lang="en-US" sz="2400" spc="-1" strike="noStrike" baseline="40000">
                <a:solidFill>
                  <a:srgbClr val="0a1c74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Oval 6"/>
          <p:cNvSpPr/>
          <p:nvPr/>
        </p:nvSpPr>
        <p:spPr>
          <a:xfrm>
            <a:off x="2438280" y="3086280"/>
            <a:ext cx="6098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Oval 7"/>
          <p:cNvSpPr/>
          <p:nvPr/>
        </p:nvSpPr>
        <p:spPr>
          <a:xfrm>
            <a:off x="1676520" y="234324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2438280" y="914400"/>
            <a:ext cx="5105520" cy="685800"/>
          </a:xfrm>
          <a:prstGeom prst="rect">
            <a:avLst/>
          </a:prstGeom>
          <a:gradFill rotWithShape="0">
            <a:gsLst>
              <a:gs pos="0">
                <a:srgbClr val="223e69">
                  <a:alpha val="19215"/>
                </a:srgbClr>
              </a:gs>
              <a:gs pos="50000">
                <a:srgbClr val="4987e3">
                  <a:alpha val="19215"/>
                </a:srgbClr>
              </a:gs>
              <a:gs pos="100000">
                <a:srgbClr val="223e69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2Na</a:t>
            </a:r>
            <a:r>
              <a:rPr b="1" lang="en-US" sz="3600" spc="-1" strike="noStrike" baseline="48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48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1066680" y="171360"/>
            <a:ext cx="7010640" cy="57168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социация сульфата нат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2524320" y="102888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6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2963 C -0.00139 0.15764 0.00747 0.18565 0.02344 0.20602 C 0.04132 0.22894 0.06198 0.23866 0.08316 0.23635 L 0.18021 0.23056 E">
                                      <p:cBhvr>
                                        <p:cTn id="26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0033 -0.06296 C 0.00434 -0.07616 0.00035 -0.09051 -0.00677 -0.10116 C -0.0151 -0.11389 -0.02482 -0.12014 -0.03472 -0.12037 L -0.08212 -0.12408 E">
                                      <p:cBhvr>
                                        <p:cTn id="28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9.25926E-006 C 0.02831 -0.00764 0.05678 -0.01528 0.09046 -0.01413 C 0.12414 -0.01297 0.17431 -0.00232 0.20226 0.00648 C 0.23022 0.01527 0.24202 0.02523 0.25834 0.03819 C 0.27466 0.05115 0.29306 0.07662 0.30001 0.08425 E">
                                      <p:cBhvr>
                                        <p:cTn id="30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Oval 2"/>
          <p:cNvSpPr/>
          <p:nvPr/>
        </p:nvSpPr>
        <p:spPr>
          <a:xfrm>
            <a:off x="4267080" y="280044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82"/>
                </a:solidFill>
                <a:latin typeface="Arial"/>
              </a:rPr>
              <a:t>Ba</a:t>
            </a:r>
            <a:r>
              <a:rPr b="1" lang="en-US" sz="2400" spc="-1" strike="noStrike" baseline="40000">
                <a:solidFill>
                  <a:srgbClr val="144082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Oval 3"/>
          <p:cNvSpPr/>
          <p:nvPr/>
        </p:nvSpPr>
        <p:spPr>
          <a:xfrm>
            <a:off x="3886200" y="257184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f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4495680" y="3429000"/>
            <a:ext cx="60984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fb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48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1066680" y="171360"/>
            <a:ext cx="7010640" cy="57168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ссоциа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ида ба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2362320" y="914400"/>
            <a:ext cx="4800600" cy="685800"/>
          </a:xfrm>
          <a:prstGeom prst="rect">
            <a:avLst/>
          </a:prstGeom>
          <a:gradFill rotWithShape="0">
            <a:gsLst>
              <a:gs pos="0">
                <a:srgbClr val="223e69">
                  <a:alpha val="22352"/>
                </a:srgbClr>
              </a:gs>
              <a:gs pos="50000">
                <a:srgbClr val="4987e3">
                  <a:alpha val="22352"/>
                </a:srgbClr>
              </a:gs>
              <a:gs pos="100000">
                <a:srgbClr val="223e69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B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Cl</a:t>
            </a:r>
            <a:r>
              <a:rPr b="1" lang="en-US" sz="2800" spc="-1" strike="noStrike" baseline="6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2827080" y="94788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AutoShape 8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05209 -0.01505 C -0.06337 -0.01783 -0.07796 -0.0257 -0.09219 -0.03588 C -0.10955 -0.04769 -0.1224 -0.05926 -0.13056 -0.06968 L -0.16962 -0.11875 E">
                                      <p:cBhvr>
                                        <p:cTn id="36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04288 0.03982 C 0.05226 0.04769 0.06424 0.06204 0.07518 0.07778 C 0.08768 0.097 0.09705 0.1132 0.10174 0.12686 L 0.12761 0.18866 E">
                                      <p:cBhvr>
                                        <p:cTn id="38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46 C 0.01163 -0.00023 0.02378 -1.11111000000025E-006 0.03524 -0.0081 C 0.04705 -0.0162 0.06198 -0.03472 0.06961 -0.04768 C 0.07725 -0.06018 0.07899 -0.07037 0.08142 -0.0838 C 0.08385 -0.09745 0.08368 -0.12083 0.08455 -0.12847 E">
                                      <p:cBhvr>
                                        <p:cTn id="40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6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19288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еакции между ионами в растворе называют </a:t>
            </a: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ионными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реакциями.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19"/>
          <p:cNvSpPr/>
          <p:nvPr/>
        </p:nvSpPr>
        <p:spPr>
          <a:xfrm>
            <a:off x="533520" y="1713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1d4e"/>
                </a:solidFill>
                <a:latin typeface="Tahoma"/>
              </a:rPr>
              <a:t>Пример:  Взаимодействие хлорида бария с сульфатом натрия</a:t>
            </a:r>
            <a:r>
              <a:rPr b="1" lang="ru-RU" sz="1800" spc="-1" strike="noStrike">
                <a:solidFill>
                  <a:srgbClr val="37399b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TextBox 21"/>
          <p:cNvSpPr/>
          <p:nvPr/>
        </p:nvSpPr>
        <p:spPr>
          <a:xfrm>
            <a:off x="2269440" y="2517840"/>
            <a:ext cx="547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C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TextBox 24"/>
          <p:cNvSpPr/>
          <p:nvPr/>
        </p:nvSpPr>
        <p:spPr>
          <a:xfrm>
            <a:off x="2162880" y="25178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7" name="TextBox 26"/>
          <p:cNvSpPr/>
          <p:nvPr/>
        </p:nvSpPr>
        <p:spPr>
          <a:xfrm>
            <a:off x="2357640" y="251784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Прямоугольник 30"/>
          <p:cNvSpPr/>
          <p:nvPr/>
        </p:nvSpPr>
        <p:spPr>
          <a:xfrm>
            <a:off x="1813320" y="30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Прямоугольник 31"/>
          <p:cNvSpPr/>
          <p:nvPr/>
        </p:nvSpPr>
        <p:spPr>
          <a:xfrm>
            <a:off x="283248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TextBox 32"/>
          <p:cNvSpPr/>
          <p:nvPr/>
        </p:nvSpPr>
        <p:spPr>
          <a:xfrm>
            <a:off x="3363120" y="2517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TextBox 33"/>
          <p:cNvSpPr/>
          <p:nvPr/>
        </p:nvSpPr>
        <p:spPr>
          <a:xfrm>
            <a:off x="4016160" y="251784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Прямоугольник 34"/>
          <p:cNvSpPr/>
          <p:nvPr/>
        </p:nvSpPr>
        <p:spPr>
          <a:xfrm>
            <a:off x="388512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TextBox 38"/>
          <p:cNvSpPr/>
          <p:nvPr/>
        </p:nvSpPr>
        <p:spPr>
          <a:xfrm>
            <a:off x="1690920" y="1928880"/>
            <a:ext cx="63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. Записать уравнение реакции в молекулярном вид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TextBox 39"/>
          <p:cNvSpPr/>
          <p:nvPr/>
        </p:nvSpPr>
        <p:spPr>
          <a:xfrm>
            <a:off x="380880" y="8571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399b"/>
                </a:solidFill>
                <a:latin typeface="Tahoma"/>
              </a:rPr>
              <a:t>Порядок действи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TextBox 40"/>
          <p:cNvSpPr/>
          <p:nvPr/>
        </p:nvSpPr>
        <p:spPr>
          <a:xfrm>
            <a:off x="1792440" y="192888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2. Расставить коэффициен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Прямоугольник 42"/>
          <p:cNvSpPr/>
          <p:nvPr/>
        </p:nvSpPr>
        <p:spPr>
          <a:xfrm>
            <a:off x="6499800" y="251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TextBox 43"/>
          <p:cNvSpPr/>
          <p:nvPr/>
        </p:nvSpPr>
        <p:spPr>
          <a:xfrm>
            <a:off x="1857240" y="19288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3. По таблице растворимости, определить нерастворимые вещества. Обозначить их стрелкой вни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98" name="Прямая со стрелкой 45"/>
          <p:cNvCxnSpPr/>
          <p:nvPr/>
        </p:nvCxnSpPr>
        <p:spPr>
          <a:xfrm flipH="1">
            <a:off x="6214680" y="251748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9" name="Прямая со стрелкой 46"/>
          <p:cNvCxnSpPr/>
          <p:nvPr/>
        </p:nvCxnSpPr>
        <p:spPr>
          <a:xfrm flipH="1">
            <a:off x="6214680" y="251748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0" name="TextBox 47"/>
          <p:cNvSpPr/>
          <p:nvPr/>
        </p:nvSpPr>
        <p:spPr>
          <a:xfrm>
            <a:off x="380880" y="1928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4.  Составить полное ионное уравнение (растворимые вещества расписать на ио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Прямоугольник 48"/>
          <p:cNvSpPr/>
          <p:nvPr/>
        </p:nvSpPr>
        <p:spPr>
          <a:xfrm>
            <a:off x="4855320" y="30542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2" name="TextBox 50"/>
          <p:cNvSpPr/>
          <p:nvPr/>
        </p:nvSpPr>
        <p:spPr>
          <a:xfrm>
            <a:off x="5172120" y="251784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Прямоугольник 51"/>
          <p:cNvSpPr/>
          <p:nvPr/>
        </p:nvSpPr>
        <p:spPr>
          <a:xfrm>
            <a:off x="652824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4" name="TextBox 52"/>
          <p:cNvSpPr/>
          <p:nvPr/>
        </p:nvSpPr>
        <p:spPr>
          <a:xfrm>
            <a:off x="6506280" y="2517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Прямоугольник 53"/>
          <p:cNvSpPr/>
          <p:nvPr/>
        </p:nvSpPr>
        <p:spPr>
          <a:xfrm>
            <a:off x="7690320" y="3054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TextBox 55"/>
          <p:cNvSpPr/>
          <p:nvPr/>
        </p:nvSpPr>
        <p:spPr>
          <a:xfrm>
            <a:off x="6929640" y="251784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TextBox 56"/>
          <p:cNvSpPr/>
          <p:nvPr/>
        </p:nvSpPr>
        <p:spPr>
          <a:xfrm>
            <a:off x="457200" y="1371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.  Сократить одинаковые ионы в левой и правой части полного ионного уравн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Прямая соединительная линия 60"/>
          <p:cNvSpPr/>
          <p:nvPr/>
        </p:nvSpPr>
        <p:spPr>
          <a:xfrm flipV="1">
            <a:off x="214308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Прямая соединительная линия 66"/>
          <p:cNvSpPr/>
          <p:nvPr/>
        </p:nvSpPr>
        <p:spPr>
          <a:xfrm flipV="1">
            <a:off x="800100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Прямая соединительная линия 67"/>
          <p:cNvSpPr/>
          <p:nvPr/>
        </p:nvSpPr>
        <p:spPr>
          <a:xfrm flipV="1">
            <a:off x="321480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Прямая соединительная линия 68"/>
          <p:cNvSpPr/>
          <p:nvPr/>
        </p:nvSpPr>
        <p:spPr>
          <a:xfrm flipV="1">
            <a:off x="7000920" y="289404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TextBox 69"/>
          <p:cNvSpPr/>
          <p:nvPr/>
        </p:nvSpPr>
        <p:spPr>
          <a:xfrm>
            <a:off x="380880" y="19288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6.  Составить сокращенное ионное уравнени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TextBox 71"/>
          <p:cNvSpPr/>
          <p:nvPr/>
        </p:nvSpPr>
        <p:spPr>
          <a:xfrm>
            <a:off x="1162800" y="30290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Прямоугольник 72"/>
          <p:cNvSpPr/>
          <p:nvPr/>
        </p:nvSpPr>
        <p:spPr>
          <a:xfrm>
            <a:off x="3118320" y="36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TextBox 73"/>
          <p:cNvSpPr/>
          <p:nvPr/>
        </p:nvSpPr>
        <p:spPr>
          <a:xfrm>
            <a:off x="4158720" y="302904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Прямоугольник 74"/>
          <p:cNvSpPr/>
          <p:nvPr/>
        </p:nvSpPr>
        <p:spPr>
          <a:xfrm>
            <a:off x="4652280" y="36180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TextBox 75"/>
          <p:cNvSpPr/>
          <p:nvPr/>
        </p:nvSpPr>
        <p:spPr>
          <a:xfrm>
            <a:off x="5273640" y="302904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18" name="Прямая со стрелкой 76"/>
          <p:cNvCxnSpPr/>
          <p:nvPr/>
        </p:nvCxnSpPr>
        <p:spPr>
          <a:xfrm flipH="1">
            <a:off x="6357600" y="305388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11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01563 0.10301 E">
                                      <p:cBhvr>
                                        <p:cTn id="122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131" dur="1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135" dur="1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0.00729 0.10301 E">
                                      <p:cBhvr>
                                        <p:cTn id="147" dur="1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00903 0.10533 E">
                                      <p:cBhvr>
                                        <p:cTn id="151" dur="1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04063 0.10301 E">
                                      <p:cBhvr>
                                        <p:cTn id="160" dur="1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0.12222 0.10301 E">
                                      <p:cBhvr>
                                        <p:cTn id="167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204" dur="1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211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218" dur="1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222" dur="1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окращённое ионное уравнение показывает, какие именно ионы участвуют в реакции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1"/>
          <p:cNvSpPr/>
          <p:nvPr/>
        </p:nvSpPr>
        <p:spPr>
          <a:xfrm>
            <a:off x="92880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Условия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протекания реакций ионного обме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1" name="Прямая соединительная линия 20"/>
          <p:cNvSpPr/>
          <p:nvPr/>
        </p:nvSpPr>
        <p:spPr>
          <a:xfrm>
            <a:off x="1000080" y="58896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TextBox 41"/>
          <p:cNvSpPr/>
          <p:nvPr/>
        </p:nvSpPr>
        <p:spPr>
          <a:xfrm>
            <a:off x="285840" y="5716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.  Если образуется осад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TextBox 21"/>
          <p:cNvSpPr/>
          <p:nvPr/>
        </p:nvSpPr>
        <p:spPr>
          <a:xfrm>
            <a:off x="1674360" y="1014480"/>
            <a:ext cx="547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C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TextBox 24"/>
          <p:cNvSpPr/>
          <p:nvPr/>
        </p:nvSpPr>
        <p:spPr>
          <a:xfrm>
            <a:off x="1567800" y="10144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TextBox 26"/>
          <p:cNvSpPr/>
          <p:nvPr/>
        </p:nvSpPr>
        <p:spPr>
          <a:xfrm>
            <a:off x="1762200" y="1014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Прямоугольник 30"/>
          <p:cNvSpPr/>
          <p:nvPr/>
        </p:nvSpPr>
        <p:spPr>
          <a:xfrm>
            <a:off x="1217880" y="152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Прямоугольник 31"/>
          <p:cNvSpPr/>
          <p:nvPr/>
        </p:nvSpPr>
        <p:spPr>
          <a:xfrm>
            <a:off x="223704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TextBox 32"/>
          <p:cNvSpPr/>
          <p:nvPr/>
        </p:nvSpPr>
        <p:spPr>
          <a:xfrm>
            <a:off x="2767680" y="10144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TextBox 33"/>
          <p:cNvSpPr/>
          <p:nvPr/>
        </p:nvSpPr>
        <p:spPr>
          <a:xfrm>
            <a:off x="3420720" y="101448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Прямоугольник 34"/>
          <p:cNvSpPr/>
          <p:nvPr/>
        </p:nvSpPr>
        <p:spPr>
          <a:xfrm>
            <a:off x="328968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Прямоугольник 42"/>
          <p:cNvSpPr/>
          <p:nvPr/>
        </p:nvSpPr>
        <p:spPr>
          <a:xfrm>
            <a:off x="5904360" y="1014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32" name="Прямая со стрелкой 45"/>
          <p:cNvCxnSpPr/>
          <p:nvPr/>
        </p:nvCxnSpPr>
        <p:spPr>
          <a:xfrm flipH="1">
            <a:off x="5618880" y="10141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Прямая со стрелкой 46"/>
          <p:cNvCxnSpPr/>
          <p:nvPr/>
        </p:nvCxnSpPr>
        <p:spPr>
          <a:xfrm flipH="1">
            <a:off x="5618880" y="10141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4" name="Прямоугольник 48"/>
          <p:cNvSpPr/>
          <p:nvPr/>
        </p:nvSpPr>
        <p:spPr>
          <a:xfrm>
            <a:off x="4260240" y="15508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5" name="TextBox 50"/>
          <p:cNvSpPr/>
          <p:nvPr/>
        </p:nvSpPr>
        <p:spPr>
          <a:xfrm>
            <a:off x="4577040" y="1014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Прямоугольник 51"/>
          <p:cNvSpPr/>
          <p:nvPr/>
        </p:nvSpPr>
        <p:spPr>
          <a:xfrm>
            <a:off x="593280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TextBox 52"/>
          <p:cNvSpPr/>
          <p:nvPr/>
        </p:nvSpPr>
        <p:spPr>
          <a:xfrm>
            <a:off x="5910840" y="10144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Прямоугольник 53"/>
          <p:cNvSpPr/>
          <p:nvPr/>
        </p:nvSpPr>
        <p:spPr>
          <a:xfrm>
            <a:off x="7094880" y="155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TextBox 55"/>
          <p:cNvSpPr/>
          <p:nvPr/>
        </p:nvSpPr>
        <p:spPr>
          <a:xfrm>
            <a:off x="6334200" y="1014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Прямая соединительная линия 60"/>
          <p:cNvSpPr/>
          <p:nvPr/>
        </p:nvSpPr>
        <p:spPr>
          <a:xfrm flipV="1">
            <a:off x="154764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Прямая соединительная линия 66"/>
          <p:cNvSpPr/>
          <p:nvPr/>
        </p:nvSpPr>
        <p:spPr>
          <a:xfrm flipV="1">
            <a:off x="740556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Прямая соединительная линия 67"/>
          <p:cNvSpPr/>
          <p:nvPr/>
        </p:nvSpPr>
        <p:spPr>
          <a:xfrm flipV="1">
            <a:off x="261936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Прямая соединительная линия 68"/>
          <p:cNvSpPr/>
          <p:nvPr/>
        </p:nvSpPr>
        <p:spPr>
          <a:xfrm flipV="1">
            <a:off x="6405480" y="1389240"/>
            <a:ext cx="785880" cy="536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TextBox 71"/>
          <p:cNvSpPr/>
          <p:nvPr/>
        </p:nvSpPr>
        <p:spPr>
          <a:xfrm>
            <a:off x="567360" y="15256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Прямоугольник 72"/>
          <p:cNvSpPr/>
          <p:nvPr/>
        </p:nvSpPr>
        <p:spPr>
          <a:xfrm>
            <a:off x="2522880" y="213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TextBox 73"/>
          <p:cNvSpPr/>
          <p:nvPr/>
        </p:nvSpPr>
        <p:spPr>
          <a:xfrm>
            <a:off x="3563640" y="152568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7" name="Прямоугольник 74"/>
          <p:cNvSpPr/>
          <p:nvPr/>
        </p:nvSpPr>
        <p:spPr>
          <a:xfrm>
            <a:off x="4056840" y="21146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TextBox 75"/>
          <p:cNvSpPr/>
          <p:nvPr/>
        </p:nvSpPr>
        <p:spPr>
          <a:xfrm>
            <a:off x="4678560" y="15256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49" name="Прямая со стрелкой 76"/>
          <p:cNvCxnSpPr/>
          <p:nvPr/>
        </p:nvCxnSpPr>
        <p:spPr>
          <a:xfrm flipH="1">
            <a:off x="5761800" y="1550520"/>
            <a:ext cx="252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44"/>
          <p:cNvSpPr/>
          <p:nvPr/>
        </p:nvSpPr>
        <p:spPr>
          <a:xfrm>
            <a:off x="1619280" y="2836800"/>
            <a:ext cx="656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(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Na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Na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1" name="TextBox 49"/>
          <p:cNvSpPr/>
          <p:nvPr/>
        </p:nvSpPr>
        <p:spPr>
          <a:xfrm>
            <a:off x="1627560" y="2836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2" name="TextBox 54"/>
          <p:cNvSpPr/>
          <p:nvPr/>
        </p:nvSpPr>
        <p:spPr>
          <a:xfrm>
            <a:off x="1968120" y="2836800"/>
            <a:ext cx="9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Прямоугольник 57"/>
          <p:cNvSpPr/>
          <p:nvPr/>
        </p:nvSpPr>
        <p:spPr>
          <a:xfrm>
            <a:off x="1432440" y="334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4" name="Прямоугольник 58"/>
          <p:cNvSpPr/>
          <p:nvPr/>
        </p:nvSpPr>
        <p:spPr>
          <a:xfrm>
            <a:off x="245160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TextBox 59"/>
          <p:cNvSpPr/>
          <p:nvPr/>
        </p:nvSpPr>
        <p:spPr>
          <a:xfrm>
            <a:off x="3410640" y="2836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TextBox 61"/>
          <p:cNvSpPr/>
          <p:nvPr/>
        </p:nvSpPr>
        <p:spPr>
          <a:xfrm>
            <a:off x="4098960" y="283680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Прямоугольник 62"/>
          <p:cNvSpPr/>
          <p:nvPr/>
        </p:nvSpPr>
        <p:spPr>
          <a:xfrm>
            <a:off x="350388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Прямоугольник 63"/>
          <p:cNvSpPr/>
          <p:nvPr/>
        </p:nvSpPr>
        <p:spPr>
          <a:xfrm>
            <a:off x="661896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59" name="Прямая со стрелкой 64"/>
          <p:cNvCxnSpPr/>
          <p:nvPr/>
        </p:nvCxnSpPr>
        <p:spPr>
          <a:xfrm flipH="1">
            <a:off x="6333840" y="283644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0" name="Прямая со стрелкой 65"/>
          <p:cNvCxnSpPr/>
          <p:nvPr/>
        </p:nvCxnSpPr>
        <p:spPr>
          <a:xfrm flipH="1">
            <a:off x="6333840" y="2836440"/>
            <a:ext cx="2160" cy="3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1" name="Прямоугольник 70"/>
          <p:cNvSpPr/>
          <p:nvPr/>
        </p:nvSpPr>
        <p:spPr>
          <a:xfrm>
            <a:off x="4474440" y="33717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2" name="TextBox 77"/>
          <p:cNvSpPr/>
          <p:nvPr/>
        </p:nvSpPr>
        <p:spPr>
          <a:xfrm>
            <a:off x="5228640" y="2836800"/>
            <a:ext cx="117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Прямоугольник 78"/>
          <p:cNvSpPr/>
          <p:nvPr/>
        </p:nvSpPr>
        <p:spPr>
          <a:xfrm>
            <a:off x="614700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TextBox 79"/>
          <p:cNvSpPr/>
          <p:nvPr/>
        </p:nvSpPr>
        <p:spPr>
          <a:xfrm>
            <a:off x="6696720" y="28368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Прямоугольник 80"/>
          <p:cNvSpPr/>
          <p:nvPr/>
        </p:nvSpPr>
        <p:spPr>
          <a:xfrm>
            <a:off x="7309080" y="33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TextBox 81"/>
          <p:cNvSpPr/>
          <p:nvPr/>
        </p:nvSpPr>
        <p:spPr>
          <a:xfrm>
            <a:off x="7076520" y="2836800"/>
            <a:ext cx="9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2N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Прямая соединительная линия 82"/>
          <p:cNvSpPr/>
          <p:nvPr/>
        </p:nvSpPr>
        <p:spPr>
          <a:xfrm flipV="1">
            <a:off x="1762200" y="321156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Прямая соединительная линия 83"/>
          <p:cNvSpPr/>
          <p:nvPr/>
        </p:nvSpPr>
        <p:spPr>
          <a:xfrm flipV="1">
            <a:off x="7620120" y="3211560"/>
            <a:ext cx="78552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Прямая соединительная линия 84"/>
          <p:cNvSpPr/>
          <p:nvPr/>
        </p:nvSpPr>
        <p:spPr>
          <a:xfrm flipV="1">
            <a:off x="2833560" y="3211560"/>
            <a:ext cx="78588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Прямая соединительная линия 85"/>
          <p:cNvSpPr/>
          <p:nvPr/>
        </p:nvSpPr>
        <p:spPr>
          <a:xfrm flipV="1">
            <a:off x="6620040" y="3211560"/>
            <a:ext cx="785520" cy="5349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TextBox 86"/>
          <p:cNvSpPr/>
          <p:nvPr/>
        </p:nvSpPr>
        <p:spPr>
          <a:xfrm>
            <a:off x="765720" y="33465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Прямоугольник 87"/>
          <p:cNvSpPr/>
          <p:nvPr/>
        </p:nvSpPr>
        <p:spPr>
          <a:xfrm>
            <a:off x="2737080" y="3960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TextBox 88"/>
          <p:cNvSpPr/>
          <p:nvPr/>
        </p:nvSpPr>
        <p:spPr>
          <a:xfrm>
            <a:off x="3772080" y="334656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7030a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Прямоугольник 89"/>
          <p:cNvSpPr/>
          <p:nvPr/>
        </p:nvSpPr>
        <p:spPr>
          <a:xfrm>
            <a:off x="4271040" y="39369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TextBox 90"/>
          <p:cNvSpPr/>
          <p:nvPr/>
        </p:nvSpPr>
        <p:spPr>
          <a:xfrm>
            <a:off x="4871520" y="3346560"/>
            <a:ext cx="117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MgCO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76" name="Прямая со стрелкой 91"/>
          <p:cNvCxnSpPr/>
          <p:nvPr/>
        </p:nvCxnSpPr>
        <p:spPr>
          <a:xfrm flipH="1">
            <a:off x="6046560" y="3371400"/>
            <a:ext cx="2160" cy="3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7" name="Прямая соединительная линия 93"/>
          <p:cNvSpPr/>
          <p:nvPr/>
        </p:nvSpPr>
        <p:spPr>
          <a:xfrm>
            <a:off x="1000080" y="278460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8" name="TextBox 69"/>
          <p:cNvSpPr/>
          <p:nvPr/>
        </p:nvSpPr>
        <p:spPr>
          <a:xfrm>
            <a:off x="285840" y="5716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82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144082"/>
                </a:solidFill>
                <a:latin typeface="Tahoma"/>
              </a:rPr>
              <a:t>Если образуется г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TextBox 92"/>
          <p:cNvSpPr/>
          <p:nvPr/>
        </p:nvSpPr>
        <p:spPr>
          <a:xfrm>
            <a:off x="1262160" y="907920"/>
            <a:ext cx="57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80" name="Группа 94"/>
          <p:cNvGrpSpPr/>
          <p:nvPr/>
        </p:nvGrpSpPr>
        <p:grpSpPr>
          <a:xfrm>
            <a:off x="6905520" y="693720"/>
            <a:ext cx="1144080" cy="885240"/>
            <a:chOff x="6905520" y="693720"/>
            <a:chExt cx="1144080" cy="885240"/>
          </a:xfrm>
        </p:grpSpPr>
        <p:cxnSp>
          <p:nvCxnSpPr>
            <p:cNvPr id="781" name="Прямая со стрелкой 95"/>
            <p:cNvCxnSpPr/>
            <p:nvPr/>
          </p:nvCxnSpPr>
          <p:spPr>
            <a:xfrm flipV="1">
              <a:off x="6905520" y="853200"/>
              <a:ext cx="35784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2" name="Прямая со стрелкой 96"/>
            <p:cNvCxnSpPr/>
            <p:nvPr/>
          </p:nvCxnSpPr>
          <p:spPr>
            <a:xfrm>
              <a:off x="6905520" y="1068120"/>
              <a:ext cx="35784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3" name="Прямоугольник 97"/>
            <p:cNvSpPr/>
            <p:nvPr/>
          </p:nvSpPr>
          <p:spPr>
            <a:xfrm>
              <a:off x="7305120" y="69372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784" name="Прямоугольник 98"/>
            <p:cNvSpPr/>
            <p:nvPr/>
          </p:nvSpPr>
          <p:spPr>
            <a:xfrm>
              <a:off x="7328880" y="106884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785" name="Прямая со стрелкой 99"/>
            <p:cNvCxnSpPr/>
            <p:nvPr/>
          </p:nvCxnSpPr>
          <p:spPr>
            <a:xfrm flipV="1">
              <a:off x="7976160" y="1067760"/>
              <a:ext cx="1080" cy="37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86" name="Прямоугольник 100"/>
          <p:cNvSpPr/>
          <p:nvPr/>
        </p:nvSpPr>
        <p:spPr>
          <a:xfrm>
            <a:off x="7314480" y="69372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Прямоугольник 101"/>
          <p:cNvSpPr/>
          <p:nvPr/>
        </p:nvSpPr>
        <p:spPr>
          <a:xfrm>
            <a:off x="7328160" y="106848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88" name="Прямая со стрелкой 102"/>
          <p:cNvCxnSpPr/>
          <p:nvPr/>
        </p:nvCxnSpPr>
        <p:spPr>
          <a:xfrm flipV="1">
            <a:off x="7977240" y="1068120"/>
            <a:ext cx="2160" cy="37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Прямоугольник 103"/>
          <p:cNvSpPr/>
          <p:nvPr/>
        </p:nvSpPr>
        <p:spPr>
          <a:xfrm>
            <a:off x="1124640" y="907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Прямоугольник 104"/>
          <p:cNvSpPr/>
          <p:nvPr/>
        </p:nvSpPr>
        <p:spPr>
          <a:xfrm>
            <a:off x="1716120" y="90792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Прямоугольник 105"/>
          <p:cNvSpPr/>
          <p:nvPr/>
        </p:nvSpPr>
        <p:spPr>
          <a:xfrm>
            <a:off x="12895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2" name="Прямоугольник 106"/>
          <p:cNvSpPr/>
          <p:nvPr/>
        </p:nvSpPr>
        <p:spPr>
          <a:xfrm>
            <a:off x="237996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Прямоугольник 107"/>
          <p:cNvSpPr/>
          <p:nvPr/>
        </p:nvSpPr>
        <p:spPr>
          <a:xfrm>
            <a:off x="2777400" y="907920"/>
            <a:ext cx="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Прямоугольник 108"/>
          <p:cNvSpPr/>
          <p:nvPr/>
        </p:nvSpPr>
        <p:spPr>
          <a:xfrm>
            <a:off x="3260160" y="90792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Прямоугольник 109"/>
          <p:cNvSpPr/>
          <p:nvPr/>
        </p:nvSpPr>
        <p:spPr>
          <a:xfrm>
            <a:off x="32371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Прямоугольник 110"/>
          <p:cNvSpPr/>
          <p:nvPr/>
        </p:nvSpPr>
        <p:spPr>
          <a:xfrm>
            <a:off x="4205160" y="149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Прямоугольник 111"/>
          <p:cNvSpPr/>
          <p:nvPr/>
        </p:nvSpPr>
        <p:spPr>
          <a:xfrm>
            <a:off x="4267800" y="907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Прямоугольник 112"/>
          <p:cNvSpPr/>
          <p:nvPr/>
        </p:nvSpPr>
        <p:spPr>
          <a:xfrm>
            <a:off x="4903560" y="907920"/>
            <a:ext cx="8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Прямоугольник 113"/>
          <p:cNvSpPr/>
          <p:nvPr/>
        </p:nvSpPr>
        <p:spPr>
          <a:xfrm>
            <a:off x="53089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Прямоугольник 114"/>
          <p:cNvSpPr/>
          <p:nvPr/>
        </p:nvSpPr>
        <p:spPr>
          <a:xfrm>
            <a:off x="636156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Прямоугольник 115"/>
          <p:cNvSpPr/>
          <p:nvPr/>
        </p:nvSpPr>
        <p:spPr>
          <a:xfrm>
            <a:off x="7432920" y="149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Прямая соединительная линия 116"/>
          <p:cNvSpPr/>
          <p:nvPr/>
        </p:nvSpPr>
        <p:spPr>
          <a:xfrm flipV="1">
            <a:off x="83268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Прямая соединительная линия 117"/>
          <p:cNvSpPr/>
          <p:nvPr/>
        </p:nvSpPr>
        <p:spPr>
          <a:xfrm flipV="1">
            <a:off x="469044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Прямая соединительная линия 118"/>
          <p:cNvSpPr/>
          <p:nvPr/>
        </p:nvSpPr>
        <p:spPr>
          <a:xfrm flipV="1">
            <a:off x="369036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Прямая соединительная линия 119"/>
          <p:cNvSpPr/>
          <p:nvPr/>
        </p:nvSpPr>
        <p:spPr>
          <a:xfrm flipV="1">
            <a:off x="5761800" y="1389240"/>
            <a:ext cx="500040" cy="482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Прямоугольник 120"/>
          <p:cNvSpPr/>
          <p:nvPr/>
        </p:nvSpPr>
        <p:spPr>
          <a:xfrm>
            <a:off x="1700280" y="1471680"/>
            <a:ext cx="86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7" name="Прямоугольник 121"/>
          <p:cNvSpPr/>
          <p:nvPr/>
        </p:nvSpPr>
        <p:spPr>
          <a:xfrm>
            <a:off x="2575440" y="203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8" name="Прямоугольник 122"/>
          <p:cNvSpPr/>
          <p:nvPr/>
        </p:nvSpPr>
        <p:spPr>
          <a:xfrm>
            <a:off x="2709360" y="1471680"/>
            <a:ext cx="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Прямоугольник 123"/>
          <p:cNvSpPr/>
          <p:nvPr/>
        </p:nvSpPr>
        <p:spPr>
          <a:xfrm>
            <a:off x="3976560" y="2031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Прямоугольник 124"/>
          <p:cNvSpPr/>
          <p:nvPr/>
        </p:nvSpPr>
        <p:spPr>
          <a:xfrm>
            <a:off x="6752520" y="14428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Прямоугольник 125"/>
          <p:cNvSpPr/>
          <p:nvPr/>
        </p:nvSpPr>
        <p:spPr>
          <a:xfrm>
            <a:off x="7756920" y="1442880"/>
            <a:ext cx="7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Прямоугольник 126"/>
          <p:cNvSpPr/>
          <p:nvPr/>
        </p:nvSpPr>
        <p:spPr>
          <a:xfrm>
            <a:off x="5308920" y="203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813" name="Прямая со стрелкой 127"/>
          <p:cNvCxnSpPr/>
          <p:nvPr/>
        </p:nvCxnSpPr>
        <p:spPr>
          <a:xfrm flipV="1">
            <a:off x="8404560" y="1442160"/>
            <a:ext cx="2520" cy="37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TextBox 128"/>
          <p:cNvSpPr/>
          <p:nvPr/>
        </p:nvSpPr>
        <p:spPr>
          <a:xfrm>
            <a:off x="762120" y="251460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 Если образуется в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Прямоугольник 137"/>
          <p:cNvSpPr/>
          <p:nvPr/>
        </p:nvSpPr>
        <p:spPr>
          <a:xfrm>
            <a:off x="3237120" y="353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Прямоугольник 138"/>
          <p:cNvSpPr/>
          <p:nvPr/>
        </p:nvSpPr>
        <p:spPr>
          <a:xfrm>
            <a:off x="4205160" y="353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Прямоугольник 141"/>
          <p:cNvSpPr/>
          <p:nvPr/>
        </p:nvSpPr>
        <p:spPr>
          <a:xfrm>
            <a:off x="5308920" y="353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18" name="Рисунок 160" descr="Scan_20231206_160450.jpg"/>
          <p:cNvPicPr/>
          <p:nvPr/>
        </p:nvPicPr>
        <p:blipFill>
          <a:blip r:embed="rId1"/>
          <a:stretch/>
        </p:blipFill>
        <p:spPr>
          <a:xfrm>
            <a:off x="285840" y="2857680"/>
            <a:ext cx="8558280" cy="178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250" dur="1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01563 0.10301 E">
                                      <p:cBhvr>
                                        <p:cTn id="257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2483 0.10301 E">
                                      <p:cBhvr>
                                        <p:cTn id="266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02257 0.10301 E">
                                      <p:cBhvr>
                                        <p:cTn id="270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85185E-006 L 0.00729 0.10301 E">
                                      <p:cBhvr>
                                        <p:cTn id="282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00903 0.10533 E">
                                      <p:cBhvr>
                                        <p:cTn id="286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04063 0.10301 E">
                                      <p:cBhvr>
                                        <p:cTn id="295" dur="1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0.12222 0.10301 E">
                                      <p:cBhvr>
                                        <p:cTn id="302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325" dur="1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332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339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343" dur="1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10833 0.10162 E">
                                      <p:cBhvr>
                                        <p:cTn id="367" dur="1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951E-008 L -0.03281 0.10363 E">
                                      <p:cBhvr>
                                        <p:cTn id="374" dur="1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951E-008 L -0.07951 0.10363 E">
                                      <p:cBhvr>
                                        <p:cTn id="383" dur="1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-4.3951E-008 L -0.03715 0.10363 E">
                                      <p:cBhvr>
                                        <p:cTn id="387" dur="1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44 L -0.03906 0.09923 E">
                                      <p:cBhvr>
                                        <p:cTn id="399" dur="1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00185 L -0.03142 0.10409 E">
                                      <p:cBhvr>
                                        <p:cTn id="403" dur="1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951E-008 L -0.0217 0.10363 E">
                                      <p:cBhvr>
                                        <p:cTn id="412" dur="1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51E-008 L 0.04844 0.10363 E">
                                      <p:cBhvr>
                                        <p:cTn id="419" dur="1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12587 0.1169 E">
                                      <p:cBhvr>
                                        <p:cTn id="442" dur="1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5521 0.11551 E">
                                      <p:cBhvr>
                                        <p:cTn id="449" dur="1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0.11551 E">
                                      <p:cBhvr>
                                        <p:cTn id="456" dur="1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3.61111E-006 0.11551 E">
                                      <p:cBhvr>
                                        <p:cTn id="460" dur="1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8.44321E-007 L -0.05764 0.11126 E">
                                      <p:cBhvr>
                                        <p:cTn id="595" dur="1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44321E-007 L -0.01042 0.11126 E">
                                      <p:cBhvr>
                                        <p:cTn id="599" dur="1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8.44321E-007 L -0.01632 0.11126 E">
                                      <p:cBhvr>
                                        <p:cTn id="610" dur="1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8.44321E-007 L 0.03229 0.11126 E">
                                      <p:cBhvr>
                                        <p:cTn id="614" dur="1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44321E-007 L 0.0316 0.11126 E">
                                      <p:cBhvr>
                                        <p:cTn id="626" dur="1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44321E-007 L 0.08091 0.11126 E">
                                      <p:cBhvr>
                                        <p:cTn id="630" dur="1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0412E-006 L -0.06719 0.1529 E">
                                      <p:cBhvr>
                                        <p:cTn id="640" dur="1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3065E-006 L 0.0434 0.08003 E">
                                      <p:cBhvr>
                                        <p:cTn id="647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1945E-006 L 0.05069 0.07726 E">
                                      <p:cBhvr>
                                        <p:cTn id="651" dur="1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44321E-007 L -0.01042 0.11126 E">
                                      <p:cBhvr>
                                        <p:cTn id="674" dur="1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0162 L 0.03733 0.10802 E">
                                      <p:cBhvr>
                                        <p:cTn id="681" dur="1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0717 L -0.24775 0.10872 E">
                                      <p:cBhvr>
                                        <p:cTn id="688" dur="1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0.00717 L -0.21962 0.10872 E">
                                      <p:cBhvr>
                                        <p:cTn id="692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625 L -0.21284 0.10294 E">
                                      <p:cBhvr>
                                        <p:cTn id="696" dur="1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Oval 2"/>
          <p:cNvSpPr/>
          <p:nvPr/>
        </p:nvSpPr>
        <p:spPr>
          <a:xfrm>
            <a:off x="6095880" y="2629080"/>
            <a:ext cx="914400" cy="685800"/>
          </a:xfrm>
          <a:prstGeom prst="ellipse">
            <a:avLst/>
          </a:prstGeom>
          <a:gradFill rotWithShape="0">
            <a:gsLst>
              <a:gs pos="0">
                <a:srgbClr val="d23516"/>
              </a:gs>
              <a:gs pos="100000">
                <a:srgbClr val="4987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a1c74"/>
                </a:solidFill>
                <a:latin typeface="Arial"/>
              </a:rPr>
              <a:t>4</a:t>
            </a:r>
            <a:r>
              <a:rPr b="1" lang="en-US" sz="2400" spc="-1" strike="noStrike" baseline="40000">
                <a:solidFill>
                  <a:srgbClr val="0a1c74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Oval 3"/>
          <p:cNvSpPr/>
          <p:nvPr/>
        </p:nvSpPr>
        <p:spPr>
          <a:xfrm>
            <a:off x="7772400" y="3314880"/>
            <a:ext cx="60948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Oval 4"/>
          <p:cNvSpPr/>
          <p:nvPr/>
        </p:nvSpPr>
        <p:spPr>
          <a:xfrm>
            <a:off x="3581280" y="1828800"/>
            <a:ext cx="609840" cy="4572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4a"/>
                </a:solidFill>
                <a:latin typeface="Arial"/>
              </a:rPr>
              <a:t>Na</a:t>
            </a:r>
            <a:r>
              <a:rPr b="1" lang="en-US" sz="2400" spc="-1" strike="noStrike" baseline="48000">
                <a:solidFill>
                  <a:srgbClr val="004c4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2" name="Oval 5"/>
          <p:cNvSpPr/>
          <p:nvPr/>
        </p:nvSpPr>
        <p:spPr>
          <a:xfrm>
            <a:off x="2362320" y="2457360"/>
            <a:ext cx="914400" cy="6858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1c74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0a1c74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Oval 6"/>
          <p:cNvSpPr/>
          <p:nvPr/>
        </p:nvSpPr>
        <p:spPr>
          <a:xfrm>
            <a:off x="7696080" y="1714680"/>
            <a:ext cx="60984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Oval 7"/>
          <p:cNvSpPr/>
          <p:nvPr/>
        </p:nvSpPr>
        <p:spPr>
          <a:xfrm>
            <a:off x="685800" y="205740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5" name="Oval 8"/>
          <p:cNvSpPr/>
          <p:nvPr/>
        </p:nvSpPr>
        <p:spPr>
          <a:xfrm>
            <a:off x="1600200" y="4000680"/>
            <a:ext cx="609480" cy="4572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0" y="4800600"/>
            <a:ext cx="9144000" cy="3430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1066680" y="171360"/>
            <a:ext cx="7391520" cy="685800"/>
          </a:xfrm>
          <a:prstGeom prst="rect">
            <a:avLst/>
          </a:prstGeom>
          <a:gradFill rotWithShape="0">
            <a:gsLst>
              <a:gs pos="0">
                <a:srgbClr val="4987e3">
                  <a:alpha val="19215"/>
                </a:srgbClr>
              </a:gs>
              <a:gs pos="50000">
                <a:srgbClr val="ffffff">
                  <a:alpha val="24313"/>
                </a:srgbClr>
              </a:gs>
              <a:gs pos="100000">
                <a:srgbClr val="4987e3">
                  <a:alpha val="1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ионов в раствор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AutoShape 11">
            <a:hlinkClick r:id="" action="ppaction://hlinkshowjump?jump=nextslide"/>
          </p:cNvPr>
          <p:cNvSpPr/>
          <p:nvPr/>
        </p:nvSpPr>
        <p:spPr>
          <a:xfrm>
            <a:off x="8305920" y="4971960"/>
            <a:ext cx="838080" cy="171720"/>
          </a:xfrm>
          <a:custGeom>
            <a:avLst/>
            <a:gdLst>
              <a:gd name="textAreaLeft" fmla="*/ 10800 w 838080"/>
              <a:gd name="textAreaRight" fmla="*/ 827280 w 838080"/>
              <a:gd name="textAreaTop" fmla="*/ 10800 h 171720"/>
              <a:gd name="textAreaBottom" fmla="*/ 160920 h 171720"/>
            </a:gdLst>
            <a:ahLst/>
            <a:rect l="textAreaLeft" t="textAreaTop" r="textAreaRight" b="textAreaBottom"/>
            <a:pathLst>
              <a:path w="105244" h="21600">
                <a:moveTo>
                  <a:pt x="0" y="0"/>
                </a:moveTo>
                <a:lnTo>
                  <a:pt x="105244" y="0"/>
                </a:lnTo>
                <a:lnTo>
                  <a:pt x="105244" y="21600"/>
                </a:lnTo>
                <a:lnTo>
                  <a:pt x="0" y="21600"/>
                </a:lnTo>
                <a:close/>
              </a:path>
              <a:path fill="lightenLess" w="105244" h="21600">
                <a:moveTo>
                  <a:pt x="0" y="0"/>
                </a:moveTo>
                <a:lnTo>
                  <a:pt x="105244" y="0"/>
                </a:lnTo>
                <a:lnTo>
                  <a:pt x="103844" y="1400"/>
                </a:lnTo>
                <a:lnTo>
                  <a:pt x="1400" y="1400"/>
                </a:lnTo>
                <a:close/>
              </a:path>
              <a:path fill="darken" w="105244" h="21600">
                <a:moveTo>
                  <a:pt x="105244" y="0"/>
                </a:moveTo>
                <a:lnTo>
                  <a:pt x="105244" y="21600"/>
                </a:lnTo>
                <a:lnTo>
                  <a:pt x="103844" y="20200"/>
                </a:lnTo>
                <a:lnTo>
                  <a:pt x="103844" y="1400"/>
                </a:lnTo>
                <a:close/>
              </a:path>
              <a:path fill="darkenLess" w="105244" h="21600">
                <a:moveTo>
                  <a:pt x="10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44" y="20200"/>
                </a:lnTo>
                <a:close/>
              </a:path>
              <a:path fill="lighten" w="10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44" h="21600">
                <a:moveTo>
                  <a:pt x="45615" y="3794"/>
                </a:moveTo>
                <a:lnTo>
                  <a:pt x="59628" y="10800"/>
                </a:lnTo>
                <a:lnTo>
                  <a:pt x="4561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076 -0.00416 -0.02135 -0.0081 -0.04497 -0.00995 C -0.06858 -0.0118 -0.12569 -0.01134 -0.14167 -0.01157 E">
                                      <p:cBhvr>
                                        <p:cTn id="731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C 0.01875 0.02547 0.03732 0.05162 0.0651 0.05625 C 0.09305 0.06088 0.14948 0.03311 0.16666 0.02801 E">
                                      <p:cBhvr>
                                        <p:cTn id="733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2801 L 0.16667 0.32223 E">
                                      <p:cBhvr>
                                        <p:cTn id="743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01158 L -0.14167 0.28889 E">
                                      <p:cBhvr>
                                        <p:cTn id="745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06:56:07Z</dcterms:created>
  <dc:creator>Space Time</dc:creator>
  <dc:description/>
  <dc:language>en-US</dc:language>
  <cp:lastModifiedBy>Точка роста 5</cp:lastModifiedBy>
  <dcterms:modified xsi:type="dcterms:W3CDTF">2025-03-22T12:11:13Z</dcterms:modified>
  <cp:revision>315</cp:revision>
  <dc:subject/>
  <dc:title>Презентация PowerPoint</dc:title>
</cp:coreProperties>
</file>