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513-A32C-453D-8852-D64E5606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686-12A1-4E11-8D5C-965F63E2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12C-F0D8-45D6-9289-DB0CF92F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869-96B3-4DDA-B7A3-F03114AB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8181-1EB1-4C21-9B12-DDD7A9B0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5785-75AC-4DA8-9764-AD0E68B2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14CF-8B65-4597-8EEE-8D0346A2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848F-81D9-431F-B318-976D5098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A2C-BFA4-4BD0-8EE8-3AA466BB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A073-FB60-440A-A9E3-DF9F31A4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C47D-7549-4E3D-B6A6-2EED6FA2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51A-FF38-4471-B084-06A2D565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C918-7083-41ED-8C01-B77C003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05B3-97C9-4B88-84FA-87A4BC8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FB1F-70A0-4351-BFB4-2782B1D8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AEEC-786C-4B9A-9C1D-7BCEFB03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0A17-A816-44CE-93E0-54B34BC5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DAF9-6889-4591-9BAF-167C4839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2915-B4E6-4164-83C3-EF28814F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FE5EB-8533-4F35-AED3-8C188E6D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0CC1-CB8D-4243-9179-90AB9B03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B0D9-1C75-4103-8BA9-A7372B8F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3A6-B605-49B2-B2DC-CA790312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06FB-9450-48B7-8357-CE12D45A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508F-D13B-47D0-9728-37E69FB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B963-15FC-4688-B5B7-BA3B94BD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0C62-3981-4D6D-BE0B-114D2533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A41D-07DB-4188-A046-12784CCB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85D74-7B23-4F34-9F2A-C26A2BF3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7336-41A5-424A-A381-85775D35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90C51-3573-4ECD-9479-65D5A571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47CC2-58C2-4FAA-A7F6-4CF01B9E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7AE1-CEFF-4AEF-9081-A394BFE1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41E-9399-4BAD-BA80-8278DB9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5F28B-D529-41E2-9ED2-74D3357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B8D99-51D6-4BD5-AD9E-7ED151A1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6AFA-1831-4967-9870-D616DC6E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192F-BA81-4680-8705-8D413926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949D-60F3-4209-914F-EBF4A7D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8BDE-9FA0-4EEA-A6DD-87E68B8D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B91A-D834-45EF-BD24-2AD75B3C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8A666-67E0-4A2C-A3A2-7914C5B5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386D7-272C-43D1-9E21-581CE234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68643-C1B5-41B3-A10D-E45A0D3E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AB2-60B4-4AF9-B2F7-93F1F4A6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E7BB9-24C0-4434-BB88-3CD4E8D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FCA23-0D4E-4374-8916-E074A086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2378C-B47D-4D0A-A3ED-8A0A30A6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6057-D32A-4A00-94A7-FB4579A8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3456F-6644-4957-8FA5-79BBB0F9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5B17-3731-49D5-B507-ECED87D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623AC-D9CD-4E3B-AF97-452A5C7E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A8C6-2C3D-4AFE-AF39-105C7398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922E1-F22C-4778-B1F9-D86E701B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978ED-FB31-4364-92B9-166A3E3C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5EA-D1C9-4E8F-8B74-F6F466FE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D893E-B396-4B9D-A275-0F860FF7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3F49B-02B1-4C80-80B3-E4E5D5DB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54E6B-4ED5-4FD5-9DC2-B8BCE36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F11B7-30A1-496A-B8DF-6BDEBCA9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57B9B-D151-4965-8675-A766498C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A9D2C-B38F-4D29-B959-BD8D1961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9739E-79C0-4FD2-A962-6E60453C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F1EE6-67C6-4566-BC00-258BEEB0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001B-7A87-4B91-9FCE-1689D33E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63EEB-2706-46A5-96C3-00572FF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EFD-81E1-44A5-B0B1-1AEBA8B8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7526D-43E5-4CC0-A45A-0F3A4355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97559-25A9-4909-B6FF-44B2FC37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47F99-9C3E-4658-A758-6357E156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24A1B-5F71-4C82-ADFD-9BC59058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A3E96-5E64-49AB-9602-A1D63E21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427BD-6862-4F91-AB07-698D1566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45A4E-EA96-4F0A-8D3B-82D6160F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D73AF-D3E6-4EDA-839A-DBFF68FA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BF653-E991-4E5C-AD11-E6B1A9F5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9BF03-2ADB-417D-85D0-666C717A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C40-3CA7-4B1C-9ECA-2B50A806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17242-8FC1-40C6-8E98-0A7368B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86CCA-E1B3-40F5-A2E7-685673F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72E46-496A-4136-96EB-16563D9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DE746-1198-4FE9-B7AE-40514D95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BACE3-B815-4099-BA48-FA513567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F99-0435-4DB3-8FA0-8DF6A2BE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0218-200B-4082-8F44-964C566D3A4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956-09EC-403B-9F7E-ABEE1E44826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2E5D-9553-4E41-AE74-B76B2D510D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D9E1-BF3C-4F72-9549-FEA0E832112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B40C-6E0B-4FE6-8BCF-BF65CA8D9FA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45B2-0366-4083-AF2F-E348D56856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A825-14C9-477E-A334-1BCA9049D10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Формулы корней тригонометрических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Формулы корней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28600" y="1219320"/>
          <a:ext cx="8763120" cy="5389560"/>
        </p:xfrm>
        <a:graphic>
          <a:graphicData uri="http://schemas.openxmlformats.org/drawingml/2006/table">
            <a:tbl>
              <a:tblPr/>
              <a:tblGrid>
                <a:gridCol w="396720"/>
                <a:gridCol w="1737000"/>
                <a:gridCol w="3657600"/>
                <a:gridCol w="1218960"/>
                <a:gridCol w="1752840"/>
              </a:tblGrid>
              <a:tr h="445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«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в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&gt; 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л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&lt; –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кор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3" name="Object 53"/>
              <p:cNvSpPr txBox="1"/>
              <p:nvPr/>
            </p:nvSpPr>
            <p:spPr>
              <a:xfrm>
                <a:off x="762120" y="2743200"/>
                <a:ext cx="1371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А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55"/>
              <p:cNvSpPr txBox="1"/>
              <p:nvPr/>
            </p:nvSpPr>
            <p:spPr>
              <a:xfrm>
                <a:off x="2514600" y="2362320"/>
                <a:ext cx="3429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Ζ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Ζ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56"/>
              <p:cNvSpPr txBox="1"/>
              <p:nvPr/>
            </p:nvSpPr>
            <p:spPr>
              <a:xfrm>
                <a:off x="2819520" y="4343400"/>
                <a:ext cx="2514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7"/>
              <p:cNvSpPr txBox="1"/>
              <p:nvPr/>
            </p:nvSpPr>
            <p:spPr>
              <a:xfrm>
                <a:off x="2819520" y="5334120"/>
                <a:ext cx="228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8"/>
              <p:cNvSpPr txBox="1"/>
              <p:nvPr/>
            </p:nvSpPr>
            <p:spPr>
              <a:xfrm>
                <a:off x="2743200" y="5791320"/>
                <a:ext cx="2590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Формулы корней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28600" y="1295280"/>
          <a:ext cx="8763120" cy="5156280"/>
        </p:xfrm>
        <a:graphic>
          <a:graphicData uri="http://schemas.openxmlformats.org/drawingml/2006/table">
            <a:tbl>
              <a:tblPr/>
              <a:tblGrid>
                <a:gridCol w="396720"/>
                <a:gridCol w="1508400"/>
                <a:gridCol w="990360"/>
                <a:gridCol w="3676680"/>
                <a:gridCol w="2190960"/>
              </a:tblGrid>
              <a:tr h="533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«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в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&gt; 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л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 &lt; –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кор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0" name="Object 53"/>
              <p:cNvSpPr txBox="1"/>
              <p:nvPr/>
            </p:nvSpPr>
            <p:spPr>
              <a:xfrm>
                <a:off x="609480" y="2743200"/>
                <a:ext cx="1371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А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59"/>
              <p:cNvSpPr txBox="1"/>
              <p:nvPr/>
            </p:nvSpPr>
            <p:spPr>
              <a:xfrm>
                <a:off x="3352680" y="2716200"/>
                <a:ext cx="28512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60"/>
              <p:cNvSpPr txBox="1"/>
              <p:nvPr/>
            </p:nvSpPr>
            <p:spPr>
              <a:xfrm>
                <a:off x="4038480" y="4191120"/>
                <a:ext cx="1828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1"/>
              <p:cNvSpPr txBox="1"/>
              <p:nvPr/>
            </p:nvSpPr>
            <p:spPr>
              <a:xfrm>
                <a:off x="3962520" y="4876920"/>
                <a:ext cx="1898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2"/>
              <p:cNvSpPr txBox="1"/>
              <p:nvPr/>
            </p:nvSpPr>
            <p:spPr>
              <a:xfrm>
                <a:off x="3809880" y="5867280"/>
                <a:ext cx="1924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Формулы корней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1295280"/>
          <a:ext cx="8763120" cy="4911840"/>
        </p:xfrm>
        <a:graphic>
          <a:graphicData uri="http://schemas.openxmlformats.org/drawingml/2006/table">
            <a:tbl>
              <a:tblPr/>
              <a:tblGrid>
                <a:gridCol w="396720"/>
                <a:gridCol w="1346400"/>
                <a:gridCol w="1380960"/>
                <a:gridCol w="1371600"/>
                <a:gridCol w="4267440"/>
              </a:tblGrid>
              <a:tr h="50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«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в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&gt; 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л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 &lt; –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Object 53"/>
              <p:cNvSpPr txBox="1"/>
              <p:nvPr/>
            </p:nvSpPr>
            <p:spPr>
              <a:xfrm>
                <a:off x="533520" y="2514600"/>
                <a:ext cx="1371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А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4"/>
              <p:cNvSpPr txBox="1"/>
              <p:nvPr/>
            </p:nvSpPr>
            <p:spPr>
              <a:xfrm>
                <a:off x="5791320" y="396252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4"/>
              <p:cNvSpPr txBox="1"/>
              <p:nvPr/>
            </p:nvSpPr>
            <p:spPr>
              <a:xfrm>
                <a:off x="5638680" y="5486400"/>
                <a:ext cx="1866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63"/>
              <p:cNvSpPr txBox="1"/>
              <p:nvPr/>
            </p:nvSpPr>
            <p:spPr>
              <a:xfrm>
                <a:off x="5410080" y="2438280"/>
                <a:ext cx="2827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A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65"/>
              <p:cNvSpPr txBox="1"/>
              <p:nvPr/>
            </p:nvSpPr>
            <p:spPr>
              <a:xfrm>
                <a:off x="5791320" y="4800600"/>
                <a:ext cx="17683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66"/>
              <p:cNvSpPr txBox="1"/>
              <p:nvPr/>
            </p:nvSpPr>
            <p:spPr>
              <a:xfrm>
                <a:off x="5257800" y="3200400"/>
                <a:ext cx="2827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A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Упражнение № 1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ешить уравнение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6"/>
              <p:cNvSpPr txBox="1"/>
              <p:nvPr/>
            </p:nvSpPr>
            <p:spPr>
              <a:xfrm>
                <a:off x="5181480" y="2698920"/>
                <a:ext cx="327204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8"/>
              <p:cNvSpPr txBox="1"/>
              <p:nvPr/>
            </p:nvSpPr>
            <p:spPr>
              <a:xfrm>
                <a:off x="838080" y="2362320"/>
                <a:ext cx="2880000" cy="38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Домашняя работ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56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стр. 202, § 28, стр. 208, §  29, стр. 214, §  30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2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Формулы выучить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9" name="Picture 5" descr="1225222670mm"/>
          <p:cNvPicPr/>
          <p:nvPr/>
        </p:nvPicPr>
        <p:blipFill>
          <a:blip r:embed="rId1"/>
          <a:stretch/>
        </p:blipFill>
        <p:spPr>
          <a:xfrm>
            <a:off x="5257800" y="27432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61" name="Picture 2" descr="https://al.na5bal.ru/pars_docs/refs/3/2121/2121_html_657d05b5.jpg"/>
          <p:cNvPicPr/>
          <p:nvPr/>
        </p:nvPicPr>
        <p:blipFill>
          <a:blip r:embed="rId1"/>
          <a:stretch/>
        </p:blipFill>
        <p:spPr>
          <a:xfrm>
            <a:off x="2286000" y="1676520"/>
            <a:ext cx="4495680" cy="4451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Вычислить устно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10640" cy="3508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Решить уравн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1500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Уравнение вида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sin x = A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257800" cy="486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Решить уравн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0100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Уравнение вида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s x = A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972040" cy="5162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Решить уравн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15000" cy="1950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Уравнение вида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tg x = A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8" name="Picture 6" descr="https://zagalina.ru/wp-content/uploads/2020/01/tangens.png"/>
          <p:cNvPicPr/>
          <p:nvPr/>
        </p:nvPicPr>
        <p:blipFill>
          <a:blip r:embed="rId1"/>
          <a:stretch/>
        </p:blipFill>
        <p:spPr>
          <a:xfrm>
            <a:off x="2133720" y="1066680"/>
            <a:ext cx="4784760" cy="5791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Формулы корней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295280"/>
          <a:ext cx="8763120" cy="4911840"/>
        </p:xfrm>
        <a:graphic>
          <a:graphicData uri="http://schemas.openxmlformats.org/drawingml/2006/table">
            <a:tbl>
              <a:tblPr/>
              <a:tblGrid>
                <a:gridCol w="396720"/>
                <a:gridCol w="1346400"/>
                <a:gridCol w="2771640"/>
                <a:gridCol w="2057400"/>
                <a:gridCol w="2190960"/>
              </a:tblGrid>
              <a:tr h="50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«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в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 x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21-03-13T13:45:50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