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0F9-CFAE-4EA1-B7A5-4675E926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E1A-7E4B-4D86-ACFA-ABCD71E7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13B-44E0-4993-BC74-A1D304AC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E45-0D36-4580-BA56-D41B4B8B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5E2F-B1EC-4887-A92A-591E92EF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A94C-2E3D-4F2E-9E46-41D48D3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560A-A74F-410D-AB01-06DE099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11A7-28A0-430E-A41F-9B7BD84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28D8-24FE-44BB-9F25-0BA26B5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0EC8-3CB2-46A4-83E3-F39F238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2405-59C3-44D2-8AA1-BE0811C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651-D929-4736-88E9-BAB545A0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F64-8997-43E1-9BB5-33ECA1D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4448-AA55-4D50-B9A5-0C1CE2E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EED3-29C5-4E51-98FA-961965E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D24D-6225-485C-965D-3CDDA57E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ED3-7E07-4310-8D28-A10D9497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9E7B-98BC-445C-A72D-0C067BF5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E828-B1B2-4223-A2A7-9570C34D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0DB1-32A5-4C01-A31A-0923D8B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2D27-42E0-45A4-B30C-B15A1D6E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B41C-0A81-4E58-A1BE-085CCE2E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BD8-662D-4A6C-A8CF-BA2ACAC1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54B6-F3CB-4265-AC71-22015FF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9CDE-9B73-45FF-A7A3-32ADB9DD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CC80-C9E6-475E-A5A1-8C1B88C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3A60-6DC0-40FA-B891-D36C45D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2FBA-8B33-49C2-9C50-219CD1E1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735B-1A81-44F3-AD01-174D2CAE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AFD3-DD8D-4E69-9DC8-B06F4182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85CB-0542-410E-8AED-E2197BBC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71C4-5316-4B73-85C2-2B9952C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0989-0B96-450C-BC36-9ACB64E7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956-091C-4448-943A-E1B6A9C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4B00-FD13-44F1-BC28-688837A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F359-B484-4A3F-BBD9-925C6EC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B2AF-A9FE-4751-91CC-42A99BE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FBC4-F0CB-4232-BE76-8B19C0B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42EF-A450-4D08-8A4F-8BE874E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5BED-E4C9-4542-B7C4-7A529D9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66BC-F112-4EFF-8A47-0DB61F4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6523-0A76-477A-8672-37E3FE32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58F8A-9934-4D35-92AD-0BDAD66A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49A-352B-409E-86BD-B9B6369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6B2-5BF1-4DA1-8CF3-F26C0CA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5C1-C3AD-4BCB-B2A5-0DE5D11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3AC-72D1-4330-8369-4FAF93B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147-8543-44E4-B310-D9FFDE5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F26-1356-4C5B-B2D5-32BC2397B8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FF8-81A5-46ED-B6E3-EE0ECFA17D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0438-E1CB-4CBA-9E71-C95DFA1582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DDD8-910C-4E36-BC36-6987051BC6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5800" y="4142880"/>
            <a:ext cx="4030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-дефектоло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хина З.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одзаголовок 2"/>
          <p:cNvSpPr/>
          <p:nvPr/>
        </p:nvSpPr>
        <p:spPr>
          <a:xfrm>
            <a:off x="2268360" y="5805360"/>
            <a:ext cx="4857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 20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33cc"/>
                </a:solidFill>
                <a:latin typeface="Constantia"/>
              </a:rPr>
              <a:t>Хождение босиком</a:t>
            </a:r>
            <a:br>
              <a:rPr sz="4800"/>
            </a:br>
            <a:br>
              <a:rPr sz="20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хнически самый простой нетрадиционный метод закаливания, одновременно является хорошим средством укрепления свода стопы и связок. Начинаем хождение босиком по 3-4 минуты. Время процедуры увеличиваем ежедневно на 1 минуту и доводим до 20-25 минут. Процедура очень физиологична и хорошо переносится детьми любого возраста. Поэтому мы проводим её с раннего возрас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nstantia"/>
              </a:rPr>
              <a:t>Хождение босико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Constantia"/>
              </a:rPr>
              <a:t>«Тропу здоровья» используются в сочетании с контрастными воздушными ваннами после дневного сна для повышения двигательной активности, оздоровления детей раннего возра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Constantia"/>
              </a:rPr>
              <a:t>«Тропу здоровья» обозначают в группе, спальне, игровой, раздевалке импровизированными снарядами, спортивным инвентарем: лоток с галькой и водой, махровый коврик, ребристая доска, банкетка, лесенка и коврики – резиновые, шерстяные, теплые, холодные, сухие, влаж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Хождение босико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15120" y="1214280"/>
            <a:ext cx="1471680" cy="30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1687680" cy="300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3"/>
          <a:stretch/>
        </p:blipFill>
        <p:spPr>
          <a:xfrm>
            <a:off x="7143840" y="4357800"/>
            <a:ext cx="1728720" cy="235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2857680" y="1428840"/>
            <a:ext cx="2214360" cy="26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5"/>
          <a:stretch/>
        </p:blipFill>
        <p:spPr>
          <a:xfrm>
            <a:off x="285840" y="421488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6"/>
          <a:stretch/>
        </p:blipFill>
        <p:spPr>
          <a:xfrm>
            <a:off x="571680" y="1428840"/>
            <a:ext cx="1987200" cy="2643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7"/>
          <a:stretch/>
        </p:blipFill>
        <p:spPr>
          <a:xfrm>
            <a:off x="2428920" y="4286160"/>
            <a:ext cx="4267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bdbfa"/>
                </a:solidFill>
                <a:latin typeface="Constantia"/>
              </a:rPr>
              <a:t>Воздушное закали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760" y="149976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 концу дневного сна в одной из комнат группового помещения (спальне, игровой или раздевалке) температура воздуха снижается до 13-16°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ти в трусах или майках и трусах, выполняют в течение 1-1,5 минуты циклические движения умеренной интенсивности (бег, ходьба, танцевальные элементы) попеременно в «холодном» и «теплом» помещениях, то есть принимают общую воздушно-контрастную ван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ница температуры в двух помещениях, составляет в начале: в «теплом» 21-24°С, а в «холодном» на 3-5°С ниже; в течение 1,5-2 месяцев увеличивается и в холодном помещении температура доводится до 14-16°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bdbfa"/>
                </a:solidFill>
                <a:latin typeface="Constantia"/>
              </a:rPr>
              <a:t>Воздушное закали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929280" y="1357200"/>
            <a:ext cx="1783080" cy="492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3857760" y="128592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>
            <a:off x="3500280" y="4214880"/>
            <a:ext cx="314352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642960" y="3857760"/>
            <a:ext cx="2560680" cy="2873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642960" y="1357200"/>
            <a:ext cx="28544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nstantia"/>
              </a:rPr>
              <a:t>Солевая дорож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4300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рутся три полотенц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вое полотенце опускается в солевой раствор (на 5 л воды 0,5 кг соли) и затем растирается на полу или полиэтиленовой пленк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торое полотенце, намоченное в пресной воде комнатной температуры, кладется рядом с первы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ретье полотенце остаётся сухим. Ребёнок встаёт ногами на первое полотенце, выполняет притопывание и т. д. в течении  1-2 минут, затем переходит на второе полотенце, стирает соль с подошвы ног, будто бы он пришёл с улицы, и вытирает ноги о половик, а затем переходит на сухое полотенце и вытирает ступни ног насух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nstantia"/>
              </a:rPr>
              <a:t>Солевая дорож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2433600" cy="1928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3786120" y="1214280"/>
            <a:ext cx="263376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2071800" y="3429000"/>
            <a:ext cx="1536480" cy="3083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4"/>
          <a:stretch/>
        </p:blipFill>
        <p:spPr>
          <a:xfrm>
            <a:off x="357120" y="3357720"/>
            <a:ext cx="1474920" cy="2643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5"/>
          <a:stretch/>
        </p:blipFill>
        <p:spPr>
          <a:xfrm>
            <a:off x="6643800" y="1214280"/>
            <a:ext cx="2133360" cy="4267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6"/>
          <a:stretch/>
        </p:blipFill>
        <p:spPr>
          <a:xfrm>
            <a:off x="4071960" y="3714840"/>
            <a:ext cx="15606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Мы никогда не найдем путь в страну Здоровья, если не будем закалять свой организ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Закаляйтесь и будьте здоров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7168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Закаливание - прекрасное и доступное средство профилактики заболеваний и укрепления здоровья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но  является важным звеном в системе физического воспитания детей, обеспечивая тренировку защитных сил организма, повышение его устойчивости к воздействию постоянно изменяющихся условий внешней сре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Противопоказания к закаливанию н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33cc"/>
                </a:solidFill>
                <a:latin typeface="Constantia"/>
              </a:rPr>
              <a:t>Закаливание в пульсирующем режим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Ц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сохранение и укрепление  здоровья ребенка в условиях ДОУ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Основная задач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формировать сознательное отношение к закаливающим процедурам; привить элементарные правила здорового образа жиз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Ожидаемые результат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понижение показателей простудных  заболеваний у дете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Принципы закали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степен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следователь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истематич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мплекс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Учет индивидуальных особенностей ребен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ктивное и положительное отношение детей к закаливающим процедура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657760" y="895320"/>
            <a:ext cx="29736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584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Constantia"/>
              </a:rPr>
              <a:t>Дети подразделяются</a:t>
            </a:r>
            <a:br>
              <a:rPr sz="4500"/>
            </a:br>
            <a:r>
              <a:rPr b="1" lang="ru-RU" sz="4500" spc="-1" strike="noStrike">
                <a:solidFill>
                  <a:srgbClr val="0033cc"/>
                </a:solidFill>
                <a:latin typeface="Constantia"/>
              </a:rPr>
              <a:t> на групп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nstantia"/>
              </a:rPr>
              <a:t>Первая групп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практически здоровые дети, с которыми можно проводить полный комплекс закаливающих процеду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nstantia"/>
              </a:rPr>
              <a:t>Вторая групп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дети, с которыми закаливающие процедуры проводятся ограниченно. К ним относятся дети, предрасположенные к частым катарам верхних дыхательных путей, ангинам и другим простудным заболеван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nstantia"/>
              </a:rPr>
              <a:t>Третья групп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дети, которым в условиях массового проведения закаливающие мероприятия противопоказаны (имеющие острые или хронические воспалительные процессы — отиты, пиелиты и пиелонефриты и т. д., с пороком сердца; страдающие желудочно-кишечными заболеваниями)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Constantia"/>
              </a:rPr>
              <a:t>Комплексное закали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9997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Пробуждающая гимнаст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Контрастное воздушное закалив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Хождение по солевой дорожк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798640" y="2895480"/>
            <a:ext cx="3936960" cy="3316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7010280" y="2395440"/>
            <a:ext cx="2011320" cy="4383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98440" y="2395440"/>
            <a:ext cx="218916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onstantia"/>
              </a:rPr>
              <a:t>Гимнастика пробуждения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2920" y="3857760"/>
            <a:ext cx="885816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     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Воспитатель: Кто, кто, в этой спаленке живет? Кто вместе с солнышком всает? Это Соня,Маша, Полина, Тимур, Саша…</a:t>
            </a:r>
            <a:br>
              <a:rPr sz="2600"/>
            </a:b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С боку на бок повернулись, улыбнулись и сказали :</a:t>
            </a:r>
            <a:br>
              <a:rPr sz="2600"/>
            </a:b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-Мы проснулись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428760" y="150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42960" y="285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357120" y="150012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15 часов дети просыпаются под звуки музыки, что создает радостный эмоциональный фон, и, лежа в постели поверх одеяла, выполняют в течение 2-3 минут 3-4 физических упраж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onstantia"/>
              </a:rPr>
              <a:t>Гимнастика пробужд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подтягивание к груди согнутых колен с обхватом их руками и последующими выпрямлени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перекрестное и параллельное движение рук и ног, поднятых перпендикулярно относительно туловищ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покачивание согнутых колен в правую и левую стороны с противоположным движением рук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упражнения в положении «лежа на боку», «сидя», «лежа на живот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3" descr=""/>
          <p:cNvPicPr/>
          <p:nvPr/>
        </p:nvPicPr>
        <p:blipFill>
          <a:blip r:embed="rId1"/>
          <a:stretch/>
        </p:blipFill>
        <p:spPr>
          <a:xfrm>
            <a:off x="457200" y="426960"/>
            <a:ext cx="8308800" cy="1206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3500280" y="4429080"/>
            <a:ext cx="2141640" cy="17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4000680" y="1357200"/>
            <a:ext cx="1763640" cy="264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4"/>
          <a:stretch/>
        </p:blipFill>
        <p:spPr>
          <a:xfrm>
            <a:off x="5925960" y="1714680"/>
            <a:ext cx="2980080" cy="164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5"/>
          <a:stretch/>
        </p:blipFill>
        <p:spPr>
          <a:xfrm>
            <a:off x="6072120" y="3786120"/>
            <a:ext cx="2766960" cy="21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2428920" y="1571760"/>
            <a:ext cx="1328760" cy="268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7"/>
          <a:stretch/>
        </p:blipFill>
        <p:spPr>
          <a:xfrm>
            <a:off x="285840" y="1785960"/>
            <a:ext cx="1738080" cy="2395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8"/>
          <a:stretch/>
        </p:blipFill>
        <p:spPr>
          <a:xfrm>
            <a:off x="642960" y="4500720"/>
            <a:ext cx="21985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й Полухин</dc:creator>
  <dc:description/>
  <dc:language>en-US</dc:language>
  <cp:lastModifiedBy>Евгений Полухин</cp:lastModifiedBy>
  <dcterms:modified xsi:type="dcterms:W3CDTF">2024-11-21T08:49:58Z</dcterms:modified>
  <cp:revision>39</cp:revision>
  <dc:subject/>
  <dc:title>Закаливание детей раннего возраста</dc:title>
</cp:coreProperties>
</file>