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3.png" ContentType="image/png"/>
  <Override PartName="/ppt/media/image4.jpeg" ContentType="image/jpeg"/>
  <Override PartName="/ppt/media/image25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2.png" ContentType="image/png"/>
  <Override PartName="/ppt/media/image32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4E89-FF08-415D-A193-D1668A1D91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4CFC-52F8-418D-93DA-6D5953B3E9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7CAC-4E81-4ECB-8788-36B3C87059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3C98-D696-45AC-8D18-FF232D6364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69FD-9ED7-4EC2-9A43-F759F921B3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9961-5119-4CEA-BABC-256FBBCA2A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EACB-A6F5-4B3A-BF15-89B04018C7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E573-5874-420D-A5DA-64FD6EEC41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7111-0FBC-46A6-A9C6-943CAB20BA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CCD0-EB1C-4516-9274-195D193A75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6FC5-1654-4411-91DC-F9316C7E66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9A18-6C53-4D58-9B64-4BF4E3EFE6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9CAFC-E9B6-4CB5-B842-95EC097C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BDF5A-33E4-4DAA-AA58-4FD3170B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3DD83-5FB3-455D-8E73-E3581BD2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4E52A-ACF7-4FD5-8792-788D536F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ECB9-A30D-4186-8C19-096F1531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2535-DCFB-4F6D-9F0B-B8B88CC0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AB16-2421-4D40-8187-D0B74211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C121-1980-4502-AA53-7E9E2B73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3E38-7CCE-4D45-92DA-02FD8241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14A8-BFAF-4E99-B41E-9373EF28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9870-6FCB-4978-B561-1506875E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80209-2E6A-4559-9995-E2BC7DB4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4C8D-57FD-48EF-9FF2-0F45BE11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E5B0-87DC-497A-8ED9-479CD2DA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4783-3964-4403-8122-7D8F849C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99C4-644E-4455-97CE-B3D42E8D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ED93-2DE3-40C6-BC1C-C3FF05D3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B1718-0F45-40EF-8261-D9F9B0A0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1C569-FF25-4177-BB79-436E2BF9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0D5C5-A193-4F4D-AE63-287E115F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50F67-9A6D-42FD-8842-798E78C8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18405-DBDA-493E-BEF1-2417F9B1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426B-72B8-4ACA-A81B-E3196A72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EF6BD-EB9A-4626-914E-6D7192B0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C6A4-0EB0-42CE-B8AA-791B19C927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A09A-4B9B-40E5-AC3E-BF6AD621BC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mwb.newacropol.ru/pub/Pictures-Articles/Articles241-300/276_galileo_1.jpg&amp;imgrefurl=http://subscribe.ru/archive/culture.news.manwb/200702/06115421.html&amp;h=312&amp;w=254&amp;sz=15&amp;hl=ru&amp;start=6&amp;tbnid=1Qiy0y10rHHn3M:&amp;tbnh=117&amp;tbnw=95&amp;prev=/images%3Fq%3D%25D0%2593%25D0%25B0%25D0%25BB%25D0%25B8%25D0%25BB%25D0%25B5%25D0%25BE%2B%25D0%25B3%25D0%25B0%25D0%25BB%25D0%25B8%25D0%25BB%25D0%25B5%25D0%25B9%26svnum%3D10%26hl%3Dru%26newwindow%3D1%26rlz%3D1T4ADBF_ruRU239RU248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molbiol.ru/forums/uploads/post-3616-1159361362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hyperlink" Target="http://upload.wikimedia.org/wikipedia/commons/thumb/b/ba/Robert_brown_botaniker.jpg/180px-Robert_brown_botaniker.jpg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881244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етка. </a:t>
            </a:r>
            <a:br>
              <a:rPr sz="5000"/>
            </a:b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еточная теория.</a:t>
            </a:r>
            <a:br>
              <a:rPr sz="5000"/>
            </a:b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ение и функции клетки, органоиды клетк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bio_1_7"/>
          <p:cNvPicPr/>
          <p:nvPr/>
        </p:nvPicPr>
        <p:blipFill>
          <a:blip r:embed="rId1"/>
          <a:stretch/>
        </p:blipFill>
        <p:spPr>
          <a:xfrm>
            <a:off x="1619280" y="3357720"/>
            <a:ext cx="6121440" cy="34257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5e"/>
                </a:solidFill>
                <a:latin typeface="Arial"/>
              </a:rPr>
              <a:t>Клеточные формы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404028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e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e"/>
                </a:solidFill>
                <a:latin typeface="Arial"/>
              </a:rPr>
              <a:t>Прокариоты (доядерные) – их клетки не имеют оформленного, ограниченного мембраной ядра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4920" y="2707920"/>
            <a:ext cx="4040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бакте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цианобактерии или сине-зеленые водоро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4720" y="1267920"/>
            <a:ext cx="404172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e"/>
                </a:solidFill>
                <a:latin typeface="Arial"/>
              </a:rPr>
              <a:t>Эукариоты (ядерные) –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рганизмы, клетки которых содержат оформленные, ограниченные оболочкой ядра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04000" y="2707920"/>
            <a:ext cx="194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грибы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растен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живот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I:\ЕСТЕСТВОЗНАНИЕ-БИОЛОГИЯ\Растительная и животная я клетка\0010-010-Urovni-organizatsii-zhivoj-materii.jpg"/>
          <p:cNvPicPr/>
          <p:nvPr/>
        </p:nvPicPr>
        <p:blipFill>
          <a:blip r:embed="rId1"/>
          <a:stretch/>
        </p:blipFill>
        <p:spPr>
          <a:xfrm>
            <a:off x="250920" y="4459320"/>
            <a:ext cx="4321080" cy="2282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I:\ЕСТЕСТВОЗНАНИЕ-БИОЛОГИЯ\Растительная и животная я клетка\image4.jpeg"/>
          <p:cNvPicPr/>
          <p:nvPr/>
        </p:nvPicPr>
        <p:blipFill>
          <a:blip r:embed="rId2"/>
          <a:stretch/>
        </p:blipFill>
        <p:spPr>
          <a:xfrm>
            <a:off x="4067280" y="2925720"/>
            <a:ext cx="26575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72"/>
                </a:solidFill>
                <a:latin typeface="Arial"/>
              </a:rPr>
              <a:t>СТРОЕНИЕ КЛЕТКИ</a:t>
            </a:r>
            <a:br>
              <a:rPr sz="3600"/>
            </a:br>
            <a:r>
              <a:rPr b="0" lang="ru-RU" sz="2400" spc="-1" strike="noStrike">
                <a:solidFill>
                  <a:srgbClr val="000072"/>
                </a:solidFill>
                <a:latin typeface="Times New Roman"/>
              </a:rPr>
              <a:t>Строение клетки является одним из важных принципов классификации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40402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ительная кл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4720" y="1700280"/>
            <a:ext cx="404172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ная кл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maggedImage" descr="09010102"/>
          <p:cNvPicPr/>
          <p:nvPr/>
        </p:nvPicPr>
        <p:blipFill>
          <a:blip r:embed="rId1"/>
          <a:stretch/>
        </p:blipFill>
        <p:spPr>
          <a:xfrm>
            <a:off x="324000" y="2276640"/>
            <a:ext cx="4319280" cy="4465440"/>
          </a:xfrm>
          <a:prstGeom prst="rect">
            <a:avLst/>
          </a:prstGeom>
          <a:ln w="0">
            <a:noFill/>
          </a:ln>
        </p:spPr>
      </p:pic>
      <p:pic>
        <p:nvPicPr>
          <p:cNvPr id="154" name="maggedImage" descr="09010101"/>
          <p:cNvPicPr/>
          <p:nvPr/>
        </p:nvPicPr>
        <p:blipFill>
          <a:blip r:embed="rId2"/>
          <a:stretch/>
        </p:blipFill>
        <p:spPr>
          <a:xfrm>
            <a:off x="4716360" y="2276640"/>
            <a:ext cx="4032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Органоиды кле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560" y="2923920"/>
            <a:ext cx="8713800" cy="29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Ядро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1. Рибос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ЭПС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2. Цитоске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Комплекс Гольджи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3. Клеточный цен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Лизос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Митохонд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Выноска со стрелкой вниз 5" descr=""/>
          <p:cNvPicPr/>
          <p:nvPr/>
        </p:nvPicPr>
        <p:blipFill>
          <a:blip r:embed="rId1"/>
          <a:stretch/>
        </p:blipFill>
        <p:spPr>
          <a:xfrm>
            <a:off x="384120" y="1133640"/>
            <a:ext cx="3406680" cy="1804680"/>
          </a:xfrm>
          <a:prstGeom prst="rect">
            <a:avLst/>
          </a:prstGeom>
          <a:ln w="0">
            <a:noFill/>
          </a:ln>
        </p:spPr>
      </p:pic>
      <p:pic>
        <p:nvPicPr>
          <p:cNvPr id="158" name="Выноска со стрелкой вниз 6" descr=""/>
          <p:cNvPicPr/>
          <p:nvPr/>
        </p:nvPicPr>
        <p:blipFill>
          <a:blip r:embed="rId2"/>
          <a:stretch/>
        </p:blipFill>
        <p:spPr>
          <a:xfrm>
            <a:off x="4932360" y="1133640"/>
            <a:ext cx="3260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итоплазма. Цитоплазматическая мембран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268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это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оболочка клетки, выполняющая следующие 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- разделение содержимого клетки и внешней сред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- регуляция обмена веществ между клеткой и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место протекания некоторых биохимических реакций (в том числе фотосинтеза, окислительного фосфорилирова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- объединение клеток в тк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ЦИТОПЛА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80720"/>
            <a:ext cx="8362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алоплазма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Цитоске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70-90%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икротруб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ода, белки,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микрофила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ипи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низ 9"/>
          <p:cNvSpPr/>
          <p:nvPr/>
        </p:nvSpPr>
        <p:spPr>
          <a:xfrm>
            <a:off x="2050920" y="1336680"/>
            <a:ext cx="1008360" cy="16556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низ 11"/>
          <p:cNvSpPr/>
          <p:nvPr/>
        </p:nvSpPr>
        <p:spPr>
          <a:xfrm>
            <a:off x="5788080" y="1336680"/>
            <a:ext cx="1150920" cy="16556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33336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7d"/>
                </a:solidFill>
                <a:latin typeface="Times New Roman"/>
              </a:rPr>
              <a:t>Оболочки делятся на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лазматические (клеточные мембраны) и наружние. </a:t>
            </a:r>
            <a:r>
              <a:rPr b="1" lang="ru-RU" sz="2600" spc="-1" strike="noStrike">
                <a:solidFill>
                  <a:srgbClr val="00007d"/>
                </a:solidFill>
                <a:latin typeface="Times New Roman"/>
              </a:rPr>
              <a:t>Важнейшее свойство плазматической мембраны –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олупроницаемость</a:t>
            </a:r>
            <a:r>
              <a:rPr b="1" lang="ru-RU" sz="2600" spc="-1" strike="noStrike">
                <a:solidFill>
                  <a:srgbClr val="00007d"/>
                </a:solidFill>
                <a:latin typeface="Times New Roman"/>
              </a:rPr>
              <a:t>, то есть способность пропускать только определённые вещества. Через неё медленно диффундируют глюкоза, аминокислоты, жирные кислоты и ионы, причём сами мембраны могут активно регулировать процесс диффуз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74167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Фагоцитоз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Пиноцит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1557360"/>
            <a:ext cx="8229600" cy="4309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09010202"/>
          <p:cNvPicPr/>
          <p:nvPr/>
        </p:nvPicPr>
        <p:blipFill>
          <a:blip r:embed="rId2"/>
          <a:stretch/>
        </p:blipFill>
        <p:spPr>
          <a:xfrm>
            <a:off x="468360" y="1557360"/>
            <a:ext cx="8351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Ядро- 2-х мембранный органо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ядро4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076720" y="1341360"/>
            <a:ext cx="4046760" cy="439128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6"/>
          <p:cNvSpPr/>
          <p:nvPr/>
        </p:nvSpPr>
        <p:spPr>
          <a:xfrm>
            <a:off x="250920" y="958680"/>
            <a:ext cx="47876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7d"/>
                </a:solidFill>
                <a:latin typeface="Times New Roman"/>
              </a:rPr>
              <a:t>Ядро имеется в клетках всех эукариот за исключением эритроцитов млекопитающих. Ядро обычно принимает форму шара или яйца; по размерам (10–20 мкм) оно является самой крупной из органел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7d"/>
                </a:solidFill>
                <a:latin typeface="Times New Roman"/>
              </a:rPr>
              <a:t>Ядро отграничено от цитоплазмы ядерной оболочкой, которая состоит из двух мембран: наружной и внутренней, имеющих такое же строение, как и плазматическая мембрана. Через множество пор в ядерной оболочке осуществляется обмен веществ между ядром и цитоплазмой. Внешняя мембрана часто бывает усеяна рибосомами, синтезирующими бело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79280" y="1052280"/>
            <a:ext cx="4316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Под ядерной оболочкой находится кариоплазма (ядерный сок), в которую поступают вещества из цитоплазмы. Кариоплазма содержит хроматин – вещество, несущее ДНК, и ядрышки. Ядрышко – это округлая структура внутри ядра, в которой происходит формирование рибо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4716360" y="907920"/>
            <a:ext cx="4248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Times New Roman"/>
              </a:rPr>
              <a:t>План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тория создания клеточной теор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етка. Клеточные формы жизни (прокариоты и эукариоты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рганоиды клетки и их функ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Times New Roman"/>
              </a:rPr>
              <a:t>Лизосом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435280" y="549000"/>
            <a:ext cx="3322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мбранные пузырьки величиной до 2 мк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аствуют в формировании пищеварительных вакуолей, разрушении крупных молекул клет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Аппарат Гольджи и другие мембранные органеллы эукариотической клетки"/>
          <p:cNvPicPr/>
          <p:nvPr/>
        </p:nvPicPr>
        <p:blipFill>
          <a:blip r:embed="rId1"/>
          <a:stretch/>
        </p:blipFill>
        <p:spPr>
          <a:xfrm>
            <a:off x="250920" y="2344680"/>
            <a:ext cx="5329080" cy="42404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5"/>
          <p:cNvSpPr/>
          <p:nvPr/>
        </p:nvSpPr>
        <p:spPr>
          <a:xfrm rot="1068000">
            <a:off x="3058920" y="573408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07407E-006 L -0.09445 -0.04213 E">
                                      <p:cBhvr>
                                        <p:cTn id="27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Times New Roman"/>
              </a:rPr>
              <a:t>Эндоплазматическая сеть (ЭПС</a:t>
            </a:r>
            <a:r>
              <a:rPr b="0" lang="ru-RU" sz="4400" spc="-1" strike="noStrike">
                <a:solidFill>
                  <a:srgbClr val="00007d"/>
                </a:solidFill>
                <a:latin typeface="Times New Roman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284720" y="1412640"/>
            <a:ext cx="44020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а мембран, образующих канальца, пузырьки, цистерны, труб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единена с плазмолеммой и ядерной мембра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рт веществ в клет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деление клетки на отсе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ЭПС"/>
          <p:cNvPicPr/>
          <p:nvPr/>
        </p:nvPicPr>
        <p:blipFill>
          <a:blip r:embed="rId1">
            <a:alphaModFix amt="99000"/>
          </a:blip>
          <a:srcRect l="0" t="0" r="39905" b="24633"/>
          <a:stretch/>
        </p:blipFill>
        <p:spPr>
          <a:xfrm>
            <a:off x="250920" y="1413000"/>
            <a:ext cx="3440160" cy="49687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6"/>
          <p:cNvSpPr/>
          <p:nvPr/>
        </p:nvSpPr>
        <p:spPr>
          <a:xfrm rot="2235600">
            <a:off x="3973680" y="5795640"/>
            <a:ext cx="792000" cy="504720"/>
          </a:xfrm>
          <a:prstGeom prst="leftArrow">
            <a:avLst>
              <a:gd name="adj1" fmla="val 50000"/>
              <a:gd name="adj2" fmla="val 39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-0.10226 -0.10509 E">
                                      <p:cBhvr>
                                        <p:cTn id="33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Аппарат Гольджи и другие мембранные органеллы эукариотической клетки"/>
          <p:cNvPicPr/>
          <p:nvPr/>
        </p:nvPicPr>
        <p:blipFill>
          <a:blip r:embed="rId1"/>
          <a:stretch/>
        </p:blipFill>
        <p:spPr>
          <a:xfrm>
            <a:off x="684360" y="476280"/>
            <a:ext cx="7561080" cy="601344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5"/>
          <p:cNvSpPr/>
          <p:nvPr/>
        </p:nvSpPr>
        <p:spPr>
          <a:xfrm rot="18138600">
            <a:off x="4643640" y="764640"/>
            <a:ext cx="360360" cy="287280"/>
          </a:xfrm>
          <a:prstGeom prst="leftArrow">
            <a:avLst>
              <a:gd name="adj1" fmla="val 50000"/>
              <a:gd name="adj2" fmla="val 31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 rot="2364000">
            <a:off x="4788000" y="4365720"/>
            <a:ext cx="360360" cy="358560"/>
          </a:xfrm>
          <a:prstGeom prst="leftArrow">
            <a:avLst>
              <a:gd name="adj1" fmla="val 50000"/>
              <a:gd name="adj2" fmla="val 2512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2627280" y="551664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L -0.03142 0.06296 E">
                                      <p:cBhvr>
                                        <p:cTn id="39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92593E-006 L -0.08663 -0.12615 E">
                                      <p:cBhvr>
                                        <p:cTn id="43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5.92593E-006 L 0.00782 -0.22059 E">
                                      <p:cBhvr>
                                        <p:cTn id="47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678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Times New Roman"/>
              </a:rPr>
              <a:t>Рибосо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114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ейший органоид живой клетки сферической или слегка овальной формы, диаметром 100-200 ангстрем, состоящий из большой и малой субъедин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 – синтез бел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держит рР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1190-1.jpg"/>
          <p:cNvPicPr/>
          <p:nvPr/>
        </p:nvPicPr>
        <p:blipFill>
          <a:blip r:embed="rId1"/>
          <a:stretch/>
        </p:blipFill>
        <p:spPr>
          <a:xfrm>
            <a:off x="4753080" y="476280"/>
            <a:ext cx="4171680" cy="44654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6"/>
          <p:cNvSpPr/>
          <p:nvPr/>
        </p:nvSpPr>
        <p:spPr>
          <a:xfrm rot="19058400">
            <a:off x="4572000" y="5733720"/>
            <a:ext cx="647640" cy="287280"/>
          </a:xfrm>
          <a:custGeom>
            <a:avLst/>
            <a:gdLst>
              <a:gd name="textAreaLeft" fmla="*/ 81000 w 647640"/>
              <a:gd name="textAreaRight" fmla="*/ 567000 w 647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16146 -0.20995 E">
                                      <p:cBhvr>
                                        <p:cTn id="53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Times New Roman"/>
              </a:rPr>
              <a:t>Схема строения рибосо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292360" y="1699920"/>
            <a:ext cx="340524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— малая субъед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— иР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— т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— амино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 — большая субъед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 — мембрана эндоплазматиче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— синтезируемая полипептидная цеп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tmp3D0-23"/>
          <p:cNvPicPr/>
          <p:nvPr/>
        </p:nvPicPr>
        <p:blipFill>
          <a:blip r:embed="rId1"/>
          <a:stretch/>
        </p:blipFill>
        <p:spPr>
          <a:xfrm>
            <a:off x="395280" y="1484280"/>
            <a:ext cx="4968720" cy="49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Комплекс Гольджи (пластинчатый комплекс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03280" y="1980720"/>
            <a:ext cx="39610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мембранная структура эукариотической клетки, в основном предназначенная для выведения веществ, синтезированных в эндоплазматическом ретикулу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bio_1_7"/>
          <p:cNvPicPr/>
          <p:nvPr/>
        </p:nvPicPr>
        <p:blipFill>
          <a:blip r:embed="rId1"/>
          <a:stretch/>
        </p:blipFill>
        <p:spPr>
          <a:xfrm>
            <a:off x="395280" y="2924280"/>
            <a:ext cx="4608360" cy="25956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539640" y="198900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зырь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132000" y="6165720"/>
            <a:ext cx="187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сте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 rot="19133400">
            <a:off x="2124000" y="1916280"/>
            <a:ext cx="360360" cy="574560"/>
          </a:xfrm>
          <a:prstGeom prst="downArrow">
            <a:avLst>
              <a:gd name="adj1" fmla="val 50000"/>
              <a:gd name="adj2" fmla="val 398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 rot="2038800">
            <a:off x="2987640" y="5516280"/>
            <a:ext cx="358920" cy="504720"/>
          </a:xfrm>
          <a:prstGeom prst="upArrow">
            <a:avLst>
              <a:gd name="adj1" fmla="val 50278"/>
              <a:gd name="adj2" fmla="val 3515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48148E-006 L 0.06285 0.08403 E">
                                      <p:cBhvr>
                                        <p:cTn id="59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5.92593E-006 L 0.07084 -0.13657 E">
                                      <p:cBhvr>
                                        <p:cTn id="63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Times New Roman"/>
              </a:rPr>
              <a:t>Ками́лло Го́льджи</a:t>
            </a:r>
            <a:r>
              <a:rPr b="0" lang="ru-RU" sz="4400" spc="-1" strike="noStrike">
                <a:solidFill>
                  <a:srgbClr val="00007d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7d"/>
                </a:solidFill>
                <a:latin typeface="Times New Roman"/>
              </a:rPr>
              <a:t>(7 июля 1843 — 21 января 192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0" y="1980720"/>
            <a:ext cx="3970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тальянский врач и учёный, лауреат Нобелевской премии по физиологии и медицине в 1906 году (совместно с Сантьяго Рамон-и-Кахале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Camillo_Golgi_%28Nobel_1906%29"/>
          <p:cNvPicPr/>
          <p:nvPr/>
        </p:nvPicPr>
        <p:blipFill>
          <a:blip r:embed="rId1"/>
          <a:stretch/>
        </p:blipFill>
        <p:spPr>
          <a:xfrm>
            <a:off x="539640" y="2133720"/>
            <a:ext cx="30560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Times New Roman"/>
              </a:rPr>
              <a:t>Митохонд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40000" y="620640"/>
            <a:ext cx="4617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умембранные органеллы продолговатой ф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ются энергетическими станциями клет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т ДНК и РН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Схема строения митохондрии.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324000" y="2421000"/>
            <a:ext cx="6264000" cy="40924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5"/>
          <p:cNvSpPr/>
          <p:nvPr/>
        </p:nvSpPr>
        <p:spPr>
          <a:xfrm>
            <a:off x="1258920" y="1628640"/>
            <a:ext cx="504720" cy="505080"/>
          </a:xfrm>
          <a:prstGeom prst="downArrow">
            <a:avLst>
              <a:gd name="adj1" fmla="val 50000"/>
              <a:gd name="adj2" fmla="val 250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6588000" y="4797360"/>
            <a:ext cx="648000" cy="503280"/>
          </a:xfrm>
          <a:prstGeom prst="leftArrow">
            <a:avLst>
              <a:gd name="adj1" fmla="val 50000"/>
              <a:gd name="adj2" fmla="val 321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5.92593E-006 L 0.03142 0.36758 E">
                                      <p:cBhvr>
                                        <p:cTn id="69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5.92593E-006 L -0.40156 -0.06296 E">
                                      <p:cBhvr>
                                        <p:cTn id="73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роение и функции органоидов кле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773360"/>
          <a:ext cx="8229600" cy="3205080"/>
        </p:xfrm>
        <a:graphic>
          <a:graphicData uri="http://schemas.openxmlformats.org/drawingml/2006/table">
            <a:tbl>
              <a:tblPr/>
              <a:tblGrid>
                <a:gridCol w="3610080"/>
                <a:gridCol w="2305080"/>
                <a:gridCol w="2314440"/>
              </a:tblGrid>
              <a:tr h="55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оиды клет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о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652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д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зосо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П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босо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лекс Гольд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охонд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7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Методы изучения кле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микроскоп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центрифуг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рентгеноструктурный анал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цито и гистохим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кино и фотосъемк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MPj04093980000[1]"/>
          <p:cNvPicPr/>
          <p:nvPr/>
        </p:nvPicPr>
        <p:blipFill>
          <a:blip r:embed="rId1"/>
          <a:stretch/>
        </p:blipFill>
        <p:spPr>
          <a:xfrm>
            <a:off x="6516720" y="18900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90360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Основные этапы развития клеточной те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7928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 этап</a:t>
            </a:r>
            <a:r>
              <a:rPr b="1" lang="ru-RU" sz="28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90г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</a:t>
            </a:r>
            <a:r>
              <a:rPr b="1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Ян Янсе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ервый микроскоп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9 – 1610г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Галилео Галил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изготовлен микроско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65г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оберт Гу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ячейки, соты, клет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00г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нтони ван Левенгук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–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оклеточные организмы, бактер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31г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оберт Броун –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исал ядр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276_galileo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5072040"/>
            <a:ext cx="1224000" cy="148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post-3616-11593613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14760" y="5072040"/>
            <a:ext cx="1164960" cy="148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1"/>
          <p:cNvPicPr/>
          <p:nvPr/>
        </p:nvPicPr>
        <p:blipFill>
          <a:blip r:embed="rId5"/>
          <a:stretch/>
        </p:blipFill>
        <p:spPr>
          <a:xfrm>
            <a:off x="4786200" y="5072040"/>
            <a:ext cx="1152720" cy="1484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180px-Robert_brown_botanik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15080" y="5072040"/>
            <a:ext cx="12114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155160"/>
            <a:ext cx="8229600" cy="13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II</a:t>
            </a:r>
            <a:r>
              <a:rPr b="1" lang="ru-RU" sz="44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 этап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39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8920" y="2349360"/>
            <a:ext cx="87138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омас Шванн         и         Маттиас Шлейде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овали клеточную теор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ка – основная единица всех живых организм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ки животных и растений сходны по строен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ки образуются из неклеточного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schleiden"/>
          <p:cNvPicPr/>
          <p:nvPr/>
        </p:nvPicPr>
        <p:blipFill>
          <a:blip r:embed="rId1"/>
          <a:stretch/>
        </p:blipFill>
        <p:spPr>
          <a:xfrm>
            <a:off x="1278000" y="130320"/>
            <a:ext cx="1871640" cy="1968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schwann"/>
          <p:cNvPicPr/>
          <p:nvPr/>
        </p:nvPicPr>
        <p:blipFill>
          <a:blip r:embed="rId2"/>
          <a:stretch/>
        </p:blipFill>
        <p:spPr>
          <a:xfrm>
            <a:off x="5749920" y="130320"/>
            <a:ext cx="171468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III</a:t>
            </a:r>
            <a:r>
              <a:rPr b="1" lang="ru-RU" sz="44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 эта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0г –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елликер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ы митохондр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5г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удольф Вирхофф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л деление клетки- «Каждая клетка из клет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6г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Эрнст Гекк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хранение и передача наследственной информации происходит через яд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8 г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Ф.Мишер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ткрыты нуклеиновые кисл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8г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амилло Гольдж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ткрыт комплекс Гольдж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IV </a:t>
            </a:r>
            <a:r>
              <a:rPr b="1" lang="ru-RU" sz="44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79280" y="1267920"/>
            <a:ext cx="8507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0 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создание электронного микроск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68"/>
          <p:cNvPicPr/>
          <p:nvPr/>
        </p:nvPicPr>
        <p:blipFill>
          <a:blip r:embed="rId1"/>
          <a:stretch/>
        </p:blipFill>
        <p:spPr>
          <a:xfrm>
            <a:off x="539640" y="1773360"/>
            <a:ext cx="2752920" cy="3762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Pj04004240000[1]"/>
          <p:cNvPicPr/>
          <p:nvPr/>
        </p:nvPicPr>
        <p:blipFill>
          <a:blip r:embed="rId2"/>
          <a:stretch/>
        </p:blipFill>
        <p:spPr>
          <a:xfrm>
            <a:off x="3492360" y="4221000"/>
            <a:ext cx="2737080" cy="2292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электр"/>
          <p:cNvPicPr/>
          <p:nvPr/>
        </p:nvPicPr>
        <p:blipFill>
          <a:blip r:embed="rId3"/>
          <a:stretch/>
        </p:blipFill>
        <p:spPr>
          <a:xfrm>
            <a:off x="5651640" y="1916280"/>
            <a:ext cx="3333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Основные положения современной клеточной теор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just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етка является основной структурной и функциональной единицей жизни. Все организмы состоят из клеток, жизнь организма в целом обусловлена взаимодействием составляющих его клет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летки всех организмов сходны по своему химическому составу, строению и функция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 новые клетки образуются при делении исходных клеток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MPj03988470000[1]"/>
          <p:cNvPicPr/>
          <p:nvPr/>
        </p:nvPicPr>
        <p:blipFill>
          <a:blip r:embed="rId1"/>
          <a:stretch/>
        </p:blipFill>
        <p:spPr>
          <a:xfrm>
            <a:off x="6084720" y="5013360"/>
            <a:ext cx="280836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ганоидами (органеллами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 постоянные компоненты клетки, выполняющие в ней конкретные функции и обеспечивающие осуществление процессов и свойств, необходимых для поддержания ее жизне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Изображение:Biological cell.svg"/>
          <p:cNvPicPr/>
          <p:nvPr/>
        </p:nvPicPr>
        <p:blipFill>
          <a:blip r:embed="rId1"/>
          <a:stretch/>
        </p:blipFill>
        <p:spPr>
          <a:xfrm>
            <a:off x="3203640" y="3284640"/>
            <a:ext cx="5553000" cy="338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3T17:12:48Z</dcterms:created>
  <dc:creator>Долгорукова</dc:creator>
  <dc:description/>
  <dc:language>en-US</dc:language>
  <cp:lastModifiedBy>gke</cp:lastModifiedBy>
  <dcterms:modified xsi:type="dcterms:W3CDTF">2016-09-28T07:49:44Z</dcterms:modified>
  <cp:revision>81</cp:revision>
  <dc:subject/>
  <dc:title>Органоиды клетки</dc:title>
</cp:coreProperties>
</file>