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65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106.wmf" ContentType="image/x-wmf"/>
  <Override PartName="/ppt/media/image99.wmf" ContentType="image/x-wmf"/>
  <Override PartName="/ppt/media/image62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64.wmf" ContentType="image/x-wmf"/>
  <Override PartName="/ppt/media/image63.wmf" ContentType="image/x-wmf"/>
  <Override PartName="/ppt/media/image66.png" ContentType="image/png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92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682-28F4-42EC-A9D6-8A73938C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D95-B5F8-43BC-AE4F-6C6C01F0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949-6ED9-4575-A05F-4106FEC0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C34-43A3-4979-AAFF-1861E62F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DA2-925D-43EB-9F87-E450E6E5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F9B-15EE-4AF5-9483-EA74C51A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0F3-0E0F-4B1E-96C4-EA66E6D4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F392-BCAB-4E03-ABAA-6F9E3B19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5B1-DB9B-484C-B4E9-5A11DB64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C4F-0D0E-482D-986A-98ACDF6D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3A5-58E1-447A-81C7-EC6CDC26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ECC-7301-414F-A4CC-39392BE7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67C5-E443-4287-B6CA-0ABF5D7984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2.wmf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4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5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0.wmf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7.wmf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6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9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Неопределённый интеграл и его свой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24000" y="5876640"/>
            <a:ext cx="699768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работал: Кравченко Илья Вячеславови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ководитель: Карсакова Е.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403280" y="189000"/>
            <a:ext cx="6553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фтИн (филиал) ФГБОУ ВО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Г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Неопределенный интеграл от алгебраической суммы конечного числа непрерывных функций равен алгебраической сумме интегралов от слагаемых функци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785880" y="3571920"/>
          <a:ext cx="727560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3571920"/>
                    <a:ext cx="72756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Если                                               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                       − произвольная функция, имеющая непрерывную производную.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ое свойство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ариантность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еопределенного интегр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2214720" y="714240"/>
          <a:ext cx="386208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714240"/>
                    <a:ext cx="38620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2"/>
          <p:cNvGraphicFramePr/>
          <p:nvPr/>
        </p:nvGraphicFramePr>
        <p:xfrm>
          <a:off x="1500120" y="2643120"/>
          <a:ext cx="1602000" cy="5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0120" y="2643120"/>
                    <a:ext cx="16020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5"/>
          <p:cNvGraphicFramePr/>
          <p:nvPr/>
        </p:nvGraphicFramePr>
        <p:xfrm>
          <a:off x="2457360" y="1714680"/>
          <a:ext cx="3803760" cy="78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57360" y="1714680"/>
                    <a:ext cx="380376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вычислении неопределенного интеграла   используют формул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Object 2"/>
          <p:cNvGraphicFramePr/>
          <p:nvPr/>
        </p:nvGraphicFramePr>
        <p:xfrm>
          <a:off x="776160" y="3143160"/>
          <a:ext cx="62359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3143160"/>
                    <a:ext cx="6235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"/>
          <p:cNvGraphicFramePr/>
          <p:nvPr/>
        </p:nvGraphicFramePr>
        <p:xfrm>
          <a:off x="7143840" y="3429000"/>
          <a:ext cx="107136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3840" y="3429000"/>
                    <a:ext cx="10713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аблица простейших интегралов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23"/>
          <p:cNvGraphicFramePr/>
          <p:nvPr/>
        </p:nvGraphicFramePr>
        <p:xfrm>
          <a:off x="376200" y="1785960"/>
          <a:ext cx="338472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785960"/>
                    <a:ext cx="33847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22"/>
          <p:cNvGraphicFramePr/>
          <p:nvPr/>
        </p:nvGraphicFramePr>
        <p:xfrm>
          <a:off x="3714840" y="2071800"/>
          <a:ext cx="12859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4840" y="2071800"/>
                    <a:ext cx="12859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1"/>
          <p:cNvGraphicFramePr/>
          <p:nvPr/>
        </p:nvGraphicFramePr>
        <p:xfrm>
          <a:off x="5106960" y="1000080"/>
          <a:ext cx="288756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6960" y="1000080"/>
                    <a:ext cx="28875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20"/>
          <p:cNvGraphicFramePr/>
          <p:nvPr/>
        </p:nvGraphicFramePr>
        <p:xfrm>
          <a:off x="376200" y="2714760"/>
          <a:ext cx="3338640" cy="98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6200" y="2714760"/>
                    <a:ext cx="3338640" cy="98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9"/>
          <p:cNvGraphicFramePr/>
          <p:nvPr/>
        </p:nvGraphicFramePr>
        <p:xfrm>
          <a:off x="5238720" y="1928880"/>
          <a:ext cx="2656080" cy="78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9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38720" y="1928880"/>
                    <a:ext cx="26560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8"/>
          <p:cNvGraphicFramePr/>
          <p:nvPr/>
        </p:nvGraphicFramePr>
        <p:xfrm>
          <a:off x="736560" y="1000080"/>
          <a:ext cx="2260800" cy="73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6560" y="1000080"/>
                    <a:ext cx="226080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7"/>
          <p:cNvGraphicFramePr/>
          <p:nvPr/>
        </p:nvGraphicFramePr>
        <p:xfrm>
          <a:off x="5292720" y="2786040"/>
          <a:ext cx="2716200" cy="80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92720" y="2786040"/>
                    <a:ext cx="27162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6"/>
          <p:cNvGraphicFramePr/>
          <p:nvPr/>
        </p:nvGraphicFramePr>
        <p:xfrm>
          <a:off x="561960" y="3571920"/>
          <a:ext cx="3152880" cy="1003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1960" y="3571920"/>
                    <a:ext cx="31528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5"/>
          <p:cNvGraphicFramePr/>
          <p:nvPr/>
        </p:nvGraphicFramePr>
        <p:xfrm>
          <a:off x="5248440" y="3714840"/>
          <a:ext cx="2947680" cy="733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48440" y="3714840"/>
                    <a:ext cx="29476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4"/>
          <p:cNvGraphicFramePr/>
          <p:nvPr/>
        </p:nvGraphicFramePr>
        <p:xfrm>
          <a:off x="770040" y="4572000"/>
          <a:ext cx="3527280" cy="642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9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70040" y="4572000"/>
                    <a:ext cx="35272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3"/>
          <p:cNvGraphicFramePr/>
          <p:nvPr/>
        </p:nvGraphicFramePr>
        <p:xfrm>
          <a:off x="4962600" y="4572000"/>
          <a:ext cx="3587760" cy="662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1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62600" y="4572000"/>
                    <a:ext cx="358776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12"/>
          <p:cNvGraphicFramePr/>
          <p:nvPr/>
        </p:nvGraphicFramePr>
        <p:xfrm>
          <a:off x="574560" y="5435640"/>
          <a:ext cx="3783240" cy="920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3" name="Object 1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4560" y="5435640"/>
                    <a:ext cx="378324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1"/>
          <p:cNvGraphicFramePr/>
          <p:nvPr/>
        </p:nvGraphicFramePr>
        <p:xfrm>
          <a:off x="4713120" y="5500800"/>
          <a:ext cx="4129200" cy="922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5" name="Object 1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713120" y="5500800"/>
                    <a:ext cx="41292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6"/>
          <p:cNvGraphicFramePr/>
          <p:nvPr/>
        </p:nvGraphicFramePr>
        <p:xfrm>
          <a:off x="2000160" y="642960"/>
          <a:ext cx="565488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642960"/>
                    <a:ext cx="565488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5"/>
          <p:cNvGraphicFramePr/>
          <p:nvPr/>
        </p:nvGraphicFramePr>
        <p:xfrm>
          <a:off x="1833480" y="1785960"/>
          <a:ext cx="519588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3480" y="1785960"/>
                    <a:ext cx="519588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4"/>
          <p:cNvGraphicFramePr/>
          <p:nvPr/>
        </p:nvGraphicFramePr>
        <p:xfrm>
          <a:off x="2071800" y="3000240"/>
          <a:ext cx="534672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71800" y="3000240"/>
                    <a:ext cx="5346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3"/>
          <p:cNvGraphicFramePr/>
          <p:nvPr/>
        </p:nvGraphicFramePr>
        <p:xfrm>
          <a:off x="2000160" y="4286160"/>
          <a:ext cx="5899320" cy="107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0160" y="4286160"/>
                    <a:ext cx="589932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2430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ычисление интегралов с помощью преобразования подынтегрального выражения к табличной форме и использования свойств неопределенного интеграла называется непосредственным интегрирова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357120" y="3289320"/>
            <a:ext cx="82868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помогательные с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6"/>
          <p:cNvGraphicFramePr/>
          <p:nvPr/>
        </p:nvGraphicFramePr>
        <p:xfrm>
          <a:off x="428760" y="4071960"/>
          <a:ext cx="400500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4071960"/>
                    <a:ext cx="40050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5"/>
          <p:cNvGraphicFramePr/>
          <p:nvPr/>
        </p:nvGraphicFramePr>
        <p:xfrm>
          <a:off x="500040" y="5072040"/>
          <a:ext cx="2928960" cy="12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5072040"/>
                    <a:ext cx="292896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4"/>
          <p:cNvGraphicFramePr/>
          <p:nvPr/>
        </p:nvGraphicFramePr>
        <p:xfrm>
          <a:off x="4643280" y="3929040"/>
          <a:ext cx="2786400" cy="12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3929040"/>
                    <a:ext cx="278640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3"/>
          <p:cNvGraphicFramePr/>
          <p:nvPr/>
        </p:nvGraphicFramePr>
        <p:xfrm>
          <a:off x="4143240" y="5286240"/>
          <a:ext cx="3516480" cy="100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5286240"/>
                    <a:ext cx="3516480" cy="10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1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я таблицу и свойства интегралов, найти интегра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357120" y="1643040"/>
          <a:ext cx="865044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643040"/>
                    <a:ext cx="865044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9"/>
          <p:cNvGraphicFramePr/>
          <p:nvPr/>
        </p:nvGraphicFramePr>
        <p:xfrm>
          <a:off x="1071720" y="2928960"/>
          <a:ext cx="2293920" cy="107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2928960"/>
                    <a:ext cx="22939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4"/>
          <p:cNvGraphicFramePr/>
          <p:nvPr/>
        </p:nvGraphicFramePr>
        <p:xfrm>
          <a:off x="185760" y="4000680"/>
          <a:ext cx="3247920" cy="75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760" y="4000680"/>
                    <a:ext cx="32479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11"/>
          <p:cNvGraphicFramePr/>
          <p:nvPr/>
        </p:nvGraphicFramePr>
        <p:xfrm>
          <a:off x="3500280" y="4000680"/>
          <a:ext cx="2932200" cy="750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0280" y="4000680"/>
                    <a:ext cx="293220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12"/>
          <p:cNvGraphicFramePr/>
          <p:nvPr/>
        </p:nvGraphicFramePr>
        <p:xfrm>
          <a:off x="285840" y="4786200"/>
          <a:ext cx="359388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5840" y="4786200"/>
                    <a:ext cx="35938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3"/>
          <p:cNvGraphicFramePr/>
          <p:nvPr/>
        </p:nvGraphicFramePr>
        <p:xfrm>
          <a:off x="3786120" y="4500720"/>
          <a:ext cx="5173560" cy="106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86120" y="4500720"/>
                    <a:ext cx="51735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5"/>
          <p:cNvGraphicFramePr/>
          <p:nvPr/>
        </p:nvGraphicFramePr>
        <p:xfrm>
          <a:off x="307800" y="642960"/>
          <a:ext cx="295308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642960"/>
                    <a:ext cx="29530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3"/>
          <p:cNvGraphicFramePr/>
          <p:nvPr/>
        </p:nvGraphicFramePr>
        <p:xfrm>
          <a:off x="395280" y="3429000"/>
          <a:ext cx="237168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3429000"/>
                    <a:ext cx="23716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8"/>
          <p:cNvGraphicFramePr/>
          <p:nvPr/>
        </p:nvGraphicFramePr>
        <p:xfrm>
          <a:off x="3290760" y="500040"/>
          <a:ext cx="5281920" cy="99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90760" y="500040"/>
                    <a:ext cx="528192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9"/>
          <p:cNvGraphicFramePr/>
          <p:nvPr/>
        </p:nvGraphicFramePr>
        <p:xfrm>
          <a:off x="582480" y="1339920"/>
          <a:ext cx="4829400" cy="18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2480" y="1339920"/>
                    <a:ext cx="482940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10"/>
          <p:cNvGraphicFramePr/>
          <p:nvPr/>
        </p:nvGraphicFramePr>
        <p:xfrm>
          <a:off x="3143160" y="3429000"/>
          <a:ext cx="4664160" cy="92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43160" y="3429000"/>
                    <a:ext cx="46641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1"/>
          <p:cNvGraphicFramePr/>
          <p:nvPr/>
        </p:nvGraphicFramePr>
        <p:xfrm>
          <a:off x="1722600" y="4714920"/>
          <a:ext cx="2912760" cy="1071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22600" y="4714920"/>
                    <a:ext cx="291276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533520" y="3214800"/>
          <a:ext cx="2582640" cy="10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14800"/>
                    <a:ext cx="258264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1"/>
          <p:cNvGraphicFramePr/>
          <p:nvPr/>
        </p:nvGraphicFramePr>
        <p:xfrm>
          <a:off x="627120" y="1785960"/>
          <a:ext cx="254304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785960"/>
                    <a:ext cx="25430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3638520" y="1928880"/>
          <a:ext cx="3097080" cy="7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8520" y="1928880"/>
                    <a:ext cx="30970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5"/>
          <p:cNvGraphicFramePr/>
          <p:nvPr/>
        </p:nvGraphicFramePr>
        <p:xfrm>
          <a:off x="3500280" y="3286080"/>
          <a:ext cx="4257720" cy="107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0280" y="3286080"/>
                    <a:ext cx="425772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посредственное интегр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 интегрирования, при котором данный интеграл путем тождественных преобразований подынтегральной функции (или выражения) и применения свойств неопределенного интеграла приводится к одному или нескольким табличным интегралам, называетс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непосредствен-ным интегрирова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 Основные методы вычисления неопределенных интегра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вообразная функц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07136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. Функция                      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вообраз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ля функции                   на данном промежутке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;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если для любого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из этого промежут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"/>
          <p:cNvGraphicFramePr/>
          <p:nvPr/>
        </p:nvGraphicFramePr>
        <p:xfrm>
          <a:off x="4071960" y="1143000"/>
          <a:ext cx="1407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1960" y="1143000"/>
                    <a:ext cx="1407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6381720" y="1685880"/>
          <a:ext cx="133344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1720" y="1685880"/>
                    <a:ext cx="13334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7"/>
          <p:cNvGraphicFramePr/>
          <p:nvPr/>
        </p:nvGraphicFramePr>
        <p:xfrm>
          <a:off x="833400" y="3143160"/>
          <a:ext cx="261000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3400" y="3143160"/>
                    <a:ext cx="2610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2"/>
          <p:cNvGraphicFramePr/>
          <p:nvPr/>
        </p:nvGraphicFramePr>
        <p:xfrm>
          <a:off x="3286080" y="4214880"/>
          <a:ext cx="201924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6080" y="4214880"/>
                    <a:ext cx="20192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1"/>
          <p:cNvGraphicFramePr/>
          <p:nvPr/>
        </p:nvGraphicFramePr>
        <p:xfrm>
          <a:off x="6500880" y="4643280"/>
          <a:ext cx="2286000" cy="82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00880" y="4643280"/>
                    <a:ext cx="2286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10"/>
          <p:cNvGraphicFramePr/>
          <p:nvPr/>
        </p:nvGraphicFramePr>
        <p:xfrm>
          <a:off x="357120" y="5286240"/>
          <a:ext cx="1803600" cy="46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20" y="5286240"/>
                    <a:ext cx="18036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9"/>
          <p:cNvGraphicFramePr/>
          <p:nvPr/>
        </p:nvGraphicFramePr>
        <p:xfrm>
          <a:off x="3881520" y="5214960"/>
          <a:ext cx="2452680" cy="1073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1520" y="5214960"/>
                    <a:ext cx="245268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13"/>
          <p:cNvSpPr/>
          <p:nvPr/>
        </p:nvSpPr>
        <p:spPr>
          <a:xfrm>
            <a:off x="500040" y="3723840"/>
            <a:ext cx="792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ме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ервообразной для фун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всей числовой оси явл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к 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17"/>
          <p:cNvGraphicFramePr/>
          <p:nvPr/>
        </p:nvGraphicFramePr>
        <p:xfrm>
          <a:off x="4894200" y="3143160"/>
          <a:ext cx="3214800" cy="57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6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94200" y="3143160"/>
                    <a:ext cx="32148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сведении данного интеграла к табличному часто используется следующее преобразование дифференциала (операци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одведения под знак дифференциала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2428920" y="2857680"/>
          <a:ext cx="380988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2857680"/>
                    <a:ext cx="38098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1211400" y="3946680"/>
          <a:ext cx="281448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1400" y="3946680"/>
                    <a:ext cx="28144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4"/>
          <p:cNvGraphicFramePr/>
          <p:nvPr/>
        </p:nvGraphicFramePr>
        <p:xfrm>
          <a:off x="4589640" y="3929040"/>
          <a:ext cx="2023920" cy="58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89640" y="3929040"/>
                    <a:ext cx="20239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5"/>
          <p:cNvGraphicFramePr/>
          <p:nvPr/>
        </p:nvGraphicFramePr>
        <p:xfrm>
          <a:off x="1020600" y="4432320"/>
          <a:ext cx="3432240" cy="12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20600" y="4432320"/>
                    <a:ext cx="343224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6"/>
          <p:cNvGraphicFramePr/>
          <p:nvPr/>
        </p:nvGraphicFramePr>
        <p:xfrm>
          <a:off x="4673520" y="4732200"/>
          <a:ext cx="360540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73520" y="4732200"/>
                    <a:ext cx="36054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7"/>
          <p:cNvGraphicFramePr/>
          <p:nvPr/>
        </p:nvGraphicFramePr>
        <p:xfrm>
          <a:off x="1146240" y="5786280"/>
          <a:ext cx="370836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6240" y="5786280"/>
                    <a:ext cx="37083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Object 2"/>
          <p:cNvGraphicFramePr/>
          <p:nvPr/>
        </p:nvGraphicFramePr>
        <p:xfrm>
          <a:off x="428760" y="1357200"/>
          <a:ext cx="3809880" cy="9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357200"/>
                    <a:ext cx="380988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3"/>
          <p:cNvGraphicFramePr/>
          <p:nvPr/>
        </p:nvGraphicFramePr>
        <p:xfrm>
          <a:off x="428760" y="3857760"/>
          <a:ext cx="5645160" cy="114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760" y="3857760"/>
                    <a:ext cx="564516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7"/>
          <p:cNvGraphicFramePr/>
          <p:nvPr/>
        </p:nvGraphicFramePr>
        <p:xfrm>
          <a:off x="4214880" y="1214280"/>
          <a:ext cx="446040" cy="121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14880" y="1214280"/>
                    <a:ext cx="44604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8"/>
          <p:cNvGraphicFramePr/>
          <p:nvPr/>
        </p:nvGraphicFramePr>
        <p:xfrm>
          <a:off x="4500720" y="1357200"/>
          <a:ext cx="4359240" cy="90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3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00720" y="1357200"/>
                    <a:ext cx="435924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9"/>
          <p:cNvGraphicFramePr/>
          <p:nvPr/>
        </p:nvGraphicFramePr>
        <p:xfrm>
          <a:off x="571680" y="2428920"/>
          <a:ext cx="3741480" cy="128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5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1680" y="2428920"/>
                    <a:ext cx="374148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10"/>
          <p:cNvGraphicFramePr/>
          <p:nvPr/>
        </p:nvGraphicFramePr>
        <p:xfrm>
          <a:off x="571680" y="5214960"/>
          <a:ext cx="3438360" cy="1146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7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1680" y="5214960"/>
                    <a:ext cx="343836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Object 4"/>
          <p:cNvGraphicFramePr/>
          <p:nvPr/>
        </p:nvGraphicFramePr>
        <p:xfrm>
          <a:off x="214200" y="1285920"/>
          <a:ext cx="8715600" cy="12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1285920"/>
                    <a:ext cx="871560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"/>
          <p:cNvGraphicFramePr/>
          <p:nvPr/>
        </p:nvGraphicFramePr>
        <p:xfrm>
          <a:off x="571680" y="2571840"/>
          <a:ext cx="3547800" cy="122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680" y="2571840"/>
                    <a:ext cx="354780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357120" y="1745640"/>
            <a:ext cx="87012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 замены переменной (метод подстановки) состоит в преобразовании интеграла                             в другой интегр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торый вычисляется проще, чем исходный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тегрирование заменой переменн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" name="Object 2"/>
          <p:cNvGraphicFramePr/>
          <p:nvPr/>
        </p:nvGraphicFramePr>
        <p:xfrm>
          <a:off x="2643120" y="2714760"/>
          <a:ext cx="142740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3120" y="2714760"/>
                    <a:ext cx="14274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"/>
          <p:cNvGraphicFramePr/>
          <p:nvPr/>
        </p:nvGraphicFramePr>
        <p:xfrm>
          <a:off x="3500280" y="3397320"/>
          <a:ext cx="1562400" cy="74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3397320"/>
                    <a:ext cx="15624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285840" y="928800"/>
          <a:ext cx="7719840" cy="20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928800"/>
                    <a:ext cx="771984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7"/>
          <p:cNvGraphicFramePr/>
          <p:nvPr/>
        </p:nvGraphicFramePr>
        <p:xfrm>
          <a:off x="611280" y="2595600"/>
          <a:ext cx="706896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595600"/>
                    <a:ext cx="706896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8"/>
          <p:cNvGraphicFramePr/>
          <p:nvPr/>
        </p:nvGraphicFramePr>
        <p:xfrm>
          <a:off x="500040" y="4071960"/>
          <a:ext cx="3807000" cy="121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40" y="4071960"/>
                    <a:ext cx="380700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Object 3"/>
          <p:cNvGraphicFramePr/>
          <p:nvPr/>
        </p:nvGraphicFramePr>
        <p:xfrm>
          <a:off x="357120" y="0"/>
          <a:ext cx="772020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0"/>
                    <a:ext cx="77202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8"/>
          <p:cNvGraphicFramePr/>
          <p:nvPr/>
        </p:nvGraphicFramePr>
        <p:xfrm>
          <a:off x="360360" y="2271600"/>
          <a:ext cx="785664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0360" y="2271600"/>
                    <a:ext cx="785664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9"/>
          <p:cNvGraphicFramePr/>
          <p:nvPr/>
        </p:nvGraphicFramePr>
        <p:xfrm>
          <a:off x="357120" y="3571920"/>
          <a:ext cx="3979800" cy="12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20" y="3571920"/>
                    <a:ext cx="397980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4"/>
          <p:cNvGraphicFramePr/>
          <p:nvPr/>
        </p:nvGraphicFramePr>
        <p:xfrm>
          <a:off x="285840" y="285840"/>
          <a:ext cx="8512200" cy="259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285840"/>
                    <a:ext cx="85122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3"/>
          <p:cNvGraphicFramePr/>
          <p:nvPr/>
        </p:nvGraphicFramePr>
        <p:xfrm>
          <a:off x="611280" y="3335400"/>
          <a:ext cx="7861320" cy="121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1280" y="3335400"/>
                    <a:ext cx="786132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"/>
          <p:cNvGraphicFramePr/>
          <p:nvPr/>
        </p:nvGraphicFramePr>
        <p:xfrm>
          <a:off x="714240" y="4643280"/>
          <a:ext cx="4221360" cy="134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4240" y="4643280"/>
                    <a:ext cx="422136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тегрирование по част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4200" y="1285560"/>
            <a:ext cx="8715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                    и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дифференцируемые функции, называ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рмулой интегрирования по частя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 интегрирования по частям целесообразно применять, ес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е прост в вычислении, ч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Object 1"/>
          <p:cNvGraphicFramePr/>
          <p:nvPr/>
        </p:nvGraphicFramePr>
        <p:xfrm>
          <a:off x="2571840" y="1285920"/>
          <a:ext cx="30146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1840" y="1285920"/>
                    <a:ext cx="30146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7"/>
          <p:cNvGraphicFramePr/>
          <p:nvPr/>
        </p:nvGraphicFramePr>
        <p:xfrm>
          <a:off x="1357200" y="2000160"/>
          <a:ext cx="14511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2000160"/>
                    <a:ext cx="14511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6"/>
          <p:cNvGraphicFramePr/>
          <p:nvPr/>
        </p:nvGraphicFramePr>
        <p:xfrm>
          <a:off x="3286080" y="2000160"/>
          <a:ext cx="138132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6080" y="2000160"/>
                    <a:ext cx="13813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5"/>
          <p:cNvGraphicFramePr/>
          <p:nvPr/>
        </p:nvGraphicFramePr>
        <p:xfrm>
          <a:off x="5559480" y="4460760"/>
          <a:ext cx="122544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59480" y="4460760"/>
                    <a:ext cx="12254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4"/>
          <p:cNvGraphicFramePr/>
          <p:nvPr/>
        </p:nvGraphicFramePr>
        <p:xfrm>
          <a:off x="5775480" y="5572080"/>
          <a:ext cx="1296720" cy="927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75480" y="5572080"/>
                    <a:ext cx="12967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которые типы интегралов, которые можно вычислять методом интегрирования по ча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гралы в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                 − многочлен,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полаг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          обозначают остальные сомножит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7" name="Object 7"/>
          <p:cNvGraphicFramePr/>
          <p:nvPr/>
        </p:nvGraphicFramePr>
        <p:xfrm>
          <a:off x="4572000" y="2286000"/>
          <a:ext cx="33195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86000"/>
                    <a:ext cx="33195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6"/>
          <p:cNvGraphicFramePr/>
          <p:nvPr/>
        </p:nvGraphicFramePr>
        <p:xfrm>
          <a:off x="1428840" y="2357280"/>
          <a:ext cx="299376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8840" y="2357280"/>
                    <a:ext cx="29937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5"/>
          <p:cNvGraphicFramePr/>
          <p:nvPr/>
        </p:nvGraphicFramePr>
        <p:xfrm>
          <a:off x="6369120" y="1530360"/>
          <a:ext cx="2274840" cy="72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69120" y="1530360"/>
                    <a:ext cx="22748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4"/>
          <p:cNvGraphicFramePr/>
          <p:nvPr/>
        </p:nvGraphicFramePr>
        <p:xfrm>
          <a:off x="3949560" y="1525680"/>
          <a:ext cx="2479680" cy="80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49560" y="1525680"/>
                    <a:ext cx="24796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2"/>
          <p:cNvGraphicFramePr/>
          <p:nvPr/>
        </p:nvGraphicFramePr>
        <p:xfrm>
          <a:off x="1246320" y="3357720"/>
          <a:ext cx="145080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6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46320" y="3357720"/>
                    <a:ext cx="14508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3"/>
          <p:cNvGraphicFramePr/>
          <p:nvPr/>
        </p:nvGraphicFramePr>
        <p:xfrm>
          <a:off x="3362400" y="4000680"/>
          <a:ext cx="1633320" cy="500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62400" y="4000680"/>
                    <a:ext cx="16333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1000080" y="4500720"/>
          <a:ext cx="687600" cy="596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0080" y="4500720"/>
                    <a:ext cx="687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68868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Интегралы в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полаг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 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обозначают остальные сомножит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Интегралы в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− чи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 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принять функци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2" name="Object 7"/>
          <p:cNvGraphicFramePr/>
          <p:nvPr/>
        </p:nvGraphicFramePr>
        <p:xfrm>
          <a:off x="3786120" y="642960"/>
          <a:ext cx="277668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6120" y="642960"/>
                    <a:ext cx="277668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285840" y="1285920"/>
          <a:ext cx="3160800" cy="74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1285920"/>
                    <a:ext cx="31608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5"/>
          <p:cNvGraphicFramePr/>
          <p:nvPr/>
        </p:nvGraphicFramePr>
        <p:xfrm>
          <a:off x="6572160" y="642960"/>
          <a:ext cx="23655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72160" y="642960"/>
                    <a:ext cx="2365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4"/>
          <p:cNvGraphicFramePr/>
          <p:nvPr/>
        </p:nvGraphicFramePr>
        <p:xfrm>
          <a:off x="3429000" y="1285920"/>
          <a:ext cx="2727360" cy="71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1285920"/>
                    <a:ext cx="27273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3"/>
          <p:cNvGraphicFramePr/>
          <p:nvPr/>
        </p:nvGraphicFramePr>
        <p:xfrm>
          <a:off x="6215040" y="1357200"/>
          <a:ext cx="2600280" cy="642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15040" y="1357200"/>
                    <a:ext cx="26002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7"/>
          <p:cNvGraphicFramePr/>
          <p:nvPr/>
        </p:nvGraphicFramePr>
        <p:xfrm>
          <a:off x="3898800" y="2457360"/>
          <a:ext cx="2220840" cy="54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98800" y="2457360"/>
                    <a:ext cx="2220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8"/>
          <p:cNvGraphicFramePr/>
          <p:nvPr/>
        </p:nvGraphicFramePr>
        <p:xfrm>
          <a:off x="4000680" y="3571920"/>
          <a:ext cx="2333520" cy="745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00680" y="3571920"/>
                    <a:ext cx="23335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9"/>
          <p:cNvGraphicFramePr/>
          <p:nvPr/>
        </p:nvGraphicFramePr>
        <p:xfrm>
          <a:off x="6586560" y="3571920"/>
          <a:ext cx="2278080" cy="745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86560" y="3571920"/>
                    <a:ext cx="227808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10"/>
          <p:cNvGraphicFramePr/>
          <p:nvPr/>
        </p:nvGraphicFramePr>
        <p:xfrm>
          <a:off x="6429240" y="4643280"/>
          <a:ext cx="857520" cy="677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29240" y="4643280"/>
                    <a:ext cx="8575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1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1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орема 1.1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функция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f(x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ерывна на данном интервале, то на этом интервале она имеет первообразну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еорема 1.2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функция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первообразной функции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;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о множество всех первообразных для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адается формулой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+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− постоянная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ычислить неопределенные интегралы методом интегрирования по частям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Object 4"/>
          <p:cNvGraphicFramePr/>
          <p:nvPr/>
        </p:nvGraphicFramePr>
        <p:xfrm>
          <a:off x="357120" y="1571760"/>
          <a:ext cx="832176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571760"/>
                    <a:ext cx="83217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6"/>
          <p:cNvGraphicFramePr/>
          <p:nvPr/>
        </p:nvGraphicFramePr>
        <p:xfrm>
          <a:off x="285840" y="3000240"/>
          <a:ext cx="4500360" cy="68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3000240"/>
                    <a:ext cx="450036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7"/>
          <p:cNvGraphicFramePr/>
          <p:nvPr/>
        </p:nvGraphicFramePr>
        <p:xfrm>
          <a:off x="357120" y="3929040"/>
          <a:ext cx="4265640" cy="4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20" y="3929040"/>
                    <a:ext cx="426564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642960" y="411336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произвольная постоянная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28760" y="1011240"/>
            <a:ext cx="80722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овокупность всех первообраз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данно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ывается ее неопределенным интегралом и обознач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определенный интегр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6429240" y="1500120"/>
          <a:ext cx="109080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240" y="1500120"/>
                    <a:ext cx="10908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3"/>
          <p:cNvGraphicFramePr/>
          <p:nvPr/>
        </p:nvGraphicFramePr>
        <p:xfrm>
          <a:off x="642960" y="1571760"/>
          <a:ext cx="17143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1571760"/>
                    <a:ext cx="17143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2"/>
          <p:cNvGraphicFramePr/>
          <p:nvPr/>
        </p:nvGraphicFramePr>
        <p:xfrm>
          <a:off x="3032280" y="3249720"/>
          <a:ext cx="394308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32280" y="3249720"/>
                    <a:ext cx="39430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"/>
          <p:cNvGraphicFramePr/>
          <p:nvPr/>
        </p:nvGraphicFramePr>
        <p:xfrm>
          <a:off x="1623960" y="4214880"/>
          <a:ext cx="73332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3960" y="4214880"/>
                    <a:ext cx="7333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1428840" y="1143000"/>
                <a:ext cx="476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3"/>
              <p:cNvSpPr txBox="1"/>
              <p:nvPr/>
            </p:nvSpPr>
            <p:spPr>
              <a:xfrm>
                <a:off x="1143000" y="1857240"/>
                <a:ext cx="857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2"/>
              <p:cNvSpPr txBox="1"/>
              <p:nvPr/>
            </p:nvSpPr>
            <p:spPr>
              <a:xfrm>
                <a:off x="857160" y="2571840"/>
                <a:ext cx="12286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"/>
              <p:cNvSpPr txBox="1"/>
              <p:nvPr/>
            </p:nvSpPr>
            <p:spPr>
              <a:xfrm>
                <a:off x="1143000" y="3357720"/>
                <a:ext cx="500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5"/>
          <p:cNvSpPr/>
          <p:nvPr/>
        </p:nvSpPr>
        <p:spPr>
          <a:xfrm>
            <a:off x="285840" y="114444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071800" y="114444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теграл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фун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143080" y="18579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ынтегральной функци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2214720" y="250092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ынтегральным выражение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571680" y="4071960"/>
            <a:ext cx="7858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ерация нахождения неопределенного интеграла для данной функции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тегрирование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й фун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тегрирование – операция, обратная операции дифференц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3"/>
          <p:cNvSpPr/>
          <p:nvPr/>
        </p:nvSpPr>
        <p:spPr>
          <a:xfrm>
            <a:off x="2286000" y="32860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менной интегриров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73196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Дифференциал от неопределенного интеграла равен подынтегральному выражению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сновные свойства неопределенного интегр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2286000" y="3429000"/>
          <a:ext cx="503244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429000"/>
                    <a:ext cx="50324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426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роизводная неопределенного интеграла равна подынтегральной функ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ьность интегрирования проверяется дифференцирование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3143160" y="1857240"/>
          <a:ext cx="3232080" cy="9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1857240"/>
                    <a:ext cx="323208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еопределенный интеграл от дифференциала некоторой функции равен сумме этой функции и произвольной постоянно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Object 8"/>
          <p:cNvGraphicFramePr/>
          <p:nvPr/>
        </p:nvGraphicFramePr>
        <p:xfrm>
          <a:off x="1857240" y="3214800"/>
          <a:ext cx="58770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3214800"/>
                    <a:ext cx="5877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Постоянный множитель можно выносить за знак интегра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Object 8"/>
          <p:cNvGraphicFramePr/>
          <p:nvPr/>
        </p:nvGraphicFramePr>
        <p:xfrm>
          <a:off x="1714680" y="2357280"/>
          <a:ext cx="59623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2357280"/>
                    <a:ext cx="5962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7:35:00Z</dcterms:created>
  <dc:creator>Лена</dc:creator>
  <dc:description/>
  <dc:language>en-US</dc:language>
  <cp:lastModifiedBy>Пользователь Windows</cp:lastModifiedBy>
  <dcterms:modified xsi:type="dcterms:W3CDTF">2023-11-18T10:39:59Z</dcterms:modified>
  <cp:revision>72</cp:revision>
  <dc:subject/>
  <dc:title>НЕОПРЕДЕЛЕННЫЙ ИНТЕГРАЛ</dc:title>
</cp:coreProperties>
</file>