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56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A4C3-5627-4883-9E43-239BCBC4F1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717E-3629-4DAD-9010-DB4400B93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FD0-D0FA-4A2D-B430-32499AD6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4B8-3B36-4DF8-8379-22BF1DCA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D7774-EF87-4AFE-BB8B-D29268B3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3FA89-8423-4E99-AA79-1AC1A323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15C99-8917-4819-9CB9-D8DAA872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3EBE0-2B8E-4B8F-9BC3-CC61B31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0EF8-883C-45CE-BFA6-416CC37C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403DF-3AD6-4E22-A440-A6253C69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428ED-A96D-4317-B3F8-CEEC2A2F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96C47-D843-40B5-B3DD-71315FDB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4854E-A696-464A-924A-8127656F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E905-84EF-4CB3-9A2B-21E30CA8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809-C4AE-4AAB-8AF5-E1DFA37D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45247-648A-45A8-A48A-9FBE0F84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95925-017A-4B56-9ECF-21E8208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20A60-5C2B-403E-B465-F0AF9F3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107AE-5C93-423A-B3A2-714417F2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01FE4-2AC3-4F94-B672-A41642B5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813C8-ABA5-420A-9354-0051C84C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0F1C7-D428-4EDF-A015-4F555E6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CD3FD-E07C-4FA7-9BF2-112C7159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44BA3-3802-4084-974D-BCC18345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7B3B0-EF70-4B97-B189-C535153D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D51-071E-403F-AC67-40170CD6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3B9D6-9550-41D3-ABA0-2E6CF4B3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FB056-EDCB-4E16-93C8-7B0ECC54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03157-CF4B-4E4A-A0C4-AD98032F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9F7FD-4F49-42FC-8AF3-5E3E7370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87AD7-80DE-4453-9B57-102A3B8C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9F0BF-7A56-4067-B36D-12340628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2B6A3-8A03-46E5-8F0A-AB2ADBAD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7B918-329A-4275-9F9E-0514F07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7618D-F043-4D68-931C-C5528B9C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6B43C-E7CA-4AC2-9E03-844D406F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466-A40A-465E-B2B7-76FD14BC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8B53D-64CE-4D16-B24D-F430CFE4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5F79A-0451-4EE5-9996-7D702B16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28C01-2F23-4989-A69A-665C5C65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401C8-D3A0-410A-9F7C-AF2728E3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7C15D-6D7B-4179-B458-800A0EC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960F6-46DE-4E13-BF34-711BBAD2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2F8B4-DC02-44C5-B24C-F872E7D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04CA3-4FFF-462B-89A9-1651865B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49F0-03C9-44E8-86FD-138AB1B2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FDF8F-3F73-42E2-A798-281E87F1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4C91-5C83-480E-9FF5-1D3C1558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736F9-289F-4DBE-8CBE-21BE9535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9147A-A068-4BFD-88CF-6135FFA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CECCE-FC9C-4A0E-A36A-CF46729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8DEE2-C30B-48A6-968A-4AC4724E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3BBA8-118D-492B-BA46-23972287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7E8-7C3B-4A57-88AC-632B75F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C992-8096-4C41-B0B3-F9A2BFB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35A8-BA88-43C2-BC59-D13E3E7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83E5-66D9-40D8-8160-55192F4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E0B1-2832-40B2-AD85-5DA6605B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7DF-0A51-48E1-9C0D-3BF9AB36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B991-32C0-495E-89AB-1B285EA9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CD0C-9C28-4CE5-8D69-F88C8DC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A91-FE6A-4C64-A60C-2545D75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F59F-9A4D-43DE-94C0-57F70FD4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7656-5E2F-485D-B5C0-F2F389E1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1912-11F2-4050-921C-7FD18A0B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4B6F-4988-481E-97DA-DA718CA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A4417-AE70-4107-921C-BB37C337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F6A0-06F0-44AB-94A5-D69B245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658A-26F3-42D6-B22E-D3B6BDA7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D98-6A5C-4F34-AF40-6640B86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43AA-8AB7-432B-BC23-AD32C82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105B-DFF3-4E8A-A576-98CFA72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ECF96-CB21-4807-B22A-F58EF4E8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1F94-C6AD-49EA-A29A-8B0AB5A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7EF79-7E39-40E6-9D8D-FD349A3F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F725-A187-4F12-B525-BBB1705C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0386-5C5C-4083-BCA8-C0A2F4C0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D2CC-1B83-4B98-BCA3-34060585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7D733-8672-458E-A1BF-A4A2C662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7EB9-9F7A-40C3-8128-CBD2571F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D49-9D83-4C17-9321-9013580E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B405-931E-4AB9-8F0D-EEAB328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1B268-2121-4BFA-AAC9-53410625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B19A-22CC-4908-9C3C-BC63986D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4B38-FF6F-45D6-83BC-B63E274E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2039-F452-4EE9-9655-0004D4B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2053-C823-49A3-8980-5D59E0B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2889-1305-4F28-BD1C-134E36EB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41AD-5155-475D-88B0-D176407A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97B4-486C-4E8A-BED0-DE07AD4C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E25B0-8DDA-4BB2-A514-71E40B53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6BB-6FA4-4012-9005-BA7488C3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7704-F4AC-458F-AE31-203E8C49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83E1-852B-4BA3-AF4D-ADD3EC3E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2E88-218E-47EA-9633-1D52994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1C6E-68F9-49ED-96D3-A5A64327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EBCB-304D-4C39-9CE1-DC80A775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8C50-F53F-4C1C-8E0C-A457072E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2FC1-4030-4872-99AE-8A46AE9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7786-2951-4979-9177-9445DEBA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C0CD-61BD-4D40-A4D9-866D4A2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4A723-AEA1-4FE0-B919-FE7F7729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FBF-D480-4D5F-8177-C324D2B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2561-B2C7-4E91-ACD6-09B509B0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42D57-6247-48BF-8B85-9550650F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230C-9B7F-43A8-A37D-9AEBE8E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80B8F-53ED-42BE-8861-F6C8C131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BAF3C-04C2-4A03-A6FC-2B6F4151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60B3-EABB-499A-A772-34E8F978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4392-6237-496A-96C1-D27BD832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83FF1-7A14-4493-BCE4-76BDBA7C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9F75A-B823-40BF-A374-E0323535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EAABA-4598-4BBC-81C1-80CB079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F7F-7E33-4786-B2AE-41B17E7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8FDB-DD6D-4E4F-AB62-02A67C33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2618-326C-4124-85DF-0BC30692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A03F-1FBF-4647-88B7-1081E1C1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342CA-526E-4854-A8B8-6A4E578F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474F9-0A22-4C5A-9075-44FD59ED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D56E-48B4-467E-BB40-27504ED5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D6E1B-AD62-4993-9054-EDD0B4A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35F5-78BA-4883-A60A-5454D60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CF6F2-8903-4928-A2E5-90878B50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ACFFB-3EF1-464F-B7A6-AEA5344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766-442C-42EF-906D-7D6015B4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380E8-7C2C-456A-9BF2-F6F6E7C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F56F-CA68-4917-9CA0-95741F3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823B5-22DB-496A-A456-C515F094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1AA3-ECC0-47FC-953B-727B229F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A3BC-DD01-4429-82B1-8C52C70D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B8C6A-83C9-42C1-B125-F72BA48A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D62CF-EA68-4686-9DFB-5CE8C68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80739-F3EB-4BD5-A0FF-AD6B7A6D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451D1-E028-4E1F-B143-67CABF76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4D469-FE72-4D6B-94D8-2523031F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6FB-E967-4D16-8494-307F920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FACC-C7CC-4EA5-AFF0-BBABF045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048F-97B8-48B4-949A-F11E8DB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ECBFB-8778-4759-B2C2-EB8F0CEC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B9610-F768-4CCD-B4A7-764D8376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579BB-5006-4EF0-86BE-4D337B5A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B7D12-DF37-4667-BE26-2254693C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CAAC7-59CB-42A3-BEC4-E617E2D1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C0B76-AF18-46F5-976D-42F62120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40400-076F-4BE4-BD68-62F92E1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0538E-5096-4B51-95DC-69B5163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FAC-D9F0-4607-80D6-44FB35F051D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AD5-FD42-45CB-9E3A-20CC645407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4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6350-4DB7-44F0-8E93-E38C0ED3F1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9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8655-A81B-4C07-B046-6917A69EB7F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11"/>
          <p:cNvSpPr/>
          <p:nvPr/>
        </p:nvSpPr>
        <p:spPr>
          <a:xfrm>
            <a:off x="71280" y="71280"/>
            <a:ext cx="5572440" cy="235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Verdana"/>
              </a:rPr>
              <a:t>Ст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логических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(второй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DDDA-5D30-4076-8B6A-DFA885132EA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72A-A76A-4EC3-B467-608BD2A8AD3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3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8D73-E537-42AB-9681-EE83E316C25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8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C09-CCE5-41CF-B173-5C8A75AF9E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8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4371-0BEB-45EE-93BE-73B437CFE6C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7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566-6C3C-418F-B925-EBBA8D9F44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DA2C-9BC1-4419-B203-98280374050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6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AA5-D910-4CC6-8A50-8412C21B89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image" Target="../media/image36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image" Target="../media/image34.png"/><Relationship Id="rId19" Type="http://schemas.openxmlformats.org/officeDocument/2006/relationships/image" Target="../media/image34.png"/><Relationship Id="rId20" Type="http://schemas.openxmlformats.org/officeDocument/2006/relationships/image" Target="../media/image34.png"/><Relationship Id="rId21" Type="http://schemas.openxmlformats.org/officeDocument/2006/relationships/image" Target="../media/image34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image" Target="../media/image39.png"/><Relationship Id="rId25" Type="http://schemas.openxmlformats.org/officeDocument/2006/relationships/image" Target="../media/image36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85.xml"/><Relationship Id="rId2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" Target="slide3.xm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072440" y="-1161720"/>
            <a:ext cx="1571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571320"/>
            <a:ext cx="8115480" cy="5981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  <a:ea typeface="DFKai-SB"/>
              </a:rPr>
              <a:t>100 логических задач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  <a:ea typeface="DFKai-SB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Verdana"/>
                <a:ea typeface="DFKai-SB"/>
              </a:rPr>
              <a:t>по математике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  <a:ea typeface="DFKai-SB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643760" y="1533240"/>
            <a:ext cx="142920" cy="501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Рисунок 4" descr="силуэт3.gif"/>
          <p:cNvPicPr/>
          <p:nvPr/>
        </p:nvPicPr>
        <p:blipFill>
          <a:blip r:embed="rId1"/>
          <a:stretch/>
        </p:blipFill>
        <p:spPr>
          <a:xfrm>
            <a:off x="1928880" y="2639880"/>
            <a:ext cx="1171440" cy="305748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5" descr="силуэт3.gif"/>
          <p:cNvPicPr/>
          <p:nvPr/>
        </p:nvPicPr>
        <p:blipFill>
          <a:blip r:embed="rId2"/>
          <a:stretch/>
        </p:blipFill>
        <p:spPr>
          <a:xfrm>
            <a:off x="3876840" y="2925720"/>
            <a:ext cx="1062000" cy="277164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6" descr="силуэт3.gif"/>
          <p:cNvPicPr/>
          <p:nvPr/>
        </p:nvPicPr>
        <p:blipFill>
          <a:blip r:embed="rId3"/>
          <a:stretch/>
        </p:blipFill>
        <p:spPr>
          <a:xfrm>
            <a:off x="5715000" y="3354480"/>
            <a:ext cx="898560" cy="2342880"/>
          </a:xfrm>
          <a:prstGeom prst="rect">
            <a:avLst/>
          </a:prstGeom>
          <a:ln w="0">
            <a:noFill/>
          </a:ln>
        </p:spPr>
      </p:pic>
      <p:sp>
        <p:nvSpPr>
          <p:cNvPr id="622" name="Скругленный прямоугольник 10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1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семье три брата - Ваня, Саша и Коля. Ваня был не старше Коли, а Саша не старше Вани. Назови имена старшего, среднего и младшего брать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C:\Documents and Settings\Игорь\Мои документы\Картинки\Прозрачные\Прозрачный фон.gif"/>
          <p:cNvPicPr/>
          <p:nvPr/>
        </p:nvPicPr>
        <p:blipFill>
          <a:blip r:embed="rId4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Группа 14"/>
          <p:cNvGrpSpPr/>
          <p:nvPr/>
        </p:nvGrpSpPr>
        <p:grpSpPr>
          <a:xfrm>
            <a:off x="7155720" y="2761200"/>
            <a:ext cx="2131200" cy="3144240"/>
            <a:chOff x="7155720" y="2761200"/>
            <a:chExt cx="2131200" cy="3144240"/>
          </a:xfrm>
        </p:grpSpPr>
        <p:pic>
          <p:nvPicPr>
            <p:cNvPr id="626" name="Рисунок 2" descr="умка.gif"/>
            <p:cNvPicPr/>
            <p:nvPr/>
          </p:nvPicPr>
          <p:blipFill>
            <a:blip r:embed="rId1"/>
            <a:stretch/>
          </p:blipFill>
          <p:spPr>
            <a:xfrm flipH="1">
              <a:off x="7831080" y="3642840"/>
              <a:ext cx="1455840" cy="22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Прямоугольник 6"/>
            <p:cNvSpPr/>
            <p:nvPr/>
          </p:nvSpPr>
          <p:spPr>
            <a:xfrm rot="20969400">
              <a:off x="7202160" y="2886120"/>
              <a:ext cx="1428840" cy="642960"/>
            </a:xfrm>
            <a:prstGeom prst="rect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Сев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Прямая соединительная линия 8"/>
            <p:cNvSpPr/>
            <p:nvPr/>
          </p:nvSpPr>
          <p:spPr>
            <a:xfrm>
              <a:off x="7975440" y="3524040"/>
              <a:ext cx="311040" cy="1190520"/>
            </a:xfrm>
            <a:prstGeom prst="line">
              <a:avLst/>
            </a:prstGeom>
            <a:ln w="604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Группа 10"/>
          <p:cNvGrpSpPr/>
          <p:nvPr/>
        </p:nvGrpSpPr>
        <p:grpSpPr>
          <a:xfrm>
            <a:off x="-571680" y="2357280"/>
            <a:ext cx="2600640" cy="3786480"/>
            <a:chOff x="-571680" y="2357280"/>
            <a:chExt cx="2600640" cy="3786480"/>
          </a:xfrm>
        </p:grpSpPr>
        <p:pic>
          <p:nvPicPr>
            <p:cNvPr id="630" name="Рисунок 3" descr="tree_shlp4.gif"/>
            <p:cNvPicPr/>
            <p:nvPr/>
          </p:nvPicPr>
          <p:blipFill>
            <a:blip r:embed="rId2"/>
            <a:stretch/>
          </p:blipFill>
          <p:spPr>
            <a:xfrm>
              <a:off x="-571680" y="2357280"/>
              <a:ext cx="2571840" cy="378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Рисунок 4" descr="tree_shlp41.gif"/>
            <p:cNvPicPr/>
            <p:nvPr/>
          </p:nvPicPr>
          <p:blipFill>
            <a:blip r:embed="rId3"/>
            <a:stretch/>
          </p:blipFill>
          <p:spPr>
            <a:xfrm flipH="1" rot="834600">
              <a:off x="585720" y="3785400"/>
              <a:ext cx="1231920" cy="19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Прямоугольник 9"/>
            <p:cNvSpPr/>
            <p:nvPr/>
          </p:nvSpPr>
          <p:spPr>
            <a:xfrm rot="318000">
              <a:off x="88200" y="3887640"/>
              <a:ext cx="1211400" cy="484200"/>
            </a:xfrm>
            <a:prstGeom prst="rect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Verdana"/>
                </a:rPr>
                <a:t>Ю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Рисунок 11" descr="Безимени-1.gif"/>
          <p:cNvPicPr/>
          <p:nvPr/>
        </p:nvPicPr>
        <p:blipFill>
          <a:blip r:embed="rId4"/>
          <a:stretch/>
        </p:blipFill>
        <p:spPr>
          <a:xfrm>
            <a:off x="4572000" y="3224160"/>
            <a:ext cx="1442880" cy="2705040"/>
          </a:xfrm>
          <a:prstGeom prst="rect">
            <a:avLst/>
          </a:prstGeom>
          <a:ln w="0">
            <a:noFill/>
          </a:ln>
        </p:spPr>
      </p:pic>
      <p:pic>
        <p:nvPicPr>
          <p:cNvPr id="634" name="Рисунок 12" descr="Безимени-2.gif"/>
          <p:cNvPicPr/>
          <p:nvPr/>
        </p:nvPicPr>
        <p:blipFill>
          <a:blip r:embed="rId5"/>
          <a:stretch/>
        </p:blipFill>
        <p:spPr>
          <a:xfrm>
            <a:off x="3143160" y="3287880"/>
            <a:ext cx="1214640" cy="2498400"/>
          </a:xfrm>
          <a:prstGeom prst="rect">
            <a:avLst/>
          </a:prstGeom>
          <a:ln w="0">
            <a:noFill/>
          </a:ln>
        </p:spPr>
      </p:pic>
      <p:sp>
        <p:nvSpPr>
          <p:cNvPr id="635" name="Скругленный прямоугольник 15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6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тоят два человечка. Один смотрит на юг, другой на север. Могут ли они увидеть друг друга, не поворачивая головы, не употребляя зеркал или каких – либо приспособл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C:\Documents and Settings\Игорь\Мои документы\Картинки\Прозрачные\Прозрачный фон.gif"/>
          <p:cNvPicPr/>
          <p:nvPr/>
        </p:nvPicPr>
        <p:blipFill>
          <a:blip r:embed="rId6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7428E-006 L 0.15295 -0.00393 E">
                                      <p:cBhvr>
                                        <p:cTn id="371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22942E-006 L -0.14965 -2.22942E-006 E">
                                      <p:cBhvr>
                                        <p:cTn id="37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Прямая соединительная линия 4"/>
          <p:cNvSpPr/>
          <p:nvPr/>
        </p:nvSpPr>
        <p:spPr>
          <a:xfrm flipV="1">
            <a:off x="0" y="2571840"/>
            <a:ext cx="9501120" cy="3643200"/>
          </a:xfrm>
          <a:prstGeom prst="line">
            <a:avLst/>
          </a:prstGeom>
          <a:ln w="254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Рисунок 48" descr="дерево.png"/>
          <p:cNvPicPr/>
          <p:nvPr/>
        </p:nvPicPr>
        <p:blipFill>
          <a:blip r:embed="rId1"/>
          <a:stretch/>
        </p:blipFill>
        <p:spPr>
          <a:xfrm>
            <a:off x="4000680" y="435780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55" descr="дерево.png"/>
          <p:cNvPicPr/>
          <p:nvPr/>
        </p:nvPicPr>
        <p:blipFill>
          <a:blip r:embed="rId2"/>
          <a:stretch/>
        </p:blipFill>
        <p:spPr>
          <a:xfrm>
            <a:off x="7000920" y="321480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56" descr="дерево.png"/>
          <p:cNvPicPr/>
          <p:nvPr/>
        </p:nvPicPr>
        <p:blipFill>
          <a:blip r:embed="rId3"/>
          <a:stretch/>
        </p:blipFill>
        <p:spPr>
          <a:xfrm>
            <a:off x="7429680" y="307188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57" descr="дерево.png"/>
          <p:cNvPicPr/>
          <p:nvPr/>
        </p:nvPicPr>
        <p:blipFill>
          <a:blip r:embed="rId4"/>
          <a:stretch/>
        </p:blipFill>
        <p:spPr>
          <a:xfrm>
            <a:off x="7786800" y="2857680"/>
            <a:ext cx="357120" cy="71424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ая соединительная линия 8"/>
          <p:cNvSpPr/>
          <p:nvPr/>
        </p:nvSpPr>
        <p:spPr>
          <a:xfrm>
            <a:off x="-214200" y="3143160"/>
            <a:ext cx="6643440" cy="3857760"/>
          </a:xfrm>
          <a:prstGeom prst="line">
            <a:avLst/>
          </a:prstGeom>
          <a:ln w="254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Рисунок 14" descr="дом1.gif"/>
          <p:cNvPicPr/>
          <p:nvPr/>
        </p:nvPicPr>
        <p:blipFill>
          <a:blip r:embed="rId5"/>
          <a:stretch/>
        </p:blipFill>
        <p:spPr>
          <a:xfrm>
            <a:off x="-420840" y="2743200"/>
            <a:ext cx="1670040" cy="304812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37" descr="дерево.png"/>
          <p:cNvPicPr/>
          <p:nvPr/>
        </p:nvPicPr>
        <p:blipFill>
          <a:blip r:embed="rId6"/>
          <a:stretch/>
        </p:blipFill>
        <p:spPr>
          <a:xfrm rot="20738400">
            <a:off x="3852360" y="4619160"/>
            <a:ext cx="387360" cy="89064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38" descr="дерево.png"/>
          <p:cNvPicPr/>
          <p:nvPr/>
        </p:nvPicPr>
        <p:blipFill>
          <a:blip r:embed="rId7"/>
          <a:stretch/>
        </p:blipFill>
        <p:spPr>
          <a:xfrm rot="20738400">
            <a:off x="4100040" y="4752720"/>
            <a:ext cx="387360" cy="89064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39" descr="дерево.png"/>
          <p:cNvPicPr/>
          <p:nvPr/>
        </p:nvPicPr>
        <p:blipFill>
          <a:blip r:embed="rId8"/>
          <a:stretch/>
        </p:blipFill>
        <p:spPr>
          <a:xfrm rot="20738400">
            <a:off x="4346280" y="4886280"/>
            <a:ext cx="388800" cy="89064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40" descr="дерево.png"/>
          <p:cNvPicPr/>
          <p:nvPr/>
        </p:nvPicPr>
        <p:blipFill>
          <a:blip r:embed="rId9"/>
          <a:stretch/>
        </p:blipFill>
        <p:spPr>
          <a:xfrm rot="20738400">
            <a:off x="4593960" y="5018040"/>
            <a:ext cx="388800" cy="89064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41" descr="дерево.png"/>
          <p:cNvPicPr/>
          <p:nvPr/>
        </p:nvPicPr>
        <p:blipFill>
          <a:blip r:embed="rId10"/>
          <a:stretch/>
        </p:blipFill>
        <p:spPr>
          <a:xfrm rot="20738400">
            <a:off x="4841640" y="5151600"/>
            <a:ext cx="388800" cy="89028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42" descr="дерево.png"/>
          <p:cNvPicPr/>
          <p:nvPr/>
        </p:nvPicPr>
        <p:blipFill>
          <a:blip r:embed="rId11"/>
          <a:stretch/>
        </p:blipFill>
        <p:spPr>
          <a:xfrm rot="20738400">
            <a:off x="5089320" y="5284800"/>
            <a:ext cx="388800" cy="89064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43" descr="дерево.png"/>
          <p:cNvPicPr/>
          <p:nvPr/>
        </p:nvPicPr>
        <p:blipFill>
          <a:blip r:embed="rId12"/>
          <a:stretch/>
        </p:blipFill>
        <p:spPr>
          <a:xfrm rot="20738400">
            <a:off x="5336640" y="5416560"/>
            <a:ext cx="389160" cy="890640"/>
          </a:xfrm>
          <a:prstGeom prst="rect">
            <a:avLst/>
          </a:prstGeom>
          <a:ln w="0">
            <a:noFill/>
          </a:ln>
        </p:spPr>
      </p:pic>
      <p:pic>
        <p:nvPicPr>
          <p:cNvPr id="652" name="Рисунок 44" descr="дерево.png"/>
          <p:cNvPicPr/>
          <p:nvPr/>
        </p:nvPicPr>
        <p:blipFill>
          <a:blip r:embed="rId13"/>
          <a:stretch/>
        </p:blipFill>
        <p:spPr>
          <a:xfrm rot="20738400">
            <a:off x="5584320" y="5549400"/>
            <a:ext cx="387360" cy="890640"/>
          </a:xfrm>
          <a:prstGeom prst="rect">
            <a:avLst/>
          </a:prstGeom>
          <a:ln w="0">
            <a:noFill/>
          </a:ln>
        </p:spPr>
      </p:pic>
      <p:pic>
        <p:nvPicPr>
          <p:cNvPr id="653" name="Рисунок 45" descr="дерево.png"/>
          <p:cNvPicPr/>
          <p:nvPr/>
        </p:nvPicPr>
        <p:blipFill>
          <a:blip r:embed="rId14"/>
          <a:stretch/>
        </p:blipFill>
        <p:spPr>
          <a:xfrm rot="20738400">
            <a:off x="5832360" y="5682960"/>
            <a:ext cx="387360" cy="888840"/>
          </a:xfrm>
          <a:prstGeom prst="rect">
            <a:avLst/>
          </a:prstGeom>
          <a:ln w="0">
            <a:noFill/>
          </a:ln>
        </p:spPr>
      </p:pic>
      <p:pic>
        <p:nvPicPr>
          <p:cNvPr id="654" name="Рисунок 46" descr="дерево.png"/>
          <p:cNvPicPr/>
          <p:nvPr/>
        </p:nvPicPr>
        <p:blipFill>
          <a:blip r:embed="rId15"/>
          <a:stretch/>
        </p:blipFill>
        <p:spPr>
          <a:xfrm rot="20738400">
            <a:off x="6079680" y="5814720"/>
            <a:ext cx="387360" cy="890640"/>
          </a:xfrm>
          <a:prstGeom prst="rect">
            <a:avLst/>
          </a:prstGeom>
          <a:ln w="0">
            <a:noFill/>
          </a:ln>
        </p:spPr>
      </p:pic>
      <p:pic>
        <p:nvPicPr>
          <p:cNvPr id="655" name="Рисунок 49" descr="дерево.png"/>
          <p:cNvPicPr/>
          <p:nvPr/>
        </p:nvPicPr>
        <p:blipFill>
          <a:blip r:embed="rId16"/>
          <a:stretch/>
        </p:blipFill>
        <p:spPr>
          <a:xfrm>
            <a:off x="4857840" y="407196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56" name="Рисунок 50" descr="дерево.png"/>
          <p:cNvPicPr/>
          <p:nvPr/>
        </p:nvPicPr>
        <p:blipFill>
          <a:blip r:embed="rId17"/>
          <a:stretch/>
        </p:blipFill>
        <p:spPr>
          <a:xfrm>
            <a:off x="4429080" y="421488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57" name="Рисунок 51" descr="дерево.png"/>
          <p:cNvPicPr/>
          <p:nvPr/>
        </p:nvPicPr>
        <p:blipFill>
          <a:blip r:embed="rId18"/>
          <a:stretch/>
        </p:blipFill>
        <p:spPr>
          <a:xfrm>
            <a:off x="5286240" y="3857760"/>
            <a:ext cx="357480" cy="714240"/>
          </a:xfrm>
          <a:prstGeom prst="rect">
            <a:avLst/>
          </a:prstGeom>
          <a:ln w="0">
            <a:noFill/>
          </a:ln>
        </p:spPr>
      </p:pic>
      <p:pic>
        <p:nvPicPr>
          <p:cNvPr id="658" name="Рисунок 52" descr="дерево.png"/>
          <p:cNvPicPr/>
          <p:nvPr/>
        </p:nvPicPr>
        <p:blipFill>
          <a:blip r:embed="rId19"/>
          <a:stretch/>
        </p:blipFill>
        <p:spPr>
          <a:xfrm>
            <a:off x="6143760" y="357192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59" name="Рисунок 53" descr="дерево.png"/>
          <p:cNvPicPr/>
          <p:nvPr/>
        </p:nvPicPr>
        <p:blipFill>
          <a:blip r:embed="rId20"/>
          <a:stretch/>
        </p:blipFill>
        <p:spPr>
          <a:xfrm>
            <a:off x="5715000" y="3714840"/>
            <a:ext cx="357120" cy="714240"/>
          </a:xfrm>
          <a:prstGeom prst="rect">
            <a:avLst/>
          </a:prstGeom>
          <a:ln w="0">
            <a:noFill/>
          </a:ln>
        </p:spPr>
      </p:pic>
      <p:pic>
        <p:nvPicPr>
          <p:cNvPr id="660" name="Рисунок 54" descr="дерево.png"/>
          <p:cNvPicPr/>
          <p:nvPr/>
        </p:nvPicPr>
        <p:blipFill>
          <a:blip r:embed="rId21"/>
          <a:stretch/>
        </p:blipFill>
        <p:spPr>
          <a:xfrm>
            <a:off x="6572160" y="3357720"/>
            <a:ext cx="357120" cy="714240"/>
          </a:xfrm>
          <a:prstGeom prst="rect">
            <a:avLst/>
          </a:prstGeom>
          <a:ln w="0">
            <a:noFill/>
          </a:ln>
        </p:spPr>
      </p:pic>
      <p:grpSp>
        <p:nvGrpSpPr>
          <p:cNvPr id="661" name="Группа 66"/>
          <p:cNvGrpSpPr/>
          <p:nvPr/>
        </p:nvGrpSpPr>
        <p:grpSpPr>
          <a:xfrm>
            <a:off x="2643120" y="3857760"/>
            <a:ext cx="523800" cy="1572840"/>
            <a:chOff x="2643120" y="3857760"/>
            <a:chExt cx="523800" cy="1572840"/>
          </a:xfrm>
        </p:grpSpPr>
        <p:sp>
          <p:nvSpPr>
            <p:cNvPr id="662" name="Прямая соединительная линия 63"/>
            <p:cNvSpPr/>
            <p:nvPr/>
          </p:nvSpPr>
          <p:spPr>
            <a:xfrm flipV="1">
              <a:off x="2998800" y="4428720"/>
              <a:ext cx="1440" cy="1001880"/>
            </a:xfrm>
            <a:prstGeom prst="line">
              <a:avLst/>
            </a:prstGeom>
            <a:ln w="4752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Рисунок 61" descr="светофор.gif"/>
            <p:cNvPicPr/>
            <p:nvPr/>
          </p:nvPicPr>
          <p:blipFill>
            <a:blip r:embed="rId22"/>
            <a:stretch/>
          </p:blipFill>
          <p:spPr>
            <a:xfrm>
              <a:off x="2643120" y="3857760"/>
              <a:ext cx="523800" cy="80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4" name="Рисунок 65" descr="клумба.gif"/>
          <p:cNvPicPr/>
          <p:nvPr/>
        </p:nvPicPr>
        <p:blipFill>
          <a:blip r:embed="rId23"/>
          <a:stretch/>
        </p:blipFill>
        <p:spPr>
          <a:xfrm rot="20313000">
            <a:off x="0" y="5143680"/>
            <a:ext cx="1214280" cy="561960"/>
          </a:xfrm>
          <a:prstGeom prst="rect">
            <a:avLst/>
          </a:prstGeom>
          <a:ln w="0">
            <a:noFill/>
          </a:ln>
        </p:spPr>
      </p:pic>
      <p:pic>
        <p:nvPicPr>
          <p:cNvPr id="665" name="Рисунок 68" descr="газон.gif"/>
          <p:cNvPicPr/>
          <p:nvPr/>
        </p:nvPicPr>
        <p:blipFill>
          <a:blip r:embed="rId24"/>
          <a:stretch/>
        </p:blipFill>
        <p:spPr>
          <a:xfrm>
            <a:off x="798480" y="5492880"/>
            <a:ext cx="4121280" cy="2030400"/>
          </a:xfrm>
          <a:prstGeom prst="rect">
            <a:avLst/>
          </a:prstGeom>
          <a:ln w="0">
            <a:noFill/>
          </a:ln>
        </p:spPr>
      </p:pic>
      <p:sp>
        <p:nvSpPr>
          <p:cNvPr id="666" name="Скругленный прямоугольник 33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34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Имеется перекрёсток двух дорог. Вдоль каждой из дорог, по одну сторону на этом перекрёстке надо посадить по 11 деревьев. Каково наименьшее количество деревьев, которые можно посадить, выполняя это зад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28" descr="дерево.png"/>
          <p:cNvPicPr/>
          <p:nvPr/>
        </p:nvPicPr>
        <p:blipFill>
          <a:blip r:embed="rId25"/>
          <a:stretch/>
        </p:blipFill>
        <p:spPr>
          <a:xfrm rot="21295800">
            <a:off x="3605040" y="4487400"/>
            <a:ext cx="387360" cy="8906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C:\Documents and Settings\Игорь\Мои документы\Картинки\Прозрачные\Прозрачный фон.gif"/>
          <p:cNvPicPr/>
          <p:nvPr/>
        </p:nvPicPr>
        <p:blipFill>
          <a:blip r:embed="rId26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2" dur="2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296E-006 L -0.00989 -0.19815 E">
                                      <p:cBhvr>
                                        <p:cTn id="504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Рисунок 2" descr="knitting-1.jpg"/>
          <p:cNvPicPr/>
          <p:nvPr/>
        </p:nvPicPr>
        <p:blipFill>
          <a:blip r:embed="rId1"/>
          <a:stretch/>
        </p:blipFill>
        <p:spPr>
          <a:xfrm>
            <a:off x="3571920" y="2071800"/>
            <a:ext cx="3052800" cy="2214360"/>
          </a:xfrm>
          <a:prstGeom prst="rect">
            <a:avLst/>
          </a:prstGeom>
          <a:ln w="0">
            <a:noFill/>
          </a:ln>
        </p:spPr>
      </p:pic>
      <p:pic>
        <p:nvPicPr>
          <p:cNvPr id="671" name="Рисунок 3" descr="шапка.gif"/>
          <p:cNvPicPr/>
          <p:nvPr/>
        </p:nvPicPr>
        <p:blipFill>
          <a:blip r:embed="rId2"/>
          <a:stretch/>
        </p:blipFill>
        <p:spPr>
          <a:xfrm rot="20310000">
            <a:off x="204840" y="3354480"/>
            <a:ext cx="1751040" cy="1751040"/>
          </a:xfrm>
          <a:prstGeom prst="rect">
            <a:avLst/>
          </a:prstGeom>
          <a:ln w="0">
            <a:noFill/>
          </a:ln>
        </p:spPr>
      </p:pic>
      <p:pic>
        <p:nvPicPr>
          <p:cNvPr id="672" name="Рисунок 4" descr="шапка2.gif"/>
          <p:cNvPicPr/>
          <p:nvPr/>
        </p:nvPicPr>
        <p:blipFill>
          <a:blip r:embed="rId3"/>
          <a:stretch/>
        </p:blipFill>
        <p:spPr>
          <a:xfrm rot="502800">
            <a:off x="2075040" y="3747600"/>
            <a:ext cx="1514160" cy="1127160"/>
          </a:xfrm>
          <a:prstGeom prst="rect">
            <a:avLst/>
          </a:prstGeom>
          <a:ln w="0">
            <a:noFill/>
          </a:ln>
        </p:spPr>
      </p:pic>
      <p:pic>
        <p:nvPicPr>
          <p:cNvPr id="673" name="Рисунок 5" descr="варежки.gif"/>
          <p:cNvPicPr/>
          <p:nvPr/>
        </p:nvPicPr>
        <p:blipFill>
          <a:blip r:embed="rId4"/>
          <a:stretch/>
        </p:blipFill>
        <p:spPr>
          <a:xfrm rot="20267400">
            <a:off x="6003720" y="3688920"/>
            <a:ext cx="2452680" cy="1633680"/>
          </a:xfrm>
          <a:prstGeom prst="rect">
            <a:avLst/>
          </a:prstGeom>
          <a:ln w="0">
            <a:noFill/>
          </a:ln>
        </p:spPr>
      </p:pic>
      <p:sp>
        <p:nvSpPr>
          <p:cNvPr id="674" name="Скругленный прямоугольник 8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9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Алла, Вера и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Галя связали две шапки и варежки. Алла и Вера вязали разные вещи, Вера и Галя - тоже. Что вязала каждая дев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C:\Documents and Settings\Игорь\Мои документы\Картинки\Прозрачные\Прозрачный фон.gif"/>
          <p:cNvPicPr/>
          <p:nvPr/>
        </p:nvPicPr>
        <p:blipFill>
          <a:blip r:embed="rId5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Группа 11"/>
          <p:cNvGrpSpPr/>
          <p:nvPr/>
        </p:nvGrpSpPr>
        <p:grpSpPr>
          <a:xfrm>
            <a:off x="5142600" y="3572280"/>
            <a:ext cx="4000680" cy="2525040"/>
            <a:chOff x="5142600" y="3572280"/>
            <a:chExt cx="4000680" cy="2525040"/>
          </a:xfrm>
        </p:grpSpPr>
        <p:pic>
          <p:nvPicPr>
            <p:cNvPr id="678" name="Рисунок 3" descr="горн.gif"/>
            <p:cNvPicPr/>
            <p:nvPr/>
          </p:nvPicPr>
          <p:blipFill>
            <a:blip r:embed="rId1"/>
            <a:stretch/>
          </p:blipFill>
          <p:spPr>
            <a:xfrm rot="18006000">
              <a:off x="6960240" y="3236760"/>
              <a:ext cx="1065960" cy="319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Рисунок 6" descr="горн.gif"/>
            <p:cNvPicPr/>
            <p:nvPr/>
          </p:nvPicPr>
          <p:blipFill>
            <a:blip r:embed="rId2"/>
            <a:stretch/>
          </p:blipFill>
          <p:spPr>
            <a:xfrm rot="15066600">
              <a:off x="6270120" y="3435840"/>
              <a:ext cx="1043640" cy="31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0" name="Группа 9"/>
          <p:cNvGrpSpPr/>
          <p:nvPr/>
        </p:nvGrpSpPr>
        <p:grpSpPr>
          <a:xfrm>
            <a:off x="-160200" y="2757240"/>
            <a:ext cx="5049360" cy="3446640"/>
            <a:chOff x="-160200" y="2757240"/>
            <a:chExt cx="5049360" cy="3446640"/>
          </a:xfrm>
        </p:grpSpPr>
        <p:pic>
          <p:nvPicPr>
            <p:cNvPr id="681" name="Рисунок 2" descr="барабан.gif"/>
            <p:cNvPicPr/>
            <p:nvPr/>
          </p:nvPicPr>
          <p:blipFill>
            <a:blip r:embed="rId3"/>
            <a:stretch/>
          </p:blipFill>
          <p:spPr>
            <a:xfrm rot="1271400">
              <a:off x="149400" y="3159000"/>
              <a:ext cx="2636640" cy="22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Рисунок 5" descr="барабан.gif"/>
            <p:cNvPicPr/>
            <p:nvPr/>
          </p:nvPicPr>
          <p:blipFill>
            <a:blip r:embed="rId4"/>
            <a:stretch/>
          </p:blipFill>
          <p:spPr>
            <a:xfrm rot="20315400">
              <a:off x="1891440" y="3548160"/>
              <a:ext cx="2680200" cy="22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Рисунок 4" descr="барабан.gif"/>
            <p:cNvPicPr/>
            <p:nvPr/>
          </p:nvPicPr>
          <p:blipFill>
            <a:blip r:embed="rId5"/>
            <a:stretch/>
          </p:blipFill>
          <p:spPr>
            <a:xfrm>
              <a:off x="499680" y="3857040"/>
              <a:ext cx="2668680" cy="223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4" name="Скругленный прямоугольник 12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 Лёвы, Гены, Васи, Толи и Миши были три барабана и два горна. Какой музыкальный инструмент был у каждого мальчика, если у Гены и Васи, а также у Лёвы и Толи были разные инструменты, а у Гены и Лёвы – как у Ми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2" descr="C:\Documents and Settings\Игорь\Мои документы\Картинки\Прозрачные\Прозрачный фон.gif"/>
          <p:cNvPicPr/>
          <p:nvPr/>
        </p:nvPicPr>
        <p:blipFill>
          <a:blip r:embed="rId6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рямая соединительная линия 9"/>
          <p:cNvSpPr/>
          <p:nvPr/>
        </p:nvSpPr>
        <p:spPr>
          <a:xfrm>
            <a:off x="642960" y="4573440"/>
            <a:ext cx="0" cy="784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ая соединительная линия 11"/>
          <p:cNvSpPr/>
          <p:nvPr/>
        </p:nvSpPr>
        <p:spPr>
          <a:xfrm flipH="1">
            <a:off x="8643960" y="2286000"/>
            <a:ext cx="1440" cy="143028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рямая соединительная линия 13"/>
          <p:cNvSpPr/>
          <p:nvPr/>
        </p:nvSpPr>
        <p:spPr>
          <a:xfrm flipH="1">
            <a:off x="7213680" y="2571840"/>
            <a:ext cx="1440" cy="6429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15"/>
          <p:cNvSpPr/>
          <p:nvPr/>
        </p:nvSpPr>
        <p:spPr>
          <a:xfrm flipV="1">
            <a:off x="642960" y="3642840"/>
            <a:ext cx="8001000" cy="1714680"/>
          </a:xfrm>
          <a:prstGeom prst="line">
            <a:avLst/>
          </a:prstGeom>
          <a:ln w="50760">
            <a:solidFill>
              <a:srgbClr val="ff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ая соединительная линия 18"/>
          <p:cNvSpPr/>
          <p:nvPr/>
        </p:nvSpPr>
        <p:spPr>
          <a:xfrm flipV="1">
            <a:off x="7215120" y="2643120"/>
            <a:ext cx="1428840" cy="357120"/>
          </a:xfrm>
          <a:prstGeom prst="line">
            <a:avLst/>
          </a:prstGeom>
          <a:ln w="50760">
            <a:solidFill>
              <a:srgbClr val="ff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Рисунок 7" descr="бревно.gif"/>
          <p:cNvPicPr/>
          <p:nvPr/>
        </p:nvPicPr>
        <p:blipFill>
          <a:blip r:embed="rId1"/>
          <a:stretch/>
        </p:blipFill>
        <p:spPr>
          <a:xfrm rot="20997600">
            <a:off x="360000" y="3449160"/>
            <a:ext cx="8580600" cy="785880"/>
          </a:xfrm>
          <a:prstGeom prst="rect">
            <a:avLst/>
          </a:prstGeom>
          <a:ln w="0">
            <a:noFill/>
          </a:ln>
        </p:spPr>
      </p:pic>
      <p:pic>
        <p:nvPicPr>
          <p:cNvPr id="693" name="Рисунок 20" descr="пила.gif"/>
          <p:cNvPicPr/>
          <p:nvPr/>
        </p:nvPicPr>
        <p:blipFill>
          <a:blip r:embed="rId2"/>
          <a:stretch/>
        </p:blipFill>
        <p:spPr>
          <a:xfrm flipH="1" rot="538800">
            <a:off x="6297480" y="2610000"/>
            <a:ext cx="1494000" cy="1037880"/>
          </a:xfrm>
          <a:prstGeom prst="rect">
            <a:avLst/>
          </a:prstGeom>
          <a:ln w="0">
            <a:noFill/>
          </a:ln>
        </p:spPr>
      </p:pic>
      <p:sp>
        <p:nvSpPr>
          <p:cNvPr id="694" name="TextBox 21"/>
          <p:cNvSpPr/>
          <p:nvPr/>
        </p:nvSpPr>
        <p:spPr>
          <a:xfrm rot="20897400">
            <a:off x="3324600" y="405432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2"/>
          <p:cNvSpPr/>
          <p:nvPr/>
        </p:nvSpPr>
        <p:spPr>
          <a:xfrm rot="20773800">
            <a:off x="7313040" y="2441520"/>
            <a:ext cx="1031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Группа 44"/>
          <p:cNvGrpSpPr/>
          <p:nvPr/>
        </p:nvGrpSpPr>
        <p:grpSpPr>
          <a:xfrm>
            <a:off x="1143720" y="4165200"/>
            <a:ext cx="7311240" cy="2069280"/>
            <a:chOff x="1143720" y="4165200"/>
            <a:chExt cx="7311240" cy="2069280"/>
          </a:xfrm>
        </p:grpSpPr>
        <p:sp>
          <p:nvSpPr>
            <p:cNvPr id="697" name="Блок-схема: память с прямым доступом 36"/>
            <p:cNvSpPr/>
            <p:nvPr/>
          </p:nvSpPr>
          <p:spPr>
            <a:xfrm rot="20813400">
              <a:off x="1173240" y="5711040"/>
              <a:ext cx="1167120" cy="396000"/>
            </a:xfrm>
            <a:prstGeom prst="flowChartMagneticDrum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Блок-схема: память с прямым доступом 37"/>
            <p:cNvSpPr/>
            <p:nvPr/>
          </p:nvSpPr>
          <p:spPr>
            <a:xfrm rot="20813400">
              <a:off x="2379960" y="5420520"/>
              <a:ext cx="1167120" cy="396000"/>
            </a:xfrm>
            <a:prstGeom prst="flowChartMagneticDrum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Блок-схема: память с прямым доступом 38"/>
            <p:cNvSpPr/>
            <p:nvPr/>
          </p:nvSpPr>
          <p:spPr>
            <a:xfrm rot="20813400">
              <a:off x="3607560" y="5143680"/>
              <a:ext cx="1167120" cy="396000"/>
            </a:xfrm>
            <a:prstGeom prst="flowChartMagneticDrum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Блок-схема: память с прямым доступом 39"/>
            <p:cNvSpPr/>
            <p:nvPr/>
          </p:nvSpPr>
          <p:spPr>
            <a:xfrm rot="20813400">
              <a:off x="4816800" y="4850280"/>
              <a:ext cx="1167120" cy="396000"/>
            </a:xfrm>
            <a:prstGeom prst="flowChartMagneticDrum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Блок-схема: память с прямым доступом 40"/>
            <p:cNvSpPr/>
            <p:nvPr/>
          </p:nvSpPr>
          <p:spPr>
            <a:xfrm rot="20813400">
              <a:off x="6044040" y="4576680"/>
              <a:ext cx="1167120" cy="396000"/>
            </a:xfrm>
            <a:prstGeom prst="flowChartMagneticDrum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Блок-схема: память с прямым доступом 41"/>
            <p:cNvSpPr/>
            <p:nvPr/>
          </p:nvSpPr>
          <p:spPr>
            <a:xfrm rot="20813400">
              <a:off x="7257960" y="4291920"/>
              <a:ext cx="1167120" cy="396000"/>
            </a:xfrm>
            <a:prstGeom prst="flowChartMagneticDrum">
              <a:avLst/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Box 43"/>
          <p:cNvSpPr/>
          <p:nvPr/>
        </p:nvSpPr>
        <p:spPr>
          <a:xfrm>
            <a:off x="6858000" y="6072120"/>
            <a:ext cx="207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расп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Прямая со стрелкой 46"/>
          <p:cNvCxnSpPr/>
          <p:nvPr/>
        </p:nvCxnSpPr>
        <p:spPr>
          <a:xfrm flipH="1" flipV="1">
            <a:off x="2428560" y="6000480"/>
            <a:ext cx="4286880" cy="35784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05" name="Прямая со стрелкой 48"/>
          <p:cNvCxnSpPr/>
          <p:nvPr/>
        </p:nvCxnSpPr>
        <p:spPr>
          <a:xfrm flipH="1" flipV="1">
            <a:off x="3714480" y="5715000"/>
            <a:ext cx="3000960" cy="6433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06" name="Прямая со стрелкой 50"/>
          <p:cNvCxnSpPr/>
          <p:nvPr/>
        </p:nvCxnSpPr>
        <p:spPr>
          <a:xfrm flipH="1" flipV="1">
            <a:off x="4857120" y="5428800"/>
            <a:ext cx="1857960" cy="92952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07" name="Прямая со стрелкой 52"/>
          <p:cNvCxnSpPr/>
          <p:nvPr/>
        </p:nvCxnSpPr>
        <p:spPr>
          <a:xfrm flipH="1" flipV="1">
            <a:off x="6072120" y="5142960"/>
            <a:ext cx="643320" cy="121500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708" name="Прямая со стрелкой 54"/>
          <p:cNvCxnSpPr/>
          <p:nvPr/>
        </p:nvCxnSpPr>
        <p:spPr>
          <a:xfrm flipV="1">
            <a:off x="6714000" y="4857120"/>
            <a:ext cx="500760" cy="1500840"/>
          </a:xfrm>
          <a:prstGeom prst="straightConnector1">
            <a:avLst/>
          </a:prstGeom>
          <a:ln w="507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09" name="TextBox 66"/>
          <p:cNvSpPr/>
          <p:nvPr/>
        </p:nvSpPr>
        <p:spPr>
          <a:xfrm rot="20773800">
            <a:off x="7238520" y="4314600"/>
            <a:ext cx="87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67"/>
          <p:cNvSpPr/>
          <p:nvPr/>
        </p:nvSpPr>
        <p:spPr>
          <a:xfrm rot="20773800">
            <a:off x="6024240" y="4600440"/>
            <a:ext cx="87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68"/>
          <p:cNvSpPr/>
          <p:nvPr/>
        </p:nvSpPr>
        <p:spPr>
          <a:xfrm rot="20773800">
            <a:off x="4809600" y="4886280"/>
            <a:ext cx="87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69"/>
          <p:cNvSpPr/>
          <p:nvPr/>
        </p:nvSpPr>
        <p:spPr>
          <a:xfrm rot="20773800">
            <a:off x="3595320" y="5171760"/>
            <a:ext cx="87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70"/>
          <p:cNvSpPr/>
          <p:nvPr/>
        </p:nvSpPr>
        <p:spPr>
          <a:xfrm rot="20773800">
            <a:off x="2381040" y="5457600"/>
            <a:ext cx="87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71"/>
          <p:cNvSpPr/>
          <p:nvPr/>
        </p:nvSpPr>
        <p:spPr>
          <a:xfrm rot="20773800">
            <a:off x="1166400" y="5743440"/>
            <a:ext cx="87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Скругленный прямоугольник 33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аждую минуту от бревна отпиливают метровый кусок.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 сколько минут распилят на такие куски бревно длиной 6 метр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C:\Documents and Settings\Игорь\Мои документы\Картинки\Прозрачные\Прозрачный фон.gif"/>
          <p:cNvPicPr/>
          <p:nvPr/>
        </p:nvPicPr>
        <p:blipFill>
          <a:blip r:embed="rId3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Рисунок 2" descr="часы.gif"/>
          <p:cNvPicPr/>
          <p:nvPr/>
        </p:nvPicPr>
        <p:blipFill>
          <a:blip r:embed="rId1"/>
          <a:stretch/>
        </p:blipFill>
        <p:spPr>
          <a:xfrm>
            <a:off x="5000760" y="2119320"/>
            <a:ext cx="3214440" cy="4738680"/>
          </a:xfrm>
          <a:prstGeom prst="rect">
            <a:avLst/>
          </a:prstGeom>
          <a:ln w="0">
            <a:noFill/>
          </a:ln>
        </p:spPr>
      </p:pic>
      <p:sp>
        <p:nvSpPr>
          <p:cNvPr id="719" name="Скругленный прямоугольник 4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ставая на 15 минут часы показывают 3 часа. Сколько в действительности будет времени через два с половиной час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2" descr="C:\Documents and Settings\Игорь\Мои документы\Картинки\Прозрачные\Прозрачный фон.gif"/>
          <p:cNvPicPr/>
          <p:nvPr/>
        </p:nvPicPr>
        <p:blipFill>
          <a:blip r:embed="rId2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Группа 29"/>
          <p:cNvGrpSpPr/>
          <p:nvPr/>
        </p:nvGrpSpPr>
        <p:grpSpPr>
          <a:xfrm>
            <a:off x="2143080" y="3429000"/>
            <a:ext cx="1428840" cy="1428840"/>
            <a:chOff x="2143080" y="3429000"/>
            <a:chExt cx="1428840" cy="1428840"/>
          </a:xfrm>
        </p:grpSpPr>
        <p:pic>
          <p:nvPicPr>
            <p:cNvPr id="723" name="Рисунок 6" descr="лист2.jpg"/>
            <p:cNvPicPr/>
            <p:nvPr/>
          </p:nvPicPr>
          <p:blipFill>
            <a:blip r:embed="rId1"/>
            <a:stretch/>
          </p:blipFill>
          <p:spPr>
            <a:xfrm>
              <a:off x="2508120" y="3630600"/>
              <a:ext cx="704880" cy="87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Овал 5" descr=""/>
            <p:cNvPicPr/>
            <p:nvPr/>
          </p:nvPicPr>
          <p:blipFill>
            <a:blip r:embed="rId2"/>
            <a:stretch/>
          </p:blipFill>
          <p:spPr>
            <a:xfrm>
              <a:off x="2143080" y="3429000"/>
              <a:ext cx="1428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Прямая соединительная линия 15"/>
            <p:cNvSpPr/>
            <p:nvPr/>
          </p:nvSpPr>
          <p:spPr>
            <a:xfrm flipH="1">
              <a:off x="2483640" y="3521160"/>
              <a:ext cx="300240" cy="124200"/>
            </a:xfrm>
            <a:prstGeom prst="line">
              <a:avLst/>
            </a:prstGeom>
            <a:ln w="63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Группа 30"/>
          <p:cNvGrpSpPr/>
          <p:nvPr/>
        </p:nvGrpSpPr>
        <p:grpSpPr>
          <a:xfrm>
            <a:off x="625320" y="2911320"/>
            <a:ext cx="1643040" cy="1643040"/>
            <a:chOff x="625320" y="2911320"/>
            <a:chExt cx="1643040" cy="1643040"/>
          </a:xfrm>
        </p:grpSpPr>
        <p:pic>
          <p:nvPicPr>
            <p:cNvPr id="727" name="Овал 2" descr=""/>
            <p:cNvPicPr/>
            <p:nvPr/>
          </p:nvPicPr>
          <p:blipFill>
            <a:blip r:embed="rId3"/>
            <a:stretch/>
          </p:blipFill>
          <p:spPr>
            <a:xfrm>
              <a:off x="625320" y="2911320"/>
              <a:ext cx="1643040" cy="16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Рисунок 3" descr="лист1.jpg"/>
            <p:cNvPicPr/>
            <p:nvPr/>
          </p:nvPicPr>
          <p:blipFill>
            <a:blip r:embed="rId4"/>
            <a:stretch/>
          </p:blipFill>
          <p:spPr>
            <a:xfrm>
              <a:off x="992880" y="3267720"/>
              <a:ext cx="1063080" cy="99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Прямая соединительная линия 18"/>
            <p:cNvSpPr/>
            <p:nvPr/>
          </p:nvSpPr>
          <p:spPr>
            <a:xfrm flipV="1">
              <a:off x="1148040" y="3172320"/>
              <a:ext cx="259200" cy="130320"/>
            </a:xfrm>
            <a:prstGeom prst="line">
              <a:avLst/>
            </a:prstGeom>
            <a:ln w="63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Группа 34"/>
          <p:cNvGrpSpPr/>
          <p:nvPr/>
        </p:nvGrpSpPr>
        <p:grpSpPr>
          <a:xfrm>
            <a:off x="6286680" y="3287880"/>
            <a:ext cx="1785600" cy="1785600"/>
            <a:chOff x="6286680" y="3287880"/>
            <a:chExt cx="1785600" cy="1785600"/>
          </a:xfrm>
        </p:grpSpPr>
        <p:pic>
          <p:nvPicPr>
            <p:cNvPr id="731" name="Овал 22" descr=""/>
            <p:cNvPicPr/>
            <p:nvPr/>
          </p:nvPicPr>
          <p:blipFill>
            <a:blip r:embed="rId5"/>
            <a:stretch/>
          </p:blipFill>
          <p:spPr>
            <a:xfrm>
              <a:off x="6286680" y="3355560"/>
              <a:ext cx="1785600" cy="171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Прямая соединительная линия 24" descr=""/>
            <p:cNvPicPr/>
            <p:nvPr/>
          </p:nvPicPr>
          <p:blipFill>
            <a:blip r:embed="rId6"/>
            <a:stretch/>
          </p:blipFill>
          <p:spPr>
            <a:xfrm>
              <a:off x="7004160" y="3287880"/>
              <a:ext cx="394920" cy="1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Рисунок 25" descr="raskraski_24_13.jpg"/>
            <p:cNvPicPr/>
            <p:nvPr/>
          </p:nvPicPr>
          <p:blipFill>
            <a:blip r:embed="rId7"/>
            <a:stretch/>
          </p:blipFill>
          <p:spPr>
            <a:xfrm>
              <a:off x="6675840" y="3634200"/>
              <a:ext cx="1001160" cy="120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4" name="Группа 28" descr=""/>
          <p:cNvPicPr/>
          <p:nvPr/>
        </p:nvPicPr>
        <p:blipFill>
          <a:blip r:embed="rId8"/>
          <a:stretch/>
        </p:blipFill>
        <p:spPr>
          <a:xfrm>
            <a:off x="573120" y="3797280"/>
            <a:ext cx="1852560" cy="1798560"/>
          </a:xfrm>
          <a:prstGeom prst="rect">
            <a:avLst/>
          </a:prstGeom>
          <a:ln w="0">
            <a:noFill/>
          </a:ln>
        </p:spPr>
      </p:pic>
      <p:sp>
        <p:nvSpPr>
          <p:cNvPr id="735" name="Скругленный прямоугольник 20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1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Галя, Маша, Даша и Лена вышивали. Три девочки вышивали листочки, одна девочка - цветочек. Маша и Галя вышивали разное. Галя и Лена - тоже. Что вышивала каждая дево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C:\Documents and Settings\Игорь\Мои документы\Картинки\Прозрачные\Прозрачный фон.gif"/>
          <p:cNvPicPr/>
          <p:nvPr/>
        </p:nvPicPr>
        <p:blipFill>
          <a:blip r:embed="rId9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3" descr="insect5.gif"/>
          <p:cNvPicPr/>
          <p:nvPr/>
        </p:nvPicPr>
        <p:blipFill>
          <a:blip r:embed="rId1"/>
          <a:stretch/>
        </p:blipFill>
        <p:spPr>
          <a:xfrm rot="20769600">
            <a:off x="3130200" y="3240000"/>
            <a:ext cx="2171520" cy="1352520"/>
          </a:xfrm>
          <a:prstGeom prst="rect">
            <a:avLst/>
          </a:prstGeom>
          <a:ln w="0">
            <a:noFill/>
          </a:ln>
        </p:spPr>
      </p:pic>
      <p:grpSp>
        <p:nvGrpSpPr>
          <p:cNvPr id="547" name="Группа 32"/>
          <p:cNvGrpSpPr/>
          <p:nvPr/>
        </p:nvGrpSpPr>
        <p:grpSpPr>
          <a:xfrm>
            <a:off x="357120" y="3171960"/>
            <a:ext cx="8205480" cy="1074600"/>
            <a:chOff x="357120" y="3171960"/>
            <a:chExt cx="8205480" cy="1074600"/>
          </a:xfrm>
        </p:grpSpPr>
        <p:pic>
          <p:nvPicPr>
            <p:cNvPr id="548" name="Рисунок 15" descr="веревка2.gif"/>
            <p:cNvPicPr/>
            <p:nvPr/>
          </p:nvPicPr>
          <p:blipFill>
            <a:blip r:embed="rId2"/>
            <a:stretch/>
          </p:blipFill>
          <p:spPr>
            <a:xfrm>
              <a:off x="357120" y="3301200"/>
              <a:ext cx="928440" cy="9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Рисунок 16" descr="прямая веревка.gif"/>
            <p:cNvPicPr/>
            <p:nvPr/>
          </p:nvPicPr>
          <p:blipFill>
            <a:blip r:embed="rId3"/>
            <a:stretch/>
          </p:blipFill>
          <p:spPr>
            <a:xfrm rot="16200000">
              <a:off x="2409120" y="1982160"/>
              <a:ext cx="180000" cy="28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Рисунок 17" descr="прямая веревка.gif"/>
            <p:cNvPicPr/>
            <p:nvPr/>
          </p:nvPicPr>
          <p:blipFill>
            <a:blip r:embed="rId4"/>
            <a:stretch/>
          </p:blipFill>
          <p:spPr>
            <a:xfrm rot="16200000">
              <a:off x="6266880" y="1982160"/>
              <a:ext cx="180000" cy="28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Рисунок 19" descr="веревка2.gif"/>
            <p:cNvPicPr/>
            <p:nvPr/>
          </p:nvPicPr>
          <p:blipFill>
            <a:blip r:embed="rId5"/>
            <a:stretch/>
          </p:blipFill>
          <p:spPr>
            <a:xfrm flipH="1">
              <a:off x="7643520" y="3304800"/>
              <a:ext cx="919080" cy="9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Рисунок 25" descr="узел.gif"/>
            <p:cNvPicPr/>
            <p:nvPr/>
          </p:nvPicPr>
          <p:blipFill>
            <a:blip r:embed="rId6"/>
            <a:stretch/>
          </p:blipFill>
          <p:spPr>
            <a:xfrm rot="5400000">
              <a:off x="4243320" y="2643120"/>
              <a:ext cx="399960" cy="145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3" name="Рисунок 26" descr="узел.gif"/>
          <p:cNvPicPr/>
          <p:nvPr/>
        </p:nvPicPr>
        <p:blipFill>
          <a:blip r:embed="rId7"/>
          <a:stretch/>
        </p:blipFill>
        <p:spPr>
          <a:xfrm>
            <a:off x="1185840" y="3171960"/>
            <a:ext cx="1457280" cy="39996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27" descr="узел.gif"/>
          <p:cNvPicPr/>
          <p:nvPr/>
        </p:nvPicPr>
        <p:blipFill>
          <a:blip r:embed="rId8"/>
          <a:stretch/>
        </p:blipFill>
        <p:spPr>
          <a:xfrm>
            <a:off x="2500200" y="3171960"/>
            <a:ext cx="1457280" cy="39996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28" descr="узел.gif"/>
          <p:cNvPicPr/>
          <p:nvPr/>
        </p:nvPicPr>
        <p:blipFill>
          <a:blip r:embed="rId9"/>
          <a:stretch/>
        </p:blipFill>
        <p:spPr>
          <a:xfrm>
            <a:off x="4714920" y="3171960"/>
            <a:ext cx="1457280" cy="39996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29" descr="узел.gif"/>
          <p:cNvPicPr/>
          <p:nvPr/>
        </p:nvPicPr>
        <p:blipFill>
          <a:blip r:embed="rId10"/>
          <a:stretch/>
        </p:blipFill>
        <p:spPr>
          <a:xfrm>
            <a:off x="5643720" y="3171960"/>
            <a:ext cx="1457280" cy="399960"/>
          </a:xfrm>
          <a:prstGeom prst="rect">
            <a:avLst/>
          </a:prstGeom>
          <a:ln w="0">
            <a:noFill/>
          </a:ln>
        </p:spPr>
      </p:pic>
      <p:pic>
        <p:nvPicPr>
          <p:cNvPr id="557" name="Рисунок 30" descr="узел.gif"/>
          <p:cNvPicPr/>
          <p:nvPr/>
        </p:nvPicPr>
        <p:blipFill>
          <a:blip r:embed="rId11"/>
          <a:stretch/>
        </p:blipFill>
        <p:spPr>
          <a:xfrm>
            <a:off x="6572160" y="3171960"/>
            <a:ext cx="1457280" cy="399960"/>
          </a:xfrm>
          <a:prstGeom prst="rect">
            <a:avLst/>
          </a:prstGeom>
          <a:ln w="0">
            <a:noFill/>
          </a:ln>
        </p:spPr>
      </p:pic>
      <p:sp>
        <p:nvSpPr>
          <p:cNvPr id="558" name="Скругленный прямоугольник 18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0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аук на верёвке завязал шесть узлов так, что концы верёвки остались свободными. На сколько частей эти узлы разделили верёв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C:\Documents and Settings\Игорь\Мои документы\Картинки\Прозрачные\Прозрачный фон.gi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ая соединительная линия 25"/>
          <p:cNvSpPr/>
          <p:nvPr/>
        </p:nvSpPr>
        <p:spPr>
          <a:xfrm flipV="1">
            <a:off x="7143840" y="2571840"/>
            <a:ext cx="1440" cy="714240"/>
          </a:xfrm>
          <a:prstGeom prst="line">
            <a:avLst/>
          </a:prstGeom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4"/>
          <p:cNvSpPr/>
          <p:nvPr/>
        </p:nvSpPr>
        <p:spPr>
          <a:xfrm flipV="1">
            <a:off x="5428440" y="2571840"/>
            <a:ext cx="1800" cy="714240"/>
          </a:xfrm>
          <a:prstGeom prst="line">
            <a:avLst/>
          </a:prstGeom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23"/>
          <p:cNvSpPr/>
          <p:nvPr/>
        </p:nvSpPr>
        <p:spPr>
          <a:xfrm flipV="1">
            <a:off x="3714840" y="2571840"/>
            <a:ext cx="1440" cy="714240"/>
          </a:xfrm>
          <a:prstGeom prst="line">
            <a:avLst/>
          </a:prstGeom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15"/>
          <p:cNvSpPr/>
          <p:nvPr/>
        </p:nvSpPr>
        <p:spPr>
          <a:xfrm flipV="1">
            <a:off x="1999440" y="2571840"/>
            <a:ext cx="1800" cy="714240"/>
          </a:xfrm>
          <a:prstGeom prst="line">
            <a:avLst/>
          </a:prstGeom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2" descr="прямая веревка.gif"/>
          <p:cNvPicPr/>
          <p:nvPr/>
        </p:nvPicPr>
        <p:blipFill>
          <a:blip r:embed="rId1"/>
          <a:stretch/>
        </p:blipFill>
        <p:spPr>
          <a:xfrm>
            <a:off x="214200" y="3214800"/>
            <a:ext cx="4429080" cy="28548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4" descr="прямая веревка.gif"/>
          <p:cNvPicPr/>
          <p:nvPr/>
        </p:nvPicPr>
        <p:blipFill>
          <a:blip r:embed="rId2"/>
          <a:stretch/>
        </p:blipFill>
        <p:spPr>
          <a:xfrm>
            <a:off x="4357800" y="3214800"/>
            <a:ext cx="4643280" cy="28548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ая соединительная линия 6"/>
          <p:cNvSpPr/>
          <p:nvPr/>
        </p:nvSpPr>
        <p:spPr>
          <a:xfrm flipV="1">
            <a:off x="283320" y="1928880"/>
            <a:ext cx="1800" cy="1357200"/>
          </a:xfrm>
          <a:prstGeom prst="line">
            <a:avLst/>
          </a:prstGeom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ая соединительная линия 8"/>
          <p:cNvSpPr/>
          <p:nvPr/>
        </p:nvSpPr>
        <p:spPr>
          <a:xfrm flipV="1">
            <a:off x="8857440" y="1928880"/>
            <a:ext cx="1800" cy="1357200"/>
          </a:xfrm>
          <a:prstGeom prst="line">
            <a:avLst/>
          </a:prstGeom>
          <a:ln w="22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Прямая со стрелкой 10"/>
          <p:cNvCxnSpPr/>
          <p:nvPr/>
        </p:nvCxnSpPr>
        <p:spPr>
          <a:xfrm>
            <a:off x="285840" y="2356920"/>
            <a:ext cx="857304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lg" type="stealth" w="lg"/>
            <a:tailEnd len="lg" type="stealth" w="lg"/>
          </a:ln>
        </p:spPr>
      </p:cxnSp>
      <p:sp>
        <p:nvSpPr>
          <p:cNvPr id="570" name="TextBox 11"/>
          <p:cNvSpPr/>
          <p:nvPr/>
        </p:nvSpPr>
        <p:spPr>
          <a:xfrm>
            <a:off x="3929040" y="18572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Рисунок 13" descr="ножницы.gif"/>
          <p:cNvPicPr/>
          <p:nvPr/>
        </p:nvPicPr>
        <p:blipFill>
          <a:blip r:embed="rId3"/>
          <a:stretch/>
        </p:blipFill>
        <p:spPr>
          <a:xfrm rot="18554400">
            <a:off x="4170240" y="4169880"/>
            <a:ext cx="1738440" cy="2738520"/>
          </a:xfrm>
          <a:prstGeom prst="rect">
            <a:avLst/>
          </a:prstGeom>
          <a:ln w="0">
            <a:noFill/>
          </a:ln>
        </p:spPr>
      </p:pic>
      <p:cxnSp>
        <p:nvCxnSpPr>
          <p:cNvPr id="572" name="Прямая со стрелкой 16"/>
          <p:cNvCxnSpPr/>
          <p:nvPr/>
        </p:nvCxnSpPr>
        <p:spPr>
          <a:xfrm>
            <a:off x="285840" y="2857680"/>
            <a:ext cx="1715040" cy="21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lg" type="stealth" w="lg"/>
            <a:tailEnd len="lg" type="stealth" w="lg"/>
          </a:ln>
        </p:spPr>
      </p:cxnSp>
      <p:sp>
        <p:nvSpPr>
          <p:cNvPr id="573" name="TextBox 19"/>
          <p:cNvSpPr/>
          <p:nvPr/>
        </p:nvSpPr>
        <p:spPr>
          <a:xfrm>
            <a:off x="642960" y="234468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Скругленный прямоугольник 17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8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Сколько раз нужно отрезать, чтобы верёвку длиной в 10 см. разделить на части по 2 см. кажд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2" descr="C:\Documents and Settings\Игорь\Мои документы\Картинки\Прозрачные\Прозрачный фон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-0.2401 -0.2132 E">
                                      <p:cBhvr>
                                        <p:cTn id="97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Рисунок 3" descr="f68c162bc074920a8a5e1f4f35942e49_big.jpg"/>
          <p:cNvPicPr/>
          <p:nvPr/>
        </p:nvPicPr>
        <p:blipFill>
          <a:blip r:embed="rId1"/>
          <a:stretch/>
        </p:blipFill>
        <p:spPr>
          <a:xfrm>
            <a:off x="571680" y="1714680"/>
            <a:ext cx="5603760" cy="4214520"/>
          </a:xfrm>
          <a:prstGeom prst="rect">
            <a:avLst/>
          </a:prstGeom>
          <a:ln w="0">
            <a:noFill/>
          </a:ln>
        </p:spPr>
      </p:pic>
      <p:cxnSp>
        <p:nvCxnSpPr>
          <p:cNvPr id="578" name="Прямая со стрелкой 6"/>
          <p:cNvCxnSpPr/>
          <p:nvPr/>
        </p:nvCxnSpPr>
        <p:spPr>
          <a:xfrm flipH="1" flipV="1">
            <a:off x="5857200" y="3499920"/>
            <a:ext cx="1429560" cy="215280"/>
          </a:xfrm>
          <a:prstGeom prst="straightConnector1">
            <a:avLst/>
          </a:prstGeom>
          <a:ln w="63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579" name="Прямая со стрелкой 15"/>
          <p:cNvCxnSpPr/>
          <p:nvPr/>
        </p:nvCxnSpPr>
        <p:spPr>
          <a:xfrm flipH="1" flipV="1">
            <a:off x="3928320" y="4714560"/>
            <a:ext cx="2715480" cy="1000800"/>
          </a:xfrm>
          <a:prstGeom prst="straightConnector1">
            <a:avLst/>
          </a:prstGeom>
          <a:ln w="633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580" name="TextBox 19"/>
          <p:cNvSpPr/>
          <p:nvPr/>
        </p:nvSpPr>
        <p:spPr>
          <a:xfrm>
            <a:off x="1500120" y="584208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Скругленный прямоугольник 9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ца одного гражданина зовут Николай Петрович, а сына – Алексей Иванович. Как зовут граждан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Documents and Settings\Игорь\Мои документы\Картинки\Прозрачные\Прозрачный фон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Рисунок 4" descr="ручка3.gif"/>
          <p:cNvPicPr/>
          <p:nvPr/>
        </p:nvPicPr>
        <p:blipFill>
          <a:blip r:embed="rId1"/>
          <a:stretch/>
        </p:blipFill>
        <p:spPr>
          <a:xfrm flipH="1" rot="20568600">
            <a:off x="639360" y="2685600"/>
            <a:ext cx="2305080" cy="370692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5" descr="ручка2.gif"/>
          <p:cNvPicPr/>
          <p:nvPr/>
        </p:nvPicPr>
        <p:blipFill>
          <a:blip r:embed="rId2"/>
          <a:stretch/>
        </p:blipFill>
        <p:spPr>
          <a:xfrm flipH="1" rot="10137000">
            <a:off x="2660400" y="3848040"/>
            <a:ext cx="4286160" cy="78552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7" descr="round_blue_RAL5005.gif"/>
          <p:cNvPicPr/>
          <p:nvPr/>
        </p:nvPicPr>
        <p:blipFill>
          <a:blip r:embed="rId3"/>
          <a:stretch/>
        </p:blipFill>
        <p:spPr>
          <a:xfrm>
            <a:off x="6429240" y="32148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587" name="Скругленный прямоугольник 10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 Марины, Кати и Нади было две ручки и один карандаш. Какой предмет был у каждой девочки, если у Кати и Нади были разные предметы, а у Марины и Нади тоже разные, но одного цве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C:\Documents and Settings\Игорь\Мои документы\Картинки\Прозрачные\Прозрачный фон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Рисунок 2" descr="каша.gif"/>
          <p:cNvPicPr/>
          <p:nvPr/>
        </p:nvPicPr>
        <p:blipFill>
          <a:blip r:embed="rId1"/>
          <a:stretch/>
        </p:blipFill>
        <p:spPr>
          <a:xfrm>
            <a:off x="785880" y="3286080"/>
            <a:ext cx="2643120" cy="2102040"/>
          </a:xfrm>
          <a:prstGeom prst="rect">
            <a:avLst/>
          </a:prstGeom>
          <a:ln w="0">
            <a:noFill/>
          </a:ln>
        </p:spPr>
      </p:pic>
      <p:sp>
        <p:nvSpPr>
          <p:cNvPr id="591" name="Скругленный прямоугольник 6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Маша, Даша и Лена готовили на кухне. Кто-то варил кашу, а кто-то пёк печенье. Маша не варила кашу. Даша работала вместе с Машей, а Лена - отдельно. Что делала Даш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C:\Documents and Settings\Игорь\Мои документы\Картинки\Прозрачные\Прозрачный фон.gif"/>
          <p:cNvPicPr/>
          <p:nvPr/>
        </p:nvPicPr>
        <p:blipFill>
          <a:blip r:embed="rId2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9" descr="печенье2.gif"/>
          <p:cNvPicPr/>
          <p:nvPr/>
        </p:nvPicPr>
        <p:blipFill>
          <a:blip r:embed="rId3"/>
          <a:stretch/>
        </p:blipFill>
        <p:spPr>
          <a:xfrm>
            <a:off x="5786280" y="292896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Рисунок 4" descr="Школьник.gif"/>
          <p:cNvPicPr/>
          <p:nvPr/>
        </p:nvPicPr>
        <p:blipFill>
          <a:blip r:embed="rId1"/>
          <a:stretch/>
        </p:blipFill>
        <p:spPr>
          <a:xfrm>
            <a:off x="6572160" y="342900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5" descr="Школьница.gif"/>
          <p:cNvPicPr/>
          <p:nvPr/>
        </p:nvPicPr>
        <p:blipFill>
          <a:blip r:embed="rId2"/>
          <a:stretch/>
        </p:blipFill>
        <p:spPr>
          <a:xfrm>
            <a:off x="642960" y="3429000"/>
            <a:ext cx="2000160" cy="238140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6" descr="Школьница.gif"/>
          <p:cNvPicPr/>
          <p:nvPr/>
        </p:nvPicPr>
        <p:blipFill>
          <a:blip r:embed="rId3"/>
          <a:stretch/>
        </p:blipFill>
        <p:spPr>
          <a:xfrm>
            <a:off x="4081320" y="3691080"/>
            <a:ext cx="1419480" cy="2381040"/>
          </a:xfrm>
          <a:prstGeom prst="rect">
            <a:avLst/>
          </a:prstGeom>
          <a:ln w="0">
            <a:noFill/>
          </a:ln>
        </p:spPr>
      </p:pic>
      <p:sp>
        <p:nvSpPr>
          <p:cNvPr id="598" name="TextBox 7"/>
          <p:cNvSpPr/>
          <p:nvPr/>
        </p:nvSpPr>
        <p:spPr>
          <a:xfrm>
            <a:off x="1928880" y="535788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Та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8"/>
          <p:cNvSpPr/>
          <p:nvPr/>
        </p:nvSpPr>
        <p:spPr>
          <a:xfrm>
            <a:off x="6143760" y="55008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9"/>
          <p:cNvSpPr/>
          <p:nvPr/>
        </p:nvSpPr>
        <p:spPr>
          <a:xfrm>
            <a:off x="3429000" y="54054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141b"/>
                </a:solidFill>
                <a:latin typeface="Verdana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кругленный прямоугольник 13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4"/>
          <p:cNvSpPr/>
          <p:nvPr/>
        </p:nvSpPr>
        <p:spPr>
          <a:xfrm>
            <a:off x="0" y="-71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аня, Дима и Маша устроили соревнование. Один из учеников решил 15 примеров, второй – 17, а третий – 19. Сколько примеров решил каждый школьник, если Маша решила примеров меньше, чем Дима, а Дима меньше чем Та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C:\Documents and Settings\Игорь\Мои документы\Картинки\Прозрачные\Прозрачный фон.gif"/>
          <p:cNvPicPr/>
          <p:nvPr/>
        </p:nvPicPr>
        <p:blipFill>
          <a:blip r:embed="rId4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Рисунок 3" descr="ранец.gif"/>
          <p:cNvPicPr/>
          <p:nvPr/>
        </p:nvPicPr>
        <p:blipFill>
          <a:blip r:embed="rId1"/>
          <a:stretch/>
        </p:blipFill>
        <p:spPr>
          <a:xfrm>
            <a:off x="142920" y="335772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4" descr="ранец2.gif"/>
          <p:cNvPicPr/>
          <p:nvPr/>
        </p:nvPicPr>
        <p:blipFill>
          <a:blip r:embed="rId2"/>
          <a:stretch/>
        </p:blipFill>
        <p:spPr>
          <a:xfrm>
            <a:off x="3143160" y="3357720"/>
            <a:ext cx="2357640" cy="252072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7" descr="портфель2.gif"/>
          <p:cNvPicPr/>
          <p:nvPr/>
        </p:nvPicPr>
        <p:blipFill>
          <a:blip r:embed="rId3"/>
          <a:stretch/>
        </p:blipFill>
        <p:spPr>
          <a:xfrm>
            <a:off x="6357960" y="3929040"/>
            <a:ext cx="2198520" cy="1714680"/>
          </a:xfrm>
          <a:prstGeom prst="rect">
            <a:avLst/>
          </a:prstGeom>
          <a:ln w="0">
            <a:noFill/>
          </a:ln>
        </p:spPr>
      </p:pic>
      <p:sp>
        <p:nvSpPr>
          <p:cNvPr id="607" name="Скругленный прямоугольник 9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0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 Пети, Саши и Вовы было два ранца и один портфель. У кого из мальчиков какой предмет был, если известно, что у Пети и Саши были одинаковые предметы, а у Вовы и Саши разные, но одного цве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2" descr="C:\Documents and Settings\Игорь\Мои документы\Картинки\Прозрачные\Прозрачный фон.gif"/>
          <p:cNvPicPr/>
          <p:nvPr/>
        </p:nvPicPr>
        <p:blipFill>
          <a:blip r:embed="rId4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Группа 6"/>
          <p:cNvGrpSpPr/>
          <p:nvPr/>
        </p:nvGrpSpPr>
        <p:grpSpPr>
          <a:xfrm>
            <a:off x="-71280" y="2786040"/>
            <a:ext cx="3357360" cy="3949560"/>
            <a:chOff x="-71280" y="2786040"/>
            <a:chExt cx="3357360" cy="3949560"/>
          </a:xfrm>
        </p:grpSpPr>
        <p:sp>
          <p:nvSpPr>
            <p:cNvPr id="611" name="Равнобедренный треугольник 4"/>
            <p:cNvSpPr/>
            <p:nvPr/>
          </p:nvSpPr>
          <p:spPr>
            <a:xfrm>
              <a:off x="-71280" y="2786040"/>
              <a:ext cx="3357360" cy="64116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Рисунок 5" descr="Рисунок1.png"/>
            <p:cNvPicPr/>
            <p:nvPr/>
          </p:nvPicPr>
          <p:blipFill>
            <a:blip r:embed="rId1"/>
            <a:stretch/>
          </p:blipFill>
          <p:spPr>
            <a:xfrm>
              <a:off x="142920" y="3426840"/>
              <a:ext cx="2889360" cy="3308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3" name="Рисунок 7" descr="овчарка1.gif"/>
          <p:cNvPicPr/>
          <p:nvPr/>
        </p:nvPicPr>
        <p:blipFill>
          <a:blip r:embed="rId2"/>
          <a:stretch/>
        </p:blipFill>
        <p:spPr>
          <a:xfrm>
            <a:off x="5786280" y="5000760"/>
            <a:ext cx="1214640" cy="162216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8" descr="такса.gif"/>
          <p:cNvPicPr/>
          <p:nvPr/>
        </p:nvPicPr>
        <p:blipFill>
          <a:blip r:embed="rId3"/>
          <a:stretch/>
        </p:blipFill>
        <p:spPr>
          <a:xfrm>
            <a:off x="7215120" y="5357880"/>
            <a:ext cx="1928880" cy="1285920"/>
          </a:xfrm>
          <a:prstGeom prst="rect">
            <a:avLst/>
          </a:prstGeom>
          <a:ln w="0">
            <a:noFill/>
          </a:ln>
        </p:spPr>
      </p:pic>
      <p:sp>
        <p:nvSpPr>
          <p:cNvPr id="615" name="Скругленный прямоугольник 10"/>
          <p:cNvSpPr/>
          <p:nvPr/>
        </p:nvSpPr>
        <p:spPr>
          <a:xfrm>
            <a:off x="0" y="47520"/>
            <a:ext cx="1071720" cy="524160"/>
          </a:xfrm>
          <a:prstGeom prst="roundRect">
            <a:avLst>
              <a:gd name="adj" fmla="val 3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ла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C:\Documents and Settings\Игорь\Мои документы\Картинки\Прозрачные\Прозрачный фон.gif"/>
          <p:cNvPicPr/>
          <p:nvPr/>
        </p:nvPicPr>
        <p:blipFill>
          <a:blip r:embed="rId4"/>
          <a:stretch/>
        </p:blipFill>
        <p:spPr>
          <a:xfrm>
            <a:off x="0" y="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пудель.gif"/>
          <p:cNvPicPr/>
          <p:nvPr/>
        </p:nvPicPr>
        <p:blipFill>
          <a:blip r:embed="rId5"/>
          <a:stretch/>
        </p:blipFill>
        <p:spPr>
          <a:xfrm>
            <a:off x="3571920" y="5143680"/>
            <a:ext cx="1500120" cy="12934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1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трёхэтажном доме жили три щенка: овчарка, такса и пудель. Щенки с первого и второго этажей не были таксами. Овчарка не жила на первом этаже. Определите место проживания каждого щен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04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-0.00225 -0.16898 E">
                                      <p:cBhvr>
                                        <p:cTn id="308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1:42:27Z</dcterms:created>
  <dc:creator>Komp</dc:creator>
  <dc:description/>
  <dc:language>en-US</dc:language>
  <cp:lastModifiedBy>Пользователь</cp:lastModifiedBy>
  <dcterms:modified xsi:type="dcterms:W3CDTF">2023-11-01T07:08:46Z</dcterms:modified>
  <cp:revision>8</cp:revision>
  <dc:subject/>
  <dc:title>Слайд 1</dc:title>
</cp:coreProperties>
</file>