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coin.wav" ContentType="audio/x-wav"/>
  <Override PartName="/ppt/media/image4.png" ContentType="image/png"/>
  <Override PartName="/ppt/media/image3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83CB-B343-4E55-8AB2-3C44352DE7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A92D-4C27-4C4C-953F-33D1924792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63DA-C730-457E-9804-2B680603B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49C0-3FE7-4E32-9F73-825FEB8AC7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1BEE-BFC5-45BA-B4E0-0546698939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6087-9D4A-46C8-BF03-BB30D1E5E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6B37-C077-4551-9148-2F0B8D4CA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F0C5-69BA-4597-98CB-88400ADA9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4134-A507-476C-B89D-A05F84572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58EB-BA38-46D3-B700-E919D9CEDF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0F8A-CC6E-43E1-A476-62213D652B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0EE-CD48-4F08-A85E-1544ABC4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FB3-66E4-4B71-BFFA-E87F8836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4AA-9068-4533-AA57-35F762A7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4D1-9129-4631-B36F-580DC2E9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B4E-6844-4848-BCAE-884E8D5F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0F1-20A3-4B52-8A47-E2C8604C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C10-C262-41D2-B9B9-24F78965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852-F602-468B-9761-22B0801F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469-A0CD-4147-B144-113D6A54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65C-8F51-4B5B-9C7D-21D8EF7E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B9B-9F42-49A7-A516-A3B1B73F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CEF-DAEF-4C0E-A993-53334F59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F3F4-CB4E-471F-8BB9-1777AEA2C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116000" y="981000"/>
            <a:ext cx="655308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40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odal Verbs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0">
    <p:newsflash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8 L 0.108 0.0828 L 0.072 0.16694 L 0.108 0.24974 L 0.036 0.24974 L 0 0.33387 L -0.036 0.24974 L -0.108 0.24974 L -0.072 0.16694 L -0.108 0.0828 L -0.036 0.0828 L 0 0 Z">
                                      <p:cBhvr>
                                        <p:cTn id="11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539640" y="907920"/>
            <a:ext cx="792000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763640" y="333360"/>
            <a:ext cx="460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st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755640" y="3933720"/>
            <a:ext cx="74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Comic Sans MS"/>
              </a:rPr>
              <a:t>You must be at school  by eight o'clock. (My teacher  insists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1476360" y="2060640"/>
            <a:ext cx="489600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637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Должен)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heel spokes="8"/>
    <p:sndAc>
      <p:stSnd>
        <p:snd r:embed="rId3" name="coin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67 0.124 -0.16667 C 0.124 -0.07467 0.179 -0.00133 0.248 -0.00133 C 0.179 -0.00133 0.125 0.07467 0.125 0.16667 C 0.125 0.07467 0.069 0 0 0 Z">
                                      <p:cBhvr>
                                        <p:cTn id="5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1042920" y="-316080"/>
            <a:ext cx="669600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8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Have to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1403280" y="2421000"/>
            <a:ext cx="1440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140360" y="242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435640" y="2349360"/>
            <a:ext cx="14414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4"/>
          <p:cNvSpPr txBox="1"/>
          <p:nvPr/>
        </p:nvSpPr>
        <p:spPr>
          <a:xfrm>
            <a:off x="468360" y="3573360"/>
            <a:ext cx="12477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Have to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Has to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(he ,she, it)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57" name="WordArt 15"/>
          <p:cNvSpPr txBox="1"/>
          <p:nvPr/>
        </p:nvSpPr>
        <p:spPr>
          <a:xfrm>
            <a:off x="2050920" y="1989000"/>
            <a:ext cx="44658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В силу обстоятельств)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16"/>
          <p:cNvSpPr txBox="1"/>
          <p:nvPr/>
        </p:nvSpPr>
        <p:spPr>
          <a:xfrm>
            <a:off x="3419640" y="3573360"/>
            <a:ext cx="136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ad t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17"/>
          <p:cNvSpPr txBox="1"/>
          <p:nvPr/>
        </p:nvSpPr>
        <p:spPr>
          <a:xfrm>
            <a:off x="6156360" y="3716280"/>
            <a:ext cx="201132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Shall    have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Will        to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AutoShape 20"/>
          <p:cNvSpPr/>
          <p:nvPr/>
        </p:nvSpPr>
        <p:spPr>
          <a:xfrm>
            <a:off x="7093080" y="3500280"/>
            <a:ext cx="215640" cy="12240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1187280" y="5084640"/>
            <a:ext cx="59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 have to be home by eight o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‘clock. (I insist.)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-0.112 L 0.25 0 L 0.125 0.112 L 0 0 Z">
                                      <p:cBhvr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3132000" y="260280"/>
            <a:ext cx="341964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9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Be T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2050920" y="2421000"/>
            <a:ext cx="165600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m to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re to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s to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2700000" y="170028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5003640" y="1700280"/>
            <a:ext cx="1152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5580000" y="2997360"/>
            <a:ext cx="1524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as To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ere To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492360" y="4581360"/>
            <a:ext cx="51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99"/>
                </a:solidFill>
                <a:uFillTx/>
                <a:latin typeface="Arial"/>
              </a:rPr>
              <a:t>I am to meet her in the library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1476360" y="0"/>
            <a:ext cx="475128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hoUl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395280" y="2565360"/>
            <a:ext cx="693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Следует по моему мнению,совету.)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84360" y="4508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study English wor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 rot="21421800">
            <a:off x="1547640" y="404640"/>
            <a:ext cx="65008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Ought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1692360" y="2060640"/>
            <a:ext cx="525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Следует, моральный долг)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042920" y="4508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You ought to return the book to me on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403280" y="549360"/>
            <a:ext cx="41245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edn'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5"/>
          <p:cNvSpPr txBox="1"/>
          <p:nvPr/>
        </p:nvSpPr>
        <p:spPr>
          <a:xfrm>
            <a:off x="324000" y="2781360"/>
            <a:ext cx="554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Нужно,необходимо)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68360" y="530064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needn’t g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25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 rot="199800">
            <a:off x="323640" y="0"/>
            <a:ext cx="5111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3059280" y="2492280"/>
            <a:ext cx="484164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0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(По разрешению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1692360" y="501336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may go to the cinem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755640" y="0"/>
            <a:ext cx="698508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Migh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1332000" y="1484280"/>
            <a:ext cx="5832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(Мог по разрешению)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24000" y="486900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You may go to the cinem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15:43Z</dcterms:created>
  <dc:creator>user</dc:creator>
  <dc:description/>
  <dc:language>en-US</dc:language>
  <cp:lastModifiedBy>Таня</cp:lastModifiedBy>
  <dcterms:modified xsi:type="dcterms:W3CDTF">2013-03-31T16:41:26Z</dcterms:modified>
  <cp:revision>15</cp:revision>
  <dc:subject/>
  <dc:title>Слайд 1</dc:title>
</cp:coreProperties>
</file>