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E0E-48E0-4902-AE95-4D717F5C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7BF-3654-46E7-A813-3F18908C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CA8-3EFD-4736-9B41-69AB77ED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388-31F0-4EB3-BDF7-020A0E8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F20-223D-404D-AC66-19E5842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7A4-51FD-4BD9-86EA-270E8B2C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256-C8E3-4B0D-AD15-CDC457B0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5C9-821F-46ED-921C-F616264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964-CDA8-4F21-AAE3-ECBCF221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BB8-688C-40E8-A742-F6A715F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01F-235C-49A4-B5F9-6B65B29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FFD-020C-4FEB-858A-31A36D9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3E27-1A1C-409C-BB2A-A6DC8FC06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утешествие по сказкам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4400" y="1366560"/>
            <a:ext cx="78170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знавательно-творчески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26920" y="285264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ля детей младшей возрастно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Колоб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000" y="429264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убкова Екатери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14240" y="5643720"/>
            <a:ext cx="75614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.Бронница, 2023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ubTitle"/>
          </p:nvPr>
        </p:nvSpPr>
        <p:spPr>
          <a:xfrm>
            <a:off x="714240" y="642960"/>
            <a:ext cx="752184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ОУ «Бронницкая СОШ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школьны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56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доровье и физическое развит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5880" y="1285920"/>
            <a:ext cx="75312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лекс утренней гимнастики – «Хомка - хомка хомячок», «Буратино», «Курочки», «Цветок», «Ветер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ижные игры -  «У медведя во бору», «Лошадки», «Мыши в кладовой», «Мыши водят хоровод», «Лиска-лиса», «Зайка серенький сидит», «Смелые мыш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ро продукты – полезные не полезны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SC_0063"/>
          <p:cNvPicPr/>
          <p:nvPr/>
        </p:nvPicPr>
        <p:blipFill>
          <a:blip r:embed="rId1"/>
          <a:stretch/>
        </p:blipFill>
        <p:spPr>
          <a:xfrm>
            <a:off x="841320" y="3500280"/>
            <a:ext cx="3554640" cy="266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SC_0071"/>
          <p:cNvPicPr/>
          <p:nvPr/>
        </p:nvPicPr>
        <p:blipFill>
          <a:blip r:embed="rId2"/>
          <a:stretch/>
        </p:blipFill>
        <p:spPr>
          <a:xfrm>
            <a:off x="4762440" y="350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642600"/>
            <a:ext cx="76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880" y="1356840"/>
            <a:ext cx="7531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труирование (сказки «Теремок», «Рукавичка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пка – (сказки «Колобок», «Теремок», «Коза-дереза», «Путаница», «Сказка об умном мышонке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ование – (сказки «Теремок», «Петушок и бобовое зёрнышко», «Колобок», «Ёжик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P1140171"/>
          <p:cNvPicPr/>
          <p:nvPr/>
        </p:nvPicPr>
        <p:blipFill>
          <a:blip r:embed="rId1"/>
          <a:stretch/>
        </p:blipFill>
        <p:spPr>
          <a:xfrm>
            <a:off x="3143160" y="3130560"/>
            <a:ext cx="39290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632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узыкальная дея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561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шание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ние детских пес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учивание танцевальных движ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632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циальное развит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1285920"/>
            <a:ext cx="75312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кукольного теа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театрализованных постанов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мотр мультфильмов, диафильм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P1140160"/>
          <p:cNvPicPr/>
          <p:nvPr/>
        </p:nvPicPr>
        <p:blipFill>
          <a:blip r:embed="rId1"/>
          <a:stretch/>
        </p:blipFill>
        <p:spPr>
          <a:xfrm>
            <a:off x="2144880" y="2500200"/>
            <a:ext cx="46400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52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ится и проводится презентация по деятельности данного проек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, их родители и педагоги ДОУ активно помогают в подготовке презентации, после чего они представляют зрителям продукт собствен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творческого проек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его презент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дение итог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55640" y="692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ключительны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ы и практическая значим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5880" y="1571760"/>
            <a:ext cx="7602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нания, полученные детьми развивают в них чувства, позволяющие сопереживать и понимать прекрасное, способность овладеть национальной культуро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755640" y="12340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Маханева М.Д. Театрализованные занятия в детском саду: Пособие для работников дошкольного учреждения. -: М.: Т Ц «Сфера»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Антипина Е.А. Театрализованная деятельность в детском саду: Игры, упражнения, сценарии. М.: ТЦ Сфера, 200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Доронова Т.Н. Играем в театр: театрализованная деятельность детей 4-6 лет: метод. Пособие для воспитателей дошкольного образовательного учреждения. Т.Н. Доронова. - 2-е изд.-М.: Просвещение,2005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Кудрявцева Н.Ю. «Готовимся к празднику» Методика изготовления костюмов, кукол, декораций для детского спектакля. Москва: Школьная Пресса, 2011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 Новиковская О.А. «Конспекты занятий по сказкам с детьми 4-5 лет».СПб.: «Паритет» 200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. Поляк Л.Я. Театр сказок: Сценарии в стихах для дошкольников по мотивам русских народных сказок. -СПб. «Детство-пресс», 20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549360"/>
            <a:ext cx="7402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вободной творческой личност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детей с жанровыми особенностями, видами, сюжетами сказ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интереса к литерату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читательской культу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632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561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уждение у дошкольников желание самостоятельно обращаться к книге, как источнику содержательного и занимательного провед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ать детей способам сотрудничества друг с другом и со взрослы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ых способнос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ого воображ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ого мышл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коммуникативных навы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674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5880" y="1213920"/>
            <a:ext cx="7602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дготов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ируется проблема о моральной стороне сказок и привитии любви к сказкам и театр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чего дети вовлекаются в решение проблем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«Чему нас учат сказки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игровую ситуаци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дидактические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P1140158"/>
          <p:cNvPicPr/>
          <p:nvPr/>
        </p:nvPicPr>
        <p:blipFill>
          <a:blip r:embed="rId1"/>
          <a:stretch/>
        </p:blipFill>
        <p:spPr>
          <a:xfrm>
            <a:off x="4208400" y="3071880"/>
            <a:ext cx="41166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900000" y="765000"/>
            <a:ext cx="75297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сновно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ешаются поставленные задачи всех мероприятий проек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ие занятий, игр, наблюдений, бесед с детьми (как групповых, так и индивидуальны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овместная деятельность воспитателей, детей, их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формление выставок поделок и рисун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P1140038"/>
          <p:cNvPicPr/>
          <p:nvPr/>
        </p:nvPicPr>
        <p:blipFill>
          <a:blip r:embed="rId1"/>
          <a:stretch/>
        </p:blipFill>
        <p:spPr>
          <a:xfrm>
            <a:off x="2206800" y="336564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P1140110"/>
          <p:cNvPicPr/>
          <p:nvPr/>
        </p:nvPicPr>
        <p:blipFill>
          <a:blip r:embed="rId1"/>
          <a:stretch/>
        </p:blipFill>
        <p:spPr>
          <a:xfrm>
            <a:off x="2556000" y="90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5640" y="4005000"/>
            <a:ext cx="7561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ние иллюстраций русских народных сказ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и рассказывание русских народных сказок, беседа по прочитанной сказ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настольно-печатных, дидактических, словесных иг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55640" y="4149720"/>
            <a:ext cx="75708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казывание детьми сказ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епка», «Теремок», «Рукавичка», «Кот и лиса»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Лиса и дрозд», «Волк и семеро козлят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Курочка Ряба», «Три медведя»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Коза-дереза», «Кот, петух и лис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казка о глупом мышонке»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негурочка и лиса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P1140114"/>
          <p:cNvPicPr/>
          <p:nvPr/>
        </p:nvPicPr>
        <p:blipFill>
          <a:blip r:embed="rId1"/>
          <a:stretch/>
        </p:blipFill>
        <p:spPr>
          <a:xfrm>
            <a:off x="2268360" y="776160"/>
            <a:ext cx="439272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ценировка сказок совместно с воспитател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24036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урочка Ряб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п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олоб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ерем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иса и заяц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1140113"/>
          <p:cNvPicPr/>
          <p:nvPr/>
        </p:nvPicPr>
        <p:blipFill>
          <a:blip r:embed="rId1"/>
          <a:stretch/>
        </p:blipFill>
        <p:spPr>
          <a:xfrm>
            <a:off x="3780000" y="1844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ов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7160" y="1142640"/>
            <a:ext cx="7459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ы-драматизации по произведениям «Репка», «Колобок», «Теремок», «Два веселых гус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ие игры «Мои любимые сказки», Лото «Сказки», «Кто-кто в теремочке живет?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южетно-ролевая игра «В театр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 «Превращ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 «Волшебная палоч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тельная игра  «Теремок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P1140077"/>
          <p:cNvPicPr/>
          <p:nvPr/>
        </p:nvPicPr>
        <p:blipFill>
          <a:blip r:embed="rId1"/>
          <a:stretch/>
        </p:blipFill>
        <p:spPr>
          <a:xfrm>
            <a:off x="4532400" y="3286080"/>
            <a:ext cx="376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Angelica</cp:lastModifiedBy>
  <dcterms:modified xsi:type="dcterms:W3CDTF">2023-11-13T12:11:37Z</dcterms:modified>
  <cp:revision>27</cp:revision>
  <dc:subject/>
  <dc:title>Презентация PowerPoint</dc:title>
</cp:coreProperties>
</file>