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9D1-E09D-4E8B-9CC9-FA35FF62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39C-59BD-4B33-8CC5-CB41527B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79626-4D76-484C-9820-66395E90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8D83D-008E-4BFE-A63C-40C66CA4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563F2-8AAA-4857-ADD4-A886DA93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77E04-A48B-49C5-BCED-917EE39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24C96-BF99-4C54-91CD-CD4F94A3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BDFF8-DBF9-4B51-9171-FDF931E9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2A924-A407-4E75-AE61-D43C3463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34298-F672-4908-875C-2A344D28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7009D-D1A7-4FE5-A49A-E38E030A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A44-16C8-4DA4-B620-5D6561F7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D9D-0013-42E0-87CC-5DD9EEF4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6C0B-C128-4C20-A5F5-481E0C55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5F2A-43C4-46B3-A225-38AF8586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D558-38DA-4525-9D8B-45BE6802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FC68-B2C7-47DF-8835-D2FF02C2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DC2A-B79C-4048-A29E-CDB4DB0A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89CE-9C03-4199-9CA5-1C9B606E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F0F8-197E-4539-B4EE-066BBFE4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748-19D3-4E65-8ED5-43B104C0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701D-CCDE-4DA8-BB43-554EFA59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9184-88EB-4E46-8337-009F77D0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AE5F-02F6-434B-AEE3-05144D9A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F324-9116-4C51-B5EE-6A3A549A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89F2-3A58-4EE8-9D81-0CC95C93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EBA56-A7A2-4B90-93BB-E025545E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36DDA-5A45-4888-94E6-4A0CCDA8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103D-14A7-458D-9FF3-A5A8985C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D30F-D2D2-474D-9A7B-D6C9E840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842C0-90C3-4CE9-9958-F6DC8D74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01E-AA30-475E-90C5-E1DD03EC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5FC3F-B7D8-4AF3-AA70-6B8C376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251A-2B29-4C08-AA24-39BF2A42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79574-97F5-40C6-9BDF-EF5F1DC5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56CE-4741-40CB-9ECC-C94AC8B2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9F54-E3F5-4EDA-9789-DBB777FB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770F9-E783-4448-A324-E6016649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9378-17EF-427D-8572-68C0903F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B4EBE-8E78-41E3-BFEA-9FCBC203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92A34-673C-4A2D-948C-CD3C1DCA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7FA3A-2E69-4E56-A0CD-0C8C7484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458-A9CB-42EA-AED9-CD41F95C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67570-2FFF-4C07-854A-6CEFE3AA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F7A8-BFB9-4928-A5FE-01AC2032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07A7-B7FE-4A56-8190-2D9E79A2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0A708-1418-4FB9-BD75-EBD3D55C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91170-FEF0-4588-A0EC-05784AC3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EC8FF-8BBF-49C6-B451-C4CCC878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4BDC-8DC7-45E2-8CA1-36496CB9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7AFFC-2AC8-48EC-AEEF-EEBB64BA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0432-D2FC-4717-A3D2-9B8F86E3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C8B3-0D19-4AFF-991D-2AA8544E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714-A688-4252-B70F-8034FEFF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97F52-4B48-4786-9222-A97FE97F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0D02-CC02-43D3-B608-C7F168A3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CE86D-26ED-46CB-A060-7574D8FB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53BF6-46DF-4028-B066-73A37560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5773D-FD0E-4DC6-8326-2C213F0E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8E96C-F55F-412E-9D7F-C11D808B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ACC0-5C38-459B-9977-9AB69FF6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6994D-C0FC-42CA-B3B8-F83EE874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3C3B-7D3A-49C3-9B0A-DC8F8BEA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78A7-50C8-4F57-B7DF-EC105F4C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FCD-EDF3-4822-8E50-08298664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4C419-D026-412C-8CF1-D434EAF4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02741-2DAC-4F20-9A3F-53FA0F35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B59A3-50FB-4063-9752-CA6272E0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95C24-3081-42CD-B837-8241AC88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A1FFC-DF7F-41A1-8DF1-5C1653EA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80F1B-0509-4FE5-B4B0-318EAF1F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615B4-D3D1-48B5-8D60-1E2C5BE3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BEF1-96E1-469C-AB21-3CC99F34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54B7F-06AC-4963-8003-7BF66ECB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C03E7-9970-46E8-979D-120103A7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5B2-0669-48B8-B6D2-315DEF23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564F1-B361-4BF7-ACFA-9C58CC36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DF4EF-E74D-4AC2-8981-795737F8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1A5EA-3901-4D63-BDEF-BFB6C420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57836-6569-4728-AE25-EFE44A0B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B5822-2E5A-4446-8A7F-13C370A4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730AD-0C0F-4285-B880-654E4B56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65AA3-C8FA-43B3-AC16-D412F860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2762A-0E10-4BA7-BD5A-9035ABD1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4532A-1F37-47AB-9775-6568FE55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E434D-0CF9-431D-9A81-E257E5AB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5A3-FC56-45C8-AB77-A5CD9A9A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927E8-E64C-482E-866A-75621A0C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5B71C-06D2-4CB4-9049-DFC0DD6C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2500F-52C9-4AC9-9810-ED7DB1D5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A0346-D0F9-418B-A004-BA05510F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86F80-7690-41AD-867D-35CCCF61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872EA-38F2-41FF-83F8-8A43383F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D4C92-FD75-4651-AF3D-27D023C1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1767-57F7-4351-926A-2A44F215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D8A39-0920-46C9-B068-6D459C2A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BC048-968D-4AAB-AF5F-B3502A27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9D6-1991-4026-962D-EA846D7E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BE62F-7193-4132-95CB-F51E53CC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201D-604D-49B6-9177-99FD8A14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28434-CA04-419D-869B-B48CB4D8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6B607-F75C-4611-9B09-39EB7B73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00875-D709-48B1-91AC-3FEA5E8F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D5292-77BF-43B9-A901-213EA915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5F857-74DF-49BD-A013-7D5F16D2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5038C-413A-4F3B-B4A3-599EB5A6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5E97E-EA2F-4686-9E89-2730D71C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294FB-6D86-4259-8FAE-F02BA1EF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35E8-45B1-4758-8EF5-90FB782EC8A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84A0-CAEC-48D4-A010-46F9555040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0E34-BF74-44DD-8ABE-9BB0F5D610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EE3C-E6FC-4C54-901E-3AF8C792F2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B015-9077-410D-9E08-42ABA0E3F2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7070-7AF0-4B96-BF68-BF0D4ECA2A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A4D1-2404-4E68-97E4-FD50F268DF6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63CE-1718-4451-90C6-5D5967362E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99D9-DB0F-402D-BE4C-5D6558155E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5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"/><Relationship Id="rId7" Type="http://schemas.openxmlformats.org/officeDocument/2006/relationships/slide" Target="slide7.xml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Объект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66400" cy="71884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611921c93fba[1]"/>
          <p:cNvPicPr/>
          <p:nvPr/>
        </p:nvPicPr>
        <p:blipFill>
          <a:blip r:embed="rId2"/>
          <a:stretch/>
        </p:blipFill>
        <p:spPr>
          <a:xfrm>
            <a:off x="500040" y="321480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611921c93fba[1]"/>
          <p:cNvPicPr/>
          <p:nvPr/>
        </p:nvPicPr>
        <p:blipFill>
          <a:blip r:embed="rId3"/>
          <a:stretch/>
        </p:blipFill>
        <p:spPr>
          <a:xfrm>
            <a:off x="500040" y="321480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611921c93fba[1]"/>
          <p:cNvPicPr/>
          <p:nvPr/>
        </p:nvPicPr>
        <p:blipFill>
          <a:blip r:embed="rId4"/>
          <a:stretch/>
        </p:blipFill>
        <p:spPr>
          <a:xfrm>
            <a:off x="652320" y="3367080"/>
            <a:ext cx="151128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8091360" y="5148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мало различных способов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писи чисел было создано людьми. В Древней Руси числа обозначали буквами с особым знаком «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~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» который писали над букво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Franklin Gothic Book"/>
                <a:ea typeface="Arial"/>
              </a:rPr>
              <a:t>Как называли этот знак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Титл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AutoShape 4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5254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mic Sans MS"/>
              </a:rPr>
              <a:t>МИХАИЛ ВАСИЛЬЕВИЧ ОСТРОГРАДСКИЙ (1801-1862)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24000" y="1599840"/>
            <a:ext cx="601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Михаил Васильевич Остроградский – русский математик, один из основателей  петербургской математической школы. Плодотворно  занимался Остроградский теоретической механикой, математическим анализом. Многие его работы имели прикладную направленность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6" name="Picture 4" descr="остроградский"/>
          <p:cNvPicPr/>
          <p:nvPr/>
        </p:nvPicPr>
        <p:blipFill>
          <a:blip r:embed="rId1"/>
          <a:stretch/>
        </p:blipFill>
        <p:spPr>
          <a:xfrm>
            <a:off x="5535720" y="1805040"/>
            <a:ext cx="356544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Comic Sans MS"/>
              </a:rPr>
              <a:t>Этого немецкого ученого называл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Comic Sans MS"/>
              </a:rPr>
              <a:t>  </a:t>
            </a:r>
            <a:r>
              <a:rPr b="0" i="1" lang="ru-RU" sz="2800" spc="-1" strike="noStrike">
                <a:solidFill>
                  <a:srgbClr val="4e3b30"/>
                </a:solidFill>
                <a:latin typeface="Comic Sans MS"/>
              </a:rPr>
              <a:t>королем математиков. Его математическое дарование проявилось уже в детстве. Рассказывают, что в трехлетнем возрасте он удивил окружающих, поправив расчеты своего отца с каменщиками. Однажды в школе учитель предложил классу сложить все числа от 1 до 100. Пока он диктовал задание у 10 летнего математика был готов ответ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Comic Sans MS"/>
              </a:rPr>
              <a:t>О каком немецком математике идет речь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Карл Гаусс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AutoShape 4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mic Sans MS"/>
              </a:rPr>
              <a:t>НИКОЛАЙ ИВАНОВИЧ ЛОБАЧЕВСКИЙ (1793-1856)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203280" y="1773360"/>
            <a:ext cx="594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Лобачевский, Николай Иванович - великий математик, один из творцов неевклидовой геометрии. Лобачевский читал лекции по самым разнообразным отделам математики, а также по физике и астрономи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Picture 4" descr="http://mur-olg2.home.nov.ru/lob13.jpg"/>
          <p:cNvPicPr/>
          <p:nvPr/>
        </p:nvPicPr>
        <p:blipFill>
          <a:blip r:embed="rId1"/>
          <a:stretch/>
        </p:blipFill>
        <p:spPr>
          <a:xfrm>
            <a:off x="281160" y="1657440"/>
            <a:ext cx="3273120" cy="5097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"/>
          <p:cNvPicPr/>
          <p:nvPr/>
        </p:nvPicPr>
        <p:blipFill>
          <a:blip r:embed="rId2"/>
          <a:stretch/>
        </p:blipFill>
        <p:spPr>
          <a:xfrm>
            <a:off x="8315280" y="50115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старину на Руси использовались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онеты с такими названиями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 коп. – алты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5 коп. – пятак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0 коп. – гривенник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Franklin Gothic Book"/>
              </a:rPr>
              <a:t>А как называли монету достоинством 1/2 коп.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Грош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AutoShape 4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5254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mic Sans MS"/>
              </a:rPr>
              <a:t>СОФЬЯ ВАСИЛЬЕВНА КОВАЛЕВСКАЯ (1850-1891)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252360" y="1773000"/>
            <a:ext cx="59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Ковалевская – выдающийся русский математик; первая в мире женщина – профессор и член – корреспондент Петербургской академии наук. В 1888 году С.Ковалевская закончила научную работу – “Задача о вращении твердого тела около неподвижной точки”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9" name="Picture 4" descr="http://im6-tub.yandex.net/i?id=28166415&amp;tov=6"/>
          <p:cNvPicPr/>
          <p:nvPr/>
        </p:nvPicPr>
        <p:blipFill>
          <a:blip r:embed="rId1"/>
          <a:stretch/>
        </p:blipFill>
        <p:spPr>
          <a:xfrm>
            <a:off x="5535720" y="1944720"/>
            <a:ext cx="3558960" cy="35607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оно” “ди” “поли” - это по-греческ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ни” “би” “мульти” - это по-латын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Franklin Gothic Book"/>
              </a:rPr>
              <a:t>А как это будет по-русск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Franklin Gothic Book"/>
              </a:rPr>
              <a:t>Один, два, мног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32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mic Sans MS"/>
              </a:rPr>
              <a:t>АНДРЕЙ НИКОЛАЕВИЧ КОЛМОГОРОВ (1903-1987)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268000" y="1600200"/>
            <a:ext cx="6875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Колмогоров - российский математик, основатель научных школ по теории вероятностей и теории функций, академик. Изучал теорию функций, математическую логику, дифференциальные уравнения и теорию вероятностей.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6" name="Picture 4" descr="колмогоров"/>
          <p:cNvPicPr/>
          <p:nvPr/>
        </p:nvPicPr>
        <p:blipFill>
          <a:blip r:embed="rId1"/>
          <a:stretch/>
        </p:blipFill>
        <p:spPr>
          <a:xfrm>
            <a:off x="66600" y="2736720"/>
            <a:ext cx="2689200" cy="3541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139680" y="49320"/>
            <a:ext cx="8858160" cy="193176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1)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Людмила Келдыш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2)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Ольга Ладыженская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3)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фья Ковалевска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5" descr="Ковалевская"/>
          <p:cNvPicPr/>
          <p:nvPr/>
        </p:nvPicPr>
        <p:blipFill>
          <a:blip r:embed="rId2"/>
          <a:stretch/>
        </p:blipFill>
        <p:spPr>
          <a:xfrm>
            <a:off x="5003640" y="3789360"/>
            <a:ext cx="18147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9933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4">
            <a:hlinkClick r:id="rId1" action="ppaction://hlinksldjump"/>
          </p:cNvPr>
          <p:cNvSpPr/>
          <p:nvPr/>
        </p:nvSpPr>
        <p:spPr>
          <a:xfrm>
            <a:off x="609480" y="533520"/>
            <a:ext cx="1981440" cy="99036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3208" h="21600">
                <a:moveTo>
                  <a:pt x="0" y="0"/>
                </a:moveTo>
                <a:lnTo>
                  <a:pt x="43208" y="0"/>
                </a:lnTo>
                <a:lnTo>
                  <a:pt x="43208" y="21600"/>
                </a:lnTo>
                <a:lnTo>
                  <a:pt x="0" y="21600"/>
                </a:lnTo>
                <a:close/>
              </a:path>
              <a:path fill="lightenLess" w="43208" h="21600">
                <a:moveTo>
                  <a:pt x="0" y="0"/>
                </a:moveTo>
                <a:lnTo>
                  <a:pt x="43208" y="0"/>
                </a:lnTo>
                <a:lnTo>
                  <a:pt x="41808" y="1400"/>
                </a:lnTo>
                <a:lnTo>
                  <a:pt x="1400" y="1400"/>
                </a:lnTo>
                <a:close/>
              </a:path>
              <a:path fill="darken" w="43208" h="21600">
                <a:moveTo>
                  <a:pt x="43208" y="0"/>
                </a:moveTo>
                <a:lnTo>
                  <a:pt x="43208" y="21600"/>
                </a:lnTo>
                <a:lnTo>
                  <a:pt x="41808" y="20200"/>
                </a:lnTo>
                <a:lnTo>
                  <a:pt x="41808" y="1400"/>
                </a:lnTo>
                <a:close/>
              </a:path>
              <a:path fill="darkenLess" w="43208" h="21600">
                <a:moveTo>
                  <a:pt x="432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8" y="20200"/>
                </a:lnTo>
                <a:close/>
              </a:path>
              <a:path fill="lighten" w="432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b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5">
            <a:hlinkClick r:id="rId2" action="ppaction://hlinksldjump"/>
          </p:cNvPr>
          <p:cNvSpPr/>
          <p:nvPr/>
        </p:nvSpPr>
        <p:spPr>
          <a:xfrm>
            <a:off x="3429000" y="19810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b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6">
            <a:hlinkClick r:id="rId3" action="ppaction://hlinksldjump"/>
          </p:cNvPr>
          <p:cNvSpPr/>
          <p:nvPr/>
        </p:nvSpPr>
        <p:spPr>
          <a:xfrm>
            <a:off x="609480" y="19810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">
            <a:hlinkClick r:id="rId4" action="ppaction://hlinksldjump"/>
          </p:cNvPr>
          <p:cNvSpPr/>
          <p:nvPr/>
        </p:nvSpPr>
        <p:spPr>
          <a:xfrm>
            <a:off x="3505320" y="388620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>
            <a:hlinkClick r:id="rId5" action="ppaction://hlinksldjump"/>
          </p:cNvPr>
          <p:cNvSpPr/>
          <p:nvPr/>
        </p:nvSpPr>
        <p:spPr>
          <a:xfrm>
            <a:off x="6248520" y="45720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b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9">
            <a:hlinkClick r:id="rId6" action="ppaction://hlinksldjump"/>
          </p:cNvPr>
          <p:cNvSpPr/>
          <p:nvPr/>
        </p:nvSpPr>
        <p:spPr>
          <a:xfrm>
            <a:off x="6248520" y="19810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">
            <a:hlinkClick r:id="rId7" action="ppaction://hlinksldjump"/>
          </p:cNvPr>
          <p:cNvSpPr/>
          <p:nvPr/>
        </p:nvSpPr>
        <p:spPr>
          <a:xfrm>
            <a:off x="685800" y="388620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3581280" y="5562720"/>
            <a:ext cx="1981440" cy="99036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3208" h="21600">
                <a:moveTo>
                  <a:pt x="0" y="0"/>
                </a:moveTo>
                <a:lnTo>
                  <a:pt x="43208" y="0"/>
                </a:lnTo>
                <a:lnTo>
                  <a:pt x="43208" y="21600"/>
                </a:lnTo>
                <a:lnTo>
                  <a:pt x="0" y="21600"/>
                </a:lnTo>
                <a:close/>
              </a:path>
              <a:path fill="lightenLess" w="43208" h="21600">
                <a:moveTo>
                  <a:pt x="0" y="0"/>
                </a:moveTo>
                <a:lnTo>
                  <a:pt x="43208" y="0"/>
                </a:lnTo>
                <a:lnTo>
                  <a:pt x="41808" y="1400"/>
                </a:lnTo>
                <a:lnTo>
                  <a:pt x="1400" y="1400"/>
                </a:lnTo>
                <a:close/>
              </a:path>
              <a:path fill="darken" w="43208" h="21600">
                <a:moveTo>
                  <a:pt x="43208" y="0"/>
                </a:moveTo>
                <a:lnTo>
                  <a:pt x="43208" y="21600"/>
                </a:lnTo>
                <a:lnTo>
                  <a:pt x="41808" y="20200"/>
                </a:lnTo>
                <a:lnTo>
                  <a:pt x="41808" y="1400"/>
                </a:lnTo>
                <a:close/>
              </a:path>
              <a:path fill="darkenLess" w="43208" h="21600">
                <a:moveTo>
                  <a:pt x="432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8" y="20200"/>
                </a:lnTo>
                <a:close/>
              </a:path>
              <a:path fill="lighten" w="432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b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6324480" y="3962520"/>
            <a:ext cx="1981440" cy="99036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3208" h="21600">
                <a:moveTo>
                  <a:pt x="0" y="0"/>
                </a:moveTo>
                <a:lnTo>
                  <a:pt x="43208" y="0"/>
                </a:lnTo>
                <a:lnTo>
                  <a:pt x="43208" y="21600"/>
                </a:lnTo>
                <a:lnTo>
                  <a:pt x="0" y="21600"/>
                </a:lnTo>
                <a:close/>
              </a:path>
              <a:path fill="lightenLess" w="43208" h="21600">
                <a:moveTo>
                  <a:pt x="0" y="0"/>
                </a:moveTo>
                <a:lnTo>
                  <a:pt x="43208" y="0"/>
                </a:lnTo>
                <a:lnTo>
                  <a:pt x="41808" y="1400"/>
                </a:lnTo>
                <a:lnTo>
                  <a:pt x="1400" y="1400"/>
                </a:lnTo>
                <a:close/>
              </a:path>
              <a:path fill="darken" w="43208" h="21600">
                <a:moveTo>
                  <a:pt x="43208" y="0"/>
                </a:moveTo>
                <a:lnTo>
                  <a:pt x="43208" y="21600"/>
                </a:lnTo>
                <a:lnTo>
                  <a:pt x="41808" y="20200"/>
                </a:lnTo>
                <a:lnTo>
                  <a:pt x="41808" y="1400"/>
                </a:lnTo>
                <a:close/>
              </a:path>
              <a:path fill="darkenLess" w="43208" h="21600">
                <a:moveTo>
                  <a:pt x="432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8" y="20200"/>
                </a:lnTo>
                <a:close/>
              </a:path>
              <a:path fill="lighten" w="432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684360" y="5589720"/>
            <a:ext cx="1981080" cy="99036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b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4"/>
          <p:cNvSpPr/>
          <p:nvPr/>
        </p:nvSpPr>
        <p:spPr>
          <a:xfrm>
            <a:off x="6324480" y="5562720"/>
            <a:ext cx="1981440" cy="99036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3208" h="21600">
                <a:moveTo>
                  <a:pt x="0" y="0"/>
                </a:moveTo>
                <a:lnTo>
                  <a:pt x="43208" y="0"/>
                </a:lnTo>
                <a:lnTo>
                  <a:pt x="43208" y="21600"/>
                </a:lnTo>
                <a:lnTo>
                  <a:pt x="0" y="21600"/>
                </a:lnTo>
                <a:close/>
              </a:path>
              <a:path fill="lightenLess" w="43208" h="21600">
                <a:moveTo>
                  <a:pt x="0" y="0"/>
                </a:moveTo>
                <a:lnTo>
                  <a:pt x="43208" y="0"/>
                </a:lnTo>
                <a:lnTo>
                  <a:pt x="41808" y="1400"/>
                </a:lnTo>
                <a:lnTo>
                  <a:pt x="1400" y="1400"/>
                </a:lnTo>
                <a:close/>
              </a:path>
              <a:path fill="darken" w="43208" h="21600">
                <a:moveTo>
                  <a:pt x="43208" y="0"/>
                </a:moveTo>
                <a:lnTo>
                  <a:pt x="43208" y="21600"/>
                </a:lnTo>
                <a:lnTo>
                  <a:pt x="41808" y="20200"/>
                </a:lnTo>
                <a:lnTo>
                  <a:pt x="41808" y="1400"/>
                </a:lnTo>
                <a:close/>
              </a:path>
              <a:path fill="darkenLess" w="43208" h="21600">
                <a:moveTo>
                  <a:pt x="432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8" y="20200"/>
                </a:lnTo>
                <a:close/>
              </a:path>
              <a:path fill="lighten" w="432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b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4"/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3794"/>
                </a:moveTo>
                <a:lnTo>
                  <a:pt x="27166" y="10800"/>
                </a:lnTo>
                <a:lnTo>
                  <a:pt x="1315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468360" y="3141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Уважаемые знатоки, с вами игр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6"/>
          <p:cNvSpPr/>
          <p:nvPr/>
        </p:nvSpPr>
        <p:spPr>
          <a:xfrm>
            <a:off x="539640" y="486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Студенты нашего коллед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mic Sans MS"/>
              </a:rPr>
              <a:t>ЛЕОНТИЙ ФИЛИППОВИЧ МАГНИЦКИЙ (1669-1739)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2060280"/>
            <a:ext cx="5724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Леонтий Филиппович Магницкий — первый учитель математики и морских наук в России — обладал самобытным математическим дарованием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4" descr="http://im8-tub.yandex.net/i?id=90968031&amp;tov=8"/>
          <p:cNvPicPr/>
          <p:nvPr/>
        </p:nvPicPr>
        <p:blipFill>
          <a:blip r:embed="rId1"/>
          <a:stretch/>
        </p:blipFill>
        <p:spPr>
          <a:xfrm>
            <a:off x="5608800" y="1584360"/>
            <a:ext cx="3290760" cy="5127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Уважаемые знатоки – сектор «Зеро»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Times New Roman"/>
              </a:rPr>
              <a:t>1.Кратчайшее расстояние от точки до прямой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Times New Roman"/>
              </a:rPr>
              <a:t>2. В России есть выражение “тьма народу”. Уважаемые знатоки, сколько это человек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Times New Roman"/>
              </a:rPr>
              <a:t>3. Сколько дней в летних каникулах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Перпендикуляр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. 10 000. 9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6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40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6480" y="195120"/>
            <a:ext cx="9156960" cy="12319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59280" y="1773000"/>
            <a:ext cx="608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Живая, энергичная, она интересно вела занятия. Помимо занятий в учебные часы, Надежда Николаевна проводила много консультаций, вела математические кружки, руководила чтением математической литературы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4" descr="http://im3-tub.yandex.net/i?id=15499467&amp;tov=3"/>
          <p:cNvPicPr/>
          <p:nvPr/>
        </p:nvPicPr>
        <p:blipFill>
          <a:blip r:embed="rId2"/>
          <a:stretch/>
        </p:blipFill>
        <p:spPr>
          <a:xfrm>
            <a:off x="66600" y="1871640"/>
            <a:ext cx="3524400" cy="3975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103320" y="-92160"/>
            <a:ext cx="8894520" cy="2249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"/>
          <p:cNvPicPr/>
          <p:nvPr/>
        </p:nvPicPr>
        <p:blipFill>
          <a:blip r:embed="rId2"/>
          <a:stretch/>
        </p:blipFill>
        <p:spPr>
          <a:xfrm>
            <a:off x="8209080" y="5192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Times New Roman"/>
              </a:rPr>
              <a:t>кос</a:t>
            </a:r>
            <a:r>
              <a:rPr b="1" lang="en-US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á</a:t>
            </a:r>
            <a:r>
              <a:rPr b="1" lang="ru-RU" sz="3000" spc="-1" strike="noStrike">
                <a:solidFill>
                  <a:srgbClr val="4e3b30"/>
                </a:solidFill>
                <a:latin typeface="Times New Roman"/>
              </a:rPr>
              <a:t>я саж</a:t>
            </a:r>
            <a:r>
              <a:rPr b="1" lang="en-US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é</a:t>
            </a:r>
            <a:r>
              <a:rPr b="1" lang="ru-RU" sz="3000" spc="-1" strike="noStrike">
                <a:solidFill>
                  <a:srgbClr val="4e3b30"/>
                </a:solidFill>
                <a:latin typeface="Times New Roman"/>
              </a:rPr>
              <a:t>нь (248 см) – расстояние от пальцев левой ноги до конца пальцев поднятой правой руки;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Times New Roman"/>
              </a:rPr>
              <a:t>махов</a:t>
            </a:r>
            <a:r>
              <a:rPr b="1" lang="en-US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á</a:t>
            </a:r>
            <a:r>
              <a:rPr b="1" lang="ru-RU" sz="3000" spc="-1" strike="noStrike">
                <a:solidFill>
                  <a:srgbClr val="4e3b30"/>
                </a:solidFill>
                <a:latin typeface="Times New Roman"/>
              </a:rPr>
              <a:t>я саж</a:t>
            </a:r>
            <a:r>
              <a:rPr b="1" lang="en-US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é</a:t>
            </a:r>
            <a:r>
              <a:rPr b="1" lang="ru-RU" sz="3000" spc="-1" strike="noStrike">
                <a:solidFill>
                  <a:srgbClr val="4e3b30"/>
                </a:solidFill>
                <a:latin typeface="Times New Roman"/>
              </a:rPr>
              <a:t>нь (176 см) – расстояние между концами пальцев расставленных в стороны рук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cc"/>
                </a:solidFill>
                <a:latin typeface="Times New Roman"/>
              </a:rPr>
              <a:t>Уважаемые знатоки, а как называли расстояние от конца пальцев до локтя согнутой рук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Л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о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5254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mic Sans MS"/>
              </a:rPr>
              <a:t>ПАФНУТИЙ ЛЬВОВИЧ ЧЕБЫШЕВ </a:t>
            </a:r>
            <a:br>
              <a:rPr sz="3200"/>
            </a:br>
            <a:r>
              <a:rPr b="1" lang="ru-RU" sz="3200" spc="-1" strike="noStrike">
                <a:solidFill>
                  <a:srgbClr val="4e3b30"/>
                </a:solidFill>
                <a:latin typeface="Comic Sans MS"/>
              </a:rPr>
              <a:t>(1821-1894)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181440" y="1789200"/>
            <a:ext cx="536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Чебышев Пафнутий Львович - знаменитый русский математик.  Чебышев  создал школу русских математиков, из которых многие пользуются в настоящее время большой известностью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4" descr="чебышев"/>
          <p:cNvPicPr/>
          <p:nvPr/>
        </p:nvPicPr>
        <p:blipFill>
          <a:blip r:embed="rId1"/>
          <a:stretch/>
        </p:blipFill>
        <p:spPr>
          <a:xfrm>
            <a:off x="5248440" y="1657440"/>
            <a:ext cx="3779640" cy="484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звание этой старинн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единицы длины послужило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менем сказочной героин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0080"/>
                </a:solidFill>
                <a:uFillTx/>
                <a:latin typeface="Times New Roman"/>
              </a:rPr>
              <a:t>Внимание вопрос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Что это за единица длины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Кто эта героиня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Дюйм. Дюймовоч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6" descr="Дюймовочка"/>
          <p:cNvPicPr/>
          <p:nvPr/>
        </p:nvPicPr>
        <p:blipFill>
          <a:blip r:embed="rId2"/>
          <a:stretch/>
        </p:blipFill>
        <p:spPr>
          <a:xfrm>
            <a:off x="5786280" y="3714840"/>
            <a:ext cx="2084400" cy="266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4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2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mic Sans MS"/>
              </a:rPr>
              <a:t>ВЛАДИМИР АНДРЕЕВИЧ СТЕКЛОВ </a:t>
            </a:r>
            <a:br>
              <a:rPr sz="3200"/>
            </a:br>
            <a:r>
              <a:rPr b="1" lang="ru-RU" sz="3200" spc="-1" strike="noStrike">
                <a:solidFill>
                  <a:srgbClr val="4e3b30"/>
                </a:solidFill>
                <a:latin typeface="Comic Sans MS"/>
              </a:rPr>
              <a:t>(1864-1926)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059280" y="1600200"/>
            <a:ext cx="5976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Владимир Андреевич Стеклов – русский  советский математик, видный  организатор советской науки. Стеклов известен также как историк математики, философ и писатель. Его перу принадлежат книги о русских и зарубежных ученых, путевые очерки.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Picture 4" descr="стеклов"/>
          <p:cNvPicPr/>
          <p:nvPr/>
        </p:nvPicPr>
        <p:blipFill>
          <a:blip r:embed="rId1"/>
          <a:stretch/>
        </p:blipFill>
        <p:spPr>
          <a:xfrm>
            <a:off x="66600" y="1657440"/>
            <a:ext cx="3462480" cy="46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2:58:14Z</dcterms:created>
  <dc:creator>николай</dc:creator>
  <dc:description/>
  <dc:language>en-US</dc:language>
  <cp:lastModifiedBy>пользователь</cp:lastModifiedBy>
  <dcterms:modified xsi:type="dcterms:W3CDTF">2023-11-13T01:45:27Z</dcterms:modified>
  <cp:revision>144</cp:revision>
  <dc:subject/>
  <dc:title>Слайд 1</dc:title>
</cp:coreProperties>
</file>