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22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35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8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CE5-433F-4699-B2B5-DE4CFB9A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D5A-13BB-426A-B177-FA431846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A5211-03E6-4421-8941-DF9E8CEE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88936-7D9E-427E-8576-59B1CF9A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EE016-CFC5-4ECD-BAE5-44941282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497AD-BA01-4435-B577-471EA0C9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28127-A7BA-491D-88DB-D36C2FB6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8D10A-E9BA-438C-8DB3-B82DB0BF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A8976-906B-48D3-BD84-516CA2B1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AE76F-CBCE-4A89-8279-4CB9527E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023F5-1686-4532-AEEC-12AC2F54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119-66DD-46C9-9E06-B157F289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FCF-CEE8-4CB4-B5D9-38ECBDE2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3C80-80E1-4649-B99C-166F1AF4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BB34-F002-4FCA-947C-FA133340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57C7-69FE-4B3C-A2CD-D0EC5624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26C9-C8F6-467B-AD25-79058D8C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4311-9ACB-4B4D-BD24-2F4F3314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E475-6F79-447E-8E41-2541E16B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2E3C-60F4-4E93-85F5-31CBA26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77E-D94A-430F-9B69-60522BB5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FB07-31BA-4943-A1C7-69BC96A0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4733-284B-4B4A-AC64-7465358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5251-8A5A-480C-B4D0-5CE4E803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2391-C69E-4E09-B2D5-FA138576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275B-C68B-4981-A28B-3AE32D69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66F84-ABE8-4547-B12D-E7FE46D8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88226-B4B2-4469-A6B4-8F131D75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4813-5492-48E8-AFBA-E4C93D30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07E2E-0E7F-4C3A-AA7F-8ECB22BD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3004-147F-48B1-9223-4E47E0E7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2AB-FAAF-4BEA-85C0-179C07A6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92A7-B1A7-48CF-8345-C9A95228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C195-785F-4E77-BBB9-20AD5DCE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7E6B-30EC-4B91-9ED9-9884726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18E8-2A4B-4D6A-B74D-9A19B7EC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606B1-CEF4-4843-9A24-AEB2D916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C309-1F0A-42D1-9E1C-DBCF4E40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469F-EB8B-4798-BE97-F79D0297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6C42-76C7-4FAE-A584-2776257D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7E955-62DB-40B9-85DB-7F84FAE0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5ECF4-ACA7-4BCB-B7F9-26B7B3B5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894-95D8-438E-A50B-DB4F83C7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7B06F-AE6F-409A-81D8-24E7683D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D0D12-F6DF-43C6-AA55-98C727B6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EA559-4191-4496-B446-84458089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4B39-05F5-4157-B657-85F137EF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3009-2783-4B9A-ADD2-81626539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45686-F048-408B-BBE3-952D826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9E01-3CCA-4E48-AF86-EEB91BF5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39874-EE7C-4396-AC6C-E89CAEEB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432C5-6D60-4D13-B760-18CE8107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EC840-E84D-4295-9ED0-BC8CF594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C9A-575B-4A21-9478-666E539B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33192-E306-445B-A8F6-E2C0C3E3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EE20E-E0A0-4BD6-A16A-963814B2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3320-DBDB-45A6-B278-39004759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9E652-535F-4794-A7FB-0A0FE969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F5CF7-6BCA-4FBB-B30E-61E73969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A1186-9FE8-4BB9-B7D3-BCD09F67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0E450-3C82-46E0-8F6E-11E94F42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14DF-0D71-41B6-A9EE-5095DB71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858D-ABFE-4739-B1EF-630F58FF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7EC1E-7B16-4606-AC7F-C5627B38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B48-D2ED-40C0-A748-BDF1754E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6841C-2615-4392-B8BD-9D10E02E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62D11-3B18-4AA0-8B71-94169EF8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2FE08-38DF-4028-B05E-B985085A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8A006-714A-4C5A-BEF1-5D05AC53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7CDE5-5CCF-452A-A664-679BC0AF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66E3D-4193-43CD-AB09-2FD47990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64A57-EDF4-4045-A4E3-50EFF6A8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DA5B8-6AFC-489C-A635-7B06E92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D3D1A-8E6B-4BB6-9E64-C8E77F54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587FF-2690-478C-970B-E8F8FFEC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57A-2E4A-4EB9-8051-607755C8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CF89A-3E28-43B6-AD3B-D7D11975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6F84A-73B3-43AD-A558-EEBCEE2D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75136-79C5-4DCB-B225-2F8C66EF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A2613-21B5-4071-9042-CFD16B57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59191-8CE8-46A6-A79D-25747625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235F1-FFB1-418E-9E6F-D476B99F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1998D-CC8C-434C-8322-04FFEA1E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D5454-A9DA-46CF-9E8A-A86225BE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6E294-188E-4A76-B12E-241A79DB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D9499-A37D-4C22-B74D-2986D3D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FE2-1241-4D24-80F9-7AB03EE5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34E92-5EE5-48FF-96FA-376146F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D5BF9-C56E-407A-B425-58D8D7A9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08E58-2787-4843-B1DC-A0C9990A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DBD8A-F7C7-47EF-A9D1-680D0D59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6750A-2D15-4735-977A-D9599613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6E58-82FB-482B-A4D7-B13B9311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AB160-2950-4F5A-A426-83BB700B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0F534-0692-454D-82A7-9876CA80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B624B-5C41-4AFD-AF10-84088F67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1FF68-0D70-48EB-AFE6-8F70A29A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14A-2B1D-419B-9D9A-43ADB3F2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52ED6-C71D-4327-8C78-975F5ACA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0A86D-CA03-47D6-B730-ACCCC24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C857A-72FB-4E12-BEBC-8D740C9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24972-B8DC-4A18-BE80-FEAA4FD8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8F34B-B3BB-498B-82FD-AD5570C0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0E189-368F-4AEF-B260-B4616F40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D3DAE-918F-4567-B3EF-CE216D96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A2610-40C7-4DF6-9F28-0DE6D28D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D2F9B-B158-461F-A68E-F3FBEDCD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F5391-DC78-443D-9D37-83A63B8D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E44A-33DD-470C-BF43-817DC44A3B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8A68-2D21-423D-AFD9-1F8C43FDB2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6F1A-6165-4EF1-8B4F-757F335CE9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9DED-B97D-4302-80FF-2BA9E6794E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48CC-6EAB-4FD0-AECD-C012F63C32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6349-20F8-4B18-8EFF-1939C5E282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401D-BDA6-4DEF-93FF-647A1F5D425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25E2-4220-4070-8E49-0BD8EFFF5C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70A7-C8F1-4EC4-9F6E-C6E7C82607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ultinfo.ru/upload/medialibrary/26d/07_hohlovo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hyperlink" Target="http://www.poseti-nn.ru/images/afisha/6145.jpg" TargetMode="External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900igr.net/datai/istorija/Russkij-narod/0006-012-Samo-slovo-folklor-prishlo-k-nam-iz-dalekoj-Anglii-i-perevoditsja.jpg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mith.ru/folk/folk01.jpg" TargetMode="External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os1.i.ua/3/1/7778292_5504c0a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alltradition.ru/wp-content/uploads/2010/07/1244276474_dd956d9b7936b80e251299afc7c2ac62.jp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drugaya-arh.ru/200-text/arh-slov/pic-hata1.jpg" TargetMode="External"/><Relationship Id="rId5" Type="http://schemas.openxmlformats.org/officeDocument/2006/relationships/image" Target="../media/image25.jpeg"/><Relationship Id="rId6" Type="http://schemas.openxmlformats.org/officeDocument/2006/relationships/hyperlink" Target="http://img0.liveinternet.ru/images/attach/c/1/54/668/54668832_srub2.jpg" TargetMode="External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hyperlink" Target="http://img1.liveinternet.ru/images/attach/c/3/77/406/77406103_4bf4f21c80ff5351d55169f7c800b18e.jpg" TargetMode="External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a18003.rimg.info/icon/17615530005312f4a72fc8da96650b9b0eba3897cf.jpg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900igr.net/datas/istorija/Russkij-byt/0027-027-Pech.jpg" TargetMode="Externa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yandex.ru/yandsearch?img_url=http%3A%2F%2Fimg0.liveinternet.ru%2Fimages%2Ffoto%2Fc%2F0%2Fapps%2F3%2F891%2F3891094_country-hor14.jpg&amp;iorient=&amp;icolor=&amp;site=&amp;text=&#1082;&#1088;&#1072;&#1089;&#1085;&#1099;&#1081;%20&#1091;&#1075;&#1086;&#1083;%20%20&#1074;%20&#1088;&#1091;&#1089;&#1089;&#1082;&#1086;&#1081;%20&#1080;&#1079;&#1073;&#1077;%20&#1085;&#1072;%20&#1088;&#1091;&#1089;&#1080;%20&#1082;&#1072;&#1088;&#1090;&#1080;&#1085;&#1082;&#1080;&amp;wp=&amp;pos=20&amp;isize=&amp;type=&amp;recent=&amp;rpt=simage&amp;itype=&amp;nojs=1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images.yandex.ru/yandsearch?img_url=http%3A%2F%2Fs018.radikal.ru%2Fi501%2F1201%2Fce%2F82c00100ce75.jpg&amp;iorient=&amp;icolor=&amp;site=&amp;text=&#1082;&#1088;&#1072;&#1089;&#1085;&#1099;&#1081;%20&#1091;&#1075;&#1086;&#1083;%20%20&#1074;%20&#1088;&#1091;&#1089;&#1089;&#1082;&#1086;&#1081;%20&#1080;&#1079;&#1073;&#1077;%20&#1085;&#1072;%20&#1088;&#1091;&#1089;&#1080;%20&#1082;&#1072;&#1088;&#1090;&#1080;&#1085;&#1082;&#1080;&amp;wp=&amp;pos=0&amp;isize=&amp;type=&amp;recent=&amp;rpt=simage&amp;itype=&amp;nojs=1" TargetMode="External"/><Relationship Id="rId7" Type="http://schemas.openxmlformats.org/officeDocument/2006/relationships/image" Target="../media/image34.jpeg"/><Relationship Id="rId8" Type="http://schemas.openxmlformats.org/officeDocument/2006/relationships/hyperlink" Target="http://rosgorodishe.narod.ru/fotoalbom/pic144.jpg" TargetMode="External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yandex.ru/yandsearch?img_url=http%3A%2F%2Fcicpx.narod.ru%2F2005-03-09%2Fimage007.jpg&amp;iorient=&amp;nojs=1&amp;icolor=&amp;site=&amp;text=&#1088;&#1091;&#1089;&#1089;&#1082;&#1086;&#1077;%20&#1085;&#1072;&#1088;&#1086;&#1076;&#1085;&#1086;&#1077;%20%20&#1088;&#1091;&#1082;&#1086;&#1087;&#1086;&#1078;&#1072;&#1090;&#1080;&#1077;&amp;wp=&amp;pos=4&amp;isize=&amp;type=&amp;recent=&amp;rpt=simage&amp;itype=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zhaba.ru/_pics/ordjt4e0wnv7y5x0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yandex.ru/yandsearch?img_url=http%3A%2F%2Fcs4321.userapi.com%2Fu10335256%2F94635287%2Fs_ba99279f.jpg&amp;iorient=&amp;nojs=1&amp;icolor=&amp;site=&amp;text=&#1088;&#1091;&#1089;&#1089;&#1082;&#1072;&#1103;%20&#1089;&#1074;&#1072;&#1076;&#1100;&#1073;&#1072;&amp;wp=&amp;pos=3&amp;isize=&amp;type=&amp;recent=&amp;rpt=simage&amp;itype=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andia.ru/text/category/vologodskaya_obl_/" TargetMode="Externa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cultinfo.ru/folk-culture/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pandia.ru/text/category/horeograf/" TargetMode="External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7" descr="Областной детский фольклорный фестиваль «Хохловские игрища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3801960"/>
            <a:ext cx="3498840" cy="305604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3"/>
          <a:stretch/>
        </p:blipFill>
        <p:spPr>
          <a:xfrm>
            <a:off x="109440" y="457200"/>
            <a:ext cx="8882280" cy="3346560"/>
          </a:xfrm>
          <a:prstGeom prst="rect">
            <a:avLst/>
          </a:prstGeom>
          <a:ln w="0">
            <a:noFill/>
          </a:ln>
        </p:spPr>
      </p:pic>
      <p:sp>
        <p:nvSpPr>
          <p:cNvPr id="401" name="TextBox 2"/>
          <p:cNvSpPr/>
          <p:nvPr/>
        </p:nvSpPr>
        <p:spPr>
          <a:xfrm>
            <a:off x="179280" y="487692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перв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данова Татьяна  Викто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547280" y="69228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ация для воспитателей МА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Рисунок 1" descr=""/>
          <p:cNvPicPr/>
          <p:nvPr/>
        </p:nvPicPr>
        <p:blipFill>
          <a:blip r:embed="rId1"/>
          <a:stretch/>
        </p:blipFill>
        <p:spPr>
          <a:xfrm>
            <a:off x="250920" y="-58680"/>
            <a:ext cx="8640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3"/>
          <p:cNvSpPr/>
          <p:nvPr/>
        </p:nvSpPr>
        <p:spPr>
          <a:xfrm>
            <a:off x="4284720" y="333360"/>
            <a:ext cx="4680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боры (хороводы, улицы)-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нее развлечение  молодежи  на околице деревни, на берегу реки или у леса.  Плели венки из полевых цветов,  играли в игры, пели и плясали, водили хороводы. Задерживались допоздна. Главной фигурой был хороший местный гармон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108" descr="http://h6.img.mediacache.rugion.ru/_i/forum/files/95/72/96/9572962_0s369_1321208756.jpg"/>
          <p:cNvPicPr/>
          <p:nvPr/>
        </p:nvPicPr>
        <p:blipFill>
          <a:blip r:embed="rId4"/>
          <a:stretch/>
        </p:blipFill>
        <p:spPr>
          <a:xfrm>
            <a:off x="5148360" y="3645000"/>
            <a:ext cx="3276360" cy="28191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71" descr="http://www.villina.net/_nw/1/64896255.jpg"/>
          <p:cNvPicPr/>
          <p:nvPr/>
        </p:nvPicPr>
        <p:blipFill>
          <a:blip r:embed="rId5"/>
          <a:stretch/>
        </p:blipFill>
        <p:spPr>
          <a:xfrm>
            <a:off x="900000" y="333360"/>
            <a:ext cx="3218040" cy="2808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http://www.poseti-nn.ru/images/afisha/6145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3284640"/>
            <a:ext cx="23749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2"/>
          <p:cNvSpPr/>
          <p:nvPr/>
        </p:nvSpPr>
        <p:spPr>
          <a:xfrm>
            <a:off x="1042920" y="341640"/>
            <a:ext cx="741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яды, приуроченные к крупным праздникам, включали большое количество разных произведений народного искусства (Фольклор): старинные лирические песни, свадебные, хороводные, календарно-обрядовые, плясовые; однако в повседневной жизни преобладали частушки,песни, приговоры, хороводы, игры, танцы, драматические сценки, маски, народные костюмы, своеобразный реквизит, устное народное творчество-  пестушки, загадки, сказки, поговорки и многое друг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http://900igr.net/datai/istorija/Russkij-narod/0006-012-Samo-slovo-folklor-prishlo-k-nam-iz-dalekoj-Anglii-i-perevoditsj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213372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http://mith.ru/folk/folk0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9640" y="2060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1"/>
          <p:cNvSpPr/>
          <p:nvPr/>
        </p:nvSpPr>
        <p:spPr>
          <a:xfrm>
            <a:off x="971640" y="189000"/>
            <a:ext cx="7561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яд русской свадь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х осыпали хмелем, так как хмель – это древний символ плодородия и многочадия . Невеста берет  с собою в дом жениха родительское благословение и сундук с приданым .Старинный обычай – разувание мужа молодой женой. Смысл  - таким образом молодая супруга подчеркивала свою покорность или согласие на главенство мужчины в семь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http://os1.i.ua/3/1/7778292_5504c0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00360" y="3573360"/>
            <a:ext cx="460836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1"/>
          <p:cNvSpPr/>
          <p:nvPr/>
        </p:nvSpPr>
        <p:spPr>
          <a:xfrm>
            <a:off x="971640" y="189000"/>
            <a:ext cx="7561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яд Кр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1042920" y="315000"/>
            <a:ext cx="77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ым обрядом, отмечавшим начало жизни ребенка было его крещение. Обряд совершали в церкви или дома. Как правило, младенца крестили на третий или сороковой день после рождения. Родителям не положено было присутствовать при крещении, вместо них были крестная мать, которая дарила рубашку и крестный отец, который должен был подарить ребенку нательный крес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6" descr="Обряд крещени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13120"/>
            <a:ext cx="43927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4"/>
          <p:cNvSpPr/>
          <p:nvPr/>
        </p:nvSpPr>
        <p:spPr>
          <a:xfrm>
            <a:off x="3205440" y="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из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1" descr="http://www.drugaya-arh.ru/200-text/arh-slov/pic-hata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149720"/>
            <a:ext cx="3673440" cy="25034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http://img0.liveinternet.ru/images/attach/c/1/54/668/54668832_srub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0000" y="3978360"/>
            <a:ext cx="3321000" cy="2619360"/>
          </a:xfrm>
          <a:prstGeom prst="rect">
            <a:avLst/>
          </a:prstGeom>
          <a:ln w="0">
            <a:noFill/>
          </a:ln>
        </p:spPr>
      </p:pic>
      <p:sp>
        <p:nvSpPr>
          <p:cNvPr id="458" name="Прямоугольник 11"/>
          <p:cNvSpPr/>
          <p:nvPr/>
        </p:nvSpPr>
        <p:spPr>
          <a:xfrm>
            <a:off x="1042920" y="620640"/>
            <a:ext cx="4897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традиционный дом состоит из двух частей: холодной (сени, клеть, подклеть) и тёплой (там, где находилась печь).  Всё в доме было продуманно до мелочей и выверено веками. Дом строился из сосны. А крышу крыли соломой или осиновыми дощечками. Только русские сравнивали дом с колесницей, которая должна привести семью к лучшему будущему. Снаружи дома украшались резьбой. До наших времён сохранилась традиция использования наличников. В сенях хозяева хранили различную утварь, а в самом доме чётко выделялся, так называемый «бабий кут». Где хозяйки готовили и рукодельнич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17" descr="http://www.burykina-o.narod.ru/club/r_slides/slide04.jpg"/>
          <p:cNvPicPr/>
          <p:nvPr/>
        </p:nvPicPr>
        <p:blipFill>
          <a:blip r:embed="rId8"/>
          <a:stretch/>
        </p:blipFill>
        <p:spPr>
          <a:xfrm>
            <a:off x="5940360" y="549360"/>
            <a:ext cx="30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"/>
          <p:cNvSpPr/>
          <p:nvPr/>
        </p:nvSpPr>
        <p:spPr>
          <a:xfrm>
            <a:off x="1042920" y="19872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горницей пере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ьня в горнице сосед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ель в ней вы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 – до потол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перины, одея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ушек там нема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оит, покрыт ков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ь с хозяйкиным доб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" descr="0_21cd4_f693cc32_XL"/>
          <p:cNvPicPr/>
          <p:nvPr/>
        </p:nvPicPr>
        <p:blipFill>
          <a:blip r:embed="rId4"/>
          <a:stretch/>
        </p:blipFill>
        <p:spPr>
          <a:xfrm>
            <a:off x="5580000" y="26028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1312409706_muzei"/>
          <p:cNvPicPr/>
          <p:nvPr/>
        </p:nvPicPr>
        <p:blipFill>
          <a:blip r:embed="rId5"/>
          <a:stretch/>
        </p:blipFill>
        <p:spPr>
          <a:xfrm>
            <a:off x="1116000" y="2708280"/>
            <a:ext cx="3456000" cy="3800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http://img1.liveinternet.ru/images/attach/c/3/77/406/77406103_4bf4f21c80ff5351d55169f7c800b18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32360" y="2708280"/>
            <a:ext cx="36720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"/>
          <p:cNvSpPr/>
          <p:nvPr/>
        </p:nvSpPr>
        <p:spPr>
          <a:xfrm>
            <a:off x="2050920" y="-288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печь в из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6"/>
          <p:cNvSpPr/>
          <p:nvPr/>
        </p:nvSpPr>
        <p:spPr>
          <a:xfrm>
            <a:off x="5580000" y="400536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нам резные л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убовый стол рез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печки сохнут трав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ли их ве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астой варили,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ь зимою от хворо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" descr="http://a18003.rimg.info/icon/17615530005312f4a72fc8da96650b9b0eba3897cf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2708280"/>
            <a:ext cx="3961080" cy="3753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900igr.net/datas/istorija/Russkij-byt/0027-027-Pech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35640" y="836640"/>
            <a:ext cx="3168720" cy="18716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1"/>
          <p:cNvSpPr/>
          <p:nvPr/>
        </p:nvSpPr>
        <p:spPr>
          <a:xfrm>
            <a:off x="1116000" y="557280"/>
            <a:ext cx="35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 в доме бы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ь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ы чёрны, закопчё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расивы изнут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гнил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ли людям добрым от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пились печи по-чёр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" descr="http://im0-tub-ru.yandex.net/i?id=18277144-01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47640" y="3141720"/>
            <a:ext cx="3240360" cy="3371760"/>
          </a:xfrm>
          <a:prstGeom prst="rect">
            <a:avLst/>
          </a:prstGeom>
          <a:ln w="0">
            <a:noFill/>
          </a:ln>
        </p:spPr>
      </p:pic>
      <p:sp>
        <p:nvSpPr>
          <p:cNvPr id="476" name="Прямоугольник 5"/>
          <p:cNvSpPr/>
          <p:nvPr/>
        </p:nvSpPr>
        <p:spPr>
          <a:xfrm>
            <a:off x="2634840" y="0"/>
            <a:ext cx="48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угол в русской из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http://im8-tub-ru.yandex.net/i?id=620618422-16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907920"/>
            <a:ext cx="2951280" cy="187344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8"/>
          <p:cNvSpPr/>
          <p:nvPr/>
        </p:nvSpPr>
        <p:spPr>
          <a:xfrm>
            <a:off x="4929120" y="69228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 Гой ты, Русь моя родн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ы, ризы в образах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5" descr="http://rosgorodishe.narod.ru/fotoalbom/pic14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1557360"/>
            <a:ext cx="3097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3"/>
          <p:cNvSpPr/>
          <p:nvPr/>
        </p:nvSpPr>
        <p:spPr>
          <a:xfrm>
            <a:off x="2622960" y="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у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" descr="a640"/>
          <p:cNvPicPr/>
          <p:nvPr/>
        </p:nvPicPr>
        <p:blipFill>
          <a:blip r:embed="rId4"/>
          <a:stretch/>
        </p:blipFill>
        <p:spPr>
          <a:xfrm>
            <a:off x="1116000" y="692280"/>
            <a:ext cx="2592360" cy="2160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image002"/>
          <p:cNvPicPr/>
          <p:nvPr/>
        </p:nvPicPr>
        <p:blipFill>
          <a:blip r:embed="rId5"/>
          <a:stretch/>
        </p:blipFill>
        <p:spPr>
          <a:xfrm>
            <a:off x="1042920" y="335772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128" descr="http://www.ocnt.isu.ru/decor/IMG/b4.jpg"/>
          <p:cNvPicPr/>
          <p:nvPr/>
        </p:nvPicPr>
        <p:blipFill>
          <a:blip r:embed="rId6"/>
          <a:stretch/>
        </p:blipFill>
        <p:spPr>
          <a:xfrm>
            <a:off x="5219640" y="83664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69" descr="http://img-2007-08.photosight.ru/20/2257889.jpg"/>
          <p:cNvPicPr/>
          <p:nvPr/>
        </p:nvPicPr>
        <p:blipFill>
          <a:blip r:embed="rId7"/>
          <a:stretch/>
        </p:blipFill>
        <p:spPr>
          <a:xfrm>
            <a:off x="4356000" y="2997360"/>
            <a:ext cx="453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884160" y="369000"/>
            <a:ext cx="8172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циональная культура 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– это национальная память народа, то, что выделяет данный народ в ряду других, хранит человека от обезличивания, позволяет ему ощутить связь времен и поко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нталит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  каждый народ имеет свои уникальные свойства менталитета, присущие только ему, в зависимости от ментальности нации строятся традиции, обряды, обычаи  и другие составляющие культуры. Менталитет русского народа, безусловно, качественно отличается от других национальностей, в первую очередь особым гостеприимством, широтой традиций и другими особен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muzey_241-160x213"/>
          <p:cNvPicPr/>
          <p:nvPr/>
        </p:nvPicPr>
        <p:blipFill>
          <a:blip r:embed="rId4"/>
          <a:stretch/>
        </p:blipFill>
        <p:spPr>
          <a:xfrm>
            <a:off x="5003640" y="620640"/>
            <a:ext cx="1800360" cy="27370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17748"/>
          <p:cNvPicPr/>
          <p:nvPr/>
        </p:nvPicPr>
        <p:blipFill>
          <a:blip r:embed="rId5"/>
          <a:stretch/>
        </p:blipFill>
        <p:spPr>
          <a:xfrm>
            <a:off x="1116000" y="620640"/>
            <a:ext cx="3456000" cy="27925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1313823929_kerosinovaya-lampa"/>
          <p:cNvPicPr/>
          <p:nvPr/>
        </p:nvPicPr>
        <p:blipFill>
          <a:blip r:embed="rId6"/>
          <a:stretch/>
        </p:blipFill>
        <p:spPr>
          <a:xfrm>
            <a:off x="7596360" y="620640"/>
            <a:ext cx="1368360" cy="2521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http://im8-tub-ru.yandex.net/i?id=100077084-32-72&amp;n=21"/>
          <p:cNvPicPr/>
          <p:nvPr/>
        </p:nvPicPr>
        <p:blipFill>
          <a:blip r:embed="rId7"/>
          <a:stretch/>
        </p:blipFill>
        <p:spPr>
          <a:xfrm>
            <a:off x="7093080" y="3645000"/>
            <a:ext cx="1726920" cy="2879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muzei01_full"/>
          <p:cNvPicPr/>
          <p:nvPr/>
        </p:nvPicPr>
        <p:blipFill>
          <a:blip r:embed="rId8"/>
          <a:stretch/>
        </p:blipFill>
        <p:spPr>
          <a:xfrm>
            <a:off x="1619280" y="3716280"/>
            <a:ext cx="50767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" descr="tropa_922"/>
          <p:cNvPicPr/>
          <p:nvPr/>
        </p:nvPicPr>
        <p:blipFill>
          <a:blip r:embed="rId3"/>
          <a:stretch/>
        </p:blipFill>
        <p:spPr>
          <a:xfrm>
            <a:off x="5435640" y="620640"/>
            <a:ext cx="2844720" cy="2376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http://im0-tub-ru.yandex.net/i?id=123309110-36-72&amp;n=21"/>
          <p:cNvPicPr/>
          <p:nvPr/>
        </p:nvPicPr>
        <p:blipFill>
          <a:blip r:embed="rId4"/>
          <a:stretch/>
        </p:blipFill>
        <p:spPr>
          <a:xfrm>
            <a:off x="1835280" y="692280"/>
            <a:ext cx="2197080" cy="2305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http://content.foto.mail.ru/mail/lyudmila-1946/_blogs/i-18110.jpg"/>
          <p:cNvPicPr/>
          <p:nvPr/>
        </p:nvPicPr>
        <p:blipFill>
          <a:blip r:embed="rId5"/>
          <a:stretch/>
        </p:blipFill>
        <p:spPr>
          <a:xfrm>
            <a:off x="2124000" y="3284640"/>
            <a:ext cx="5715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http://zhdemgostey.ru/wp-content/uploads/2012/01/gosty.jpg"/>
          <p:cNvPicPr/>
          <p:nvPr/>
        </p:nvPicPr>
        <p:blipFill>
          <a:blip r:embed="rId4"/>
          <a:stretch/>
        </p:blipFill>
        <p:spPr>
          <a:xfrm>
            <a:off x="1692360" y="2637000"/>
            <a:ext cx="6408720" cy="403200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3"/>
          <p:cNvSpPr/>
          <p:nvPr/>
        </p:nvSpPr>
        <p:spPr>
          <a:xfrm>
            <a:off x="1116000" y="260280"/>
            <a:ext cx="777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ередача от предшествующих поколений обычаев и обрядов,  направлены на духовный мир личности и выполняет роль средств воспроизведения, повторения и закрепления общепринятых общественных отношений не непосредственно, а через формирование морального и духовного облика человека, складывающегося в соответствии с этими отношениями.  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русское гостеприимство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3"/>
          <p:cNvSpPr/>
          <p:nvPr/>
        </p:nvSpPr>
        <p:spPr>
          <a:xfrm>
            <a:off x="1332000" y="126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ычай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ывает человеку более детальные поведение и поступки в определённых ситуация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символическое, но всякое вообще повторяющееся и установленное традицией 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: рукопожатия при встрече близких друзей или родственников,  вредный обычай-  угощать спиртным при встрече родственников, друзей и знакомых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im5-tub-ru.yandex.net/i?id=84543357-12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2093760"/>
            <a:ext cx="3095640" cy="2579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http://www.zhaba.ru/_pics/ordjt4e0wnv7y5x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62360" y="2852640"/>
            <a:ext cx="38894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5"/>
          <p:cNvSpPr/>
          <p:nvPr/>
        </p:nvSpPr>
        <p:spPr>
          <a:xfrm>
            <a:off x="1042920" y="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яд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ретизирует форму выражения общепринятого в той или иной местности поведения в особо яркие моменты жизни человека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  обряды  свадебный,  крещения, погреб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бряды считались столь же необходимым компонентом жизни, как и празд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ядовая культур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и есть порядок во всех проявлениях общественной жизни к данному случаю, обрядов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а, этический кодекс, регулирующий коллективные настроения и эмоц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http://im6-tub-ru.yandex.net/i?id=261442159-02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2421000"/>
            <a:ext cx="3743280" cy="3384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http://im7-tub-ru.yandex.net/i?id=532937725-54-72"/>
          <p:cNvPicPr/>
          <p:nvPr/>
        </p:nvPicPr>
        <p:blipFill>
          <a:blip r:embed="rId6"/>
          <a:stretch/>
        </p:blipFill>
        <p:spPr>
          <a:xfrm>
            <a:off x="5076720" y="306864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" descr=""/>
          <p:cNvPicPr/>
          <p:nvPr/>
        </p:nvPicPr>
        <p:blipFill>
          <a:blip r:embed="rId4"/>
          <a:stretch/>
        </p:blipFill>
        <p:spPr>
          <a:xfrm>
            <a:off x="1042920" y="1125360"/>
            <a:ext cx="81010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Рисунок 1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77058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1042920" y="981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льклор Вологодского кр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2771640" y="3789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2924280" y="3941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95280" y="2276640"/>
            <a:ext cx="7777080" cy="27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Bef>
                <a:spcPts val="1324"/>
              </a:spcBef>
              <a:spcAft>
                <a:spcPts val="13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льклорный танец – это танец исполняется в своей естественной среде и имеет определенные традиционные для данной местности движения, ритмы, костю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1324"/>
              </a:spcBef>
              <a:spcAft>
                <a:spcPts val="13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ясовая культура 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ea typeface="Times New Roman"/>
                <a:hlinkClick r:id="rId1"/>
              </a:rPr>
              <a:t>Вологод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ставляет собой яркое самобытное художественное явление, которое раскрывается в исторической многослойности традиций. В местных традициях пляска, как целостное художественно-выразительное явление имеет широкий диапазон в формах воплощ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3" descr="Межрегиональный праздник вепсской национальной культуры «Древо жизни»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149720"/>
            <a:ext cx="3097440" cy="256392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1"/>
          <p:cNvSpPr/>
          <p:nvPr/>
        </p:nvSpPr>
        <p:spPr>
          <a:xfrm>
            <a:off x="885960" y="115920"/>
            <a:ext cx="595764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Bef>
                <a:spcPts val="1324"/>
              </a:spcBef>
              <a:spcAft>
                <a:spcPts val="13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ее распространенной формой 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ea typeface="Times New Roman"/>
                <a:hlinkClick r:id="rId6"/>
              </a:rPr>
              <a:t>хореографиче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движения на всей территории является парная женская круговая пляска «Уточка». Особо выразительными свойствами обладает плясовой шаг – мелкий, приставной, «втаптывающий». Это нашло отражение в народных определениях: «шавкать ногам», «ходить торочком», «пешком». Так же обращает на себя внимание и спокойно-торжественный характер исполнения старинной пляски «Кружок», при этом создается особая атмосфера хореографического действа, исполненного глубоким внутренним смыслом, ее пляшут «неторопливо», «степенно»; девушка ходит «как павушка», «уточ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Администратор</cp:lastModifiedBy>
  <dcterms:modified xsi:type="dcterms:W3CDTF">2023-11-08T14:15:39Z</dcterms:modified>
  <cp:revision>15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360000000000010243100207f6000400038000</vt:lpwstr>
  </property>
</Properties>
</file>