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18.jpeg" ContentType="image/jpeg"/>
  <Override PartName="/ppt/media/image16.png" ContentType="image/png"/>
  <Override PartName="/ppt/media/image15.jpeg" ContentType="image/jpeg"/>
  <Override PartName="/ppt/media/image1.jpeg" ContentType="image/jpeg"/>
  <Override PartName="/ppt/media/image5.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FAD03-2930-4E45-98CB-AD3A46428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09AEF-3EB9-4386-956E-910B83367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D856E-3103-4044-A197-ACABFDD7E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AE601-7104-4573-9CAF-F54476BC1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9F10D-3359-418C-A536-A8FD990C0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DDDF7-CC39-4361-BE52-914B3654C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28069-7C0B-495E-AB1F-25D0CFAF9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CE124-907B-4328-A135-4D745F52E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CEB49-9B1F-440D-9208-9C6E5F633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56DBB-70C9-445F-AA6B-45F137012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3F669-4EB2-4918-B27C-E00643B91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A6B37-8356-48C9-988E-738406CF1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0EA9A-BC85-46C3-A783-0679DE9A0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2E0EF-6DDF-4756-A376-014BF21DE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2FBDC-B5B6-40F0-BADC-4EEDC8257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512F8-F936-4924-975F-60C95C7A0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83623-25A2-49A7-80EA-966888BDD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FB4080-8EEA-4391-AE95-AF36A4BDB5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D2EE1B-2370-4223-A85E-B2AD1C960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6F401-FE95-40EC-8A9B-B1FF038CE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69AADB-ADE4-46E9-936D-E5CC1C95C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F347F-7EF1-4A7B-84CA-CE67E5239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1994F-D568-43D1-B6E9-A1DF6406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E56F5-D6C3-477F-8DAB-7B7190443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D3421-8CC4-45BE-B28E-AA9A0D378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9D8F4-58B8-44CF-A63A-FD0C9C724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1BAE2-FBF2-4C40-93F2-E2020CA5B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7AF67F-E6FC-4893-9917-E2ED2D3E9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B3E897-8657-4A64-9D6F-07F9D2BA28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675C69-4CFF-453F-84F2-348966F86D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6F453C-5BB6-4420-A2C3-9BB97A2B27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7CC368-B97A-415D-B591-FBA7F887E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3245E-5B0F-445A-A718-2F55077D2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5FB06-EE49-49F4-B08F-0E23A5BD4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560B9-D251-4586-BA4A-54C9FC9995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32894-DC2B-453B-835A-0111A21D6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7D265D-435F-41EA-9F8F-5685B497D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3B460-4FAC-42C6-931E-049AB9B37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E021E-DA9A-4923-957F-B899E6952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86FC9-716E-4133-8A4E-9AF9296FC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1CFD87-7C84-4845-B8E9-2E3B818F3D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97106B-93A4-47F3-8CDE-98A6071E05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543A7-0FAB-4643-9F4A-ADA61FDB65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BADD1-043B-4C5D-8C94-C2277B75E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83F03-C705-49CF-8753-DF387851F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1047-D03E-4151-9DEF-89C6B2DF5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09FD1-D0DC-401C-AC7A-74C575CE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DDD7-B9D2-454D-9B00-5AE6722D5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39CE-6892-40CA-B478-087027CBB97D}"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A62C-C06D-4E61-87CB-6C1EFBBDCBBC}"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18D5-E74D-475F-A1B9-7A15BCF1521E}"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6394-F88D-42B9-B29B-17C8450E152A}"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63680" y="433440"/>
            <a:ext cx="7948440" cy="27734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Любовь – претрудная школа жизни» </a:t>
            </a:r>
            <a:endParaRPr b="0" lang="en-US" sz="3200" spc="-1" strike="noStrike">
              <a:solidFill>
                <a:srgbClr val="ffffff"/>
              </a:solidFill>
              <a:latin typeface="Constanti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И.И.Обломов</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500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Зачем ей все это надо? </a:t>
            </a:r>
            <a:br>
              <a:rPr sz="4500"/>
            </a:b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тобы удивился Штольц её способностям («И Штольц не узнает его, воротяс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тобы Обломов восхищался ею, жил для неё и восхищался ею.(« Он будет жить, действовать, благословлять жизнь и её»)</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 собственной славы, ради собственного самолюбия. (« Возвратить человека к жизни – сколько славы доктору, когда он спасет безнадежно больного! А спасти нравственно погибающий ум, душ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500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Как изменилась жизнь главного героя после встречи с Ильинской?</a:t>
            </a:r>
            <a:r>
              <a:rPr b="0" lang="ru-RU" sz="4000" spc="-1" strike="noStrike">
                <a:solidFill>
                  <a:srgbClr val="04617b"/>
                </a:solidFill>
                <a:latin typeface="Calibri"/>
              </a:rPr>
              <a:t> </a:t>
            </a:r>
            <a:br>
              <a:rPr sz="4500"/>
            </a:br>
            <a:endParaRPr b="0" lang="en-US" sz="4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стает он в семь часов. Читает, носит куда-то книги. На лице ни сна, ни усталости, ни скуки, на нем появились даже краски, в глазах блеск, что-то вроде отваги или, по крайней мере, самоуверенности. Халата не видать на нем… Выходит он в сюртуке, прекрасно сшитом, в щегольской шляпе…Он весел, напевает…отчего же это?»</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880"/>
            <a:ext cx="8229600" cy="4595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Истинное чувство, истинная любовь способна делать чудеса. Она возрождает человека в человеке, раскрывает его внутренние резервы и возможности. </a:t>
            </a:r>
            <a:br>
              <a:rPr sz="4500"/>
            </a:br>
            <a:endParaRPr b="0" lang="en-US" sz="4500" spc="-1" strike="noStrike">
              <a:solidFill>
                <a:srgbClr val="04617b"/>
              </a:solidFill>
              <a:latin typeface="Calibri"/>
            </a:endParaRPr>
          </a:p>
        </p:txBody>
      </p:sp>
      <p:sp>
        <p:nvSpPr>
          <p:cNvPr id="228" name=""/>
          <p:cNvSpPr txBox="1"/>
          <p:nvPr/>
        </p:nvSpPr>
        <p:spPr>
          <a:xfrm>
            <a:off x="2484000" y="4581360"/>
            <a:ext cx="6202440" cy="17431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42960" y="499680"/>
            <a:ext cx="8229600" cy="278604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бломов в любви проявляет лучшие качества, лучшие стороны своего характера: глубину своих переживаний, поэтичность натуры, мечтательность…;</a:t>
            </a:r>
            <a:br>
              <a:rPr sz="2400"/>
            </a:br>
            <a:r>
              <a:rPr b="0" lang="ru-RU" sz="2400" spc="-1" strike="noStrike">
                <a:solidFill>
                  <a:srgbClr val="000000"/>
                </a:solidFill>
                <a:latin typeface="Constantia"/>
              </a:rPr>
              <a:t>- в нем развито нравственное чувство и чувство интуиции, он понимает, что нравится Ольге, он способен на глубокое чувство.</a:t>
            </a:r>
            <a:endParaRPr b="0" lang="en-US" sz="2400" spc="-1" strike="noStrike">
              <a:solidFill>
                <a:srgbClr val="000000"/>
              </a:solidFill>
              <a:latin typeface="Constantia"/>
            </a:endParaRPr>
          </a:p>
        </p:txBody>
      </p:sp>
      <p:pic>
        <p:nvPicPr>
          <p:cNvPr id="230" name="Picture 5" descr="Как относится ольга к обломову. Илья Ильич Обломов – коренной народный наш  тип"/>
          <p:cNvPicPr/>
          <p:nvPr/>
        </p:nvPicPr>
        <p:blipFill>
          <a:blip r:embed="rId1"/>
          <a:stretch/>
        </p:blipFill>
        <p:spPr>
          <a:xfrm>
            <a:off x="1442880" y="3071880"/>
            <a:ext cx="6129360" cy="340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2" name=""/>
          <p:cNvSpPr txBox="1"/>
          <p:nvPr/>
        </p:nvSpPr>
        <p:spPr>
          <a:xfrm>
            <a:off x="179280" y="404640"/>
            <a:ext cx="8507520" cy="5919840"/>
          </a:xfrm>
          <a:prstGeom prst="rect">
            <a:avLst/>
          </a:prstGeom>
          <a:noFill/>
          <a:ln w="0">
            <a:noFill/>
          </a:ln>
        </p:spPr>
        <p:txBody>
          <a:bodyPr anchor="t">
            <a:normAutofit/>
          </a:bodyPr>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Ольга берет на себя роль “путеводной звезды”. Ольга пытается “поставить Обломова на ноги”, научить действию, вывести из покоя и лености.</a:t>
            </a:r>
            <a:endParaRPr b="0" lang="en-US" sz="2200" spc="-1" strike="noStrike">
              <a:solidFill>
                <a:srgbClr val="000000"/>
              </a:solidFill>
              <a:latin typeface="Constantia"/>
            </a:endParaRPr>
          </a:p>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бломову же новое чувство незнакомо. Он путается, теряется, стыдится. Он любит Ольгу сердцем, любит нежно, послушно, стыдливо. Его душа пробуждается, потому что живая. Он черпает что-то из Ольги, и сердце его начинает биться, а мозг работать. Ольга вливает в него энергию, любовь к действию, которые заставляют его работать, думать, читать, заниматься хозяйством, мысли его постепенно начинают оформляться. Хотя иногда еще в него вползает “червь неуверенности и лености” и опять хочется спрятать голову под крыло, но Ольга вновь вливает в него надежду, не бросает его, а мягко, по-матерински направляет и наставляет, и Обломов опять живет, опять работает, опять самостоятельно пытается решать. Ольга всегда на “страже”, всегда поможет, всегда научит. </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4" name=""/>
          <p:cNvSpPr txBox="1"/>
          <p:nvPr/>
        </p:nvSpPr>
        <p:spPr>
          <a:xfrm>
            <a:off x="356760" y="928440"/>
            <a:ext cx="5372280" cy="4389480"/>
          </a:xfrm>
          <a:prstGeom prst="rect">
            <a:avLst/>
          </a:prstGeom>
          <a:noFill/>
          <a:ln w="0">
            <a:noFill/>
          </a:ln>
        </p:spPr>
        <p:txBody>
          <a:bodyPr anchor="t">
            <a:normAutofit/>
          </a:bodyPr>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о часто в мечтах Обломова вставала идиллическая картина: Обломовка, все хорошо, спокойно вокруг, большой дом, где покойно живут он, Илья Ильич, и Ольга, а вокруг бегают дети, и нет в этом уголке ни волнений, ни движения, но лишь спокойствие, умеренность и тишина. В этом и состоит их противоречие: Ольга видит в своих мечтах деятельного и активного человека, а Обломов — все ту же идиллическую картинку.</a:t>
            </a:r>
            <a:endParaRPr b="0" lang="en-US" sz="2000" spc="-1" strike="noStrike">
              <a:solidFill>
                <a:srgbClr val="000000"/>
              </a:solidFill>
              <a:latin typeface="Constantia"/>
            </a:endParaRPr>
          </a:p>
        </p:txBody>
      </p:sp>
      <p:pic>
        <p:nvPicPr>
          <p:cNvPr id="235" name="Picture 5" descr="Детство Обломова: описание, характеристика в цитатах, роль детства в жизни  героя | &quot;Обломов&quot; Гончарова"/>
          <p:cNvPicPr/>
          <p:nvPr/>
        </p:nvPicPr>
        <p:blipFill>
          <a:blip r:embed="rId1"/>
          <a:stretch/>
        </p:blipFill>
        <p:spPr>
          <a:xfrm>
            <a:off x="5786280" y="1071720"/>
            <a:ext cx="3200400" cy="420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57120" y="714240"/>
            <a:ext cx="8286840" cy="3797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акой момент начинается разрыв отношений?</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помните сцену прощания героев. Почему она напоминает «разговор глухих»?</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го Ольга ждёт от Ильи Обломова?</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чему она не отзывается на его призыв : «Возьми меня как я есть, люби во мне , что есть хорошего»</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то вызывает у вас сочувствие:Ольга или Илья?</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чему расстались Ольга и Обломов?</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олько ли Обломов виноват в этом?</a:t>
            </a:r>
            <a:endParaRPr b="0" lang="en-US" sz="1800" spc="-1" strike="noStrike">
              <a:solidFill>
                <a:srgbClr val="000000"/>
              </a:solidFill>
              <a:latin typeface="Arial"/>
            </a:endParaRPr>
          </a:p>
        </p:txBody>
      </p:sp>
      <p:pic>
        <p:nvPicPr>
          <p:cNvPr id="237" name="Picture 2" descr="Образ Ольги Ильинской в романе &quot;Обломов&quot; Гончарова: портрет в цитатах"/>
          <p:cNvPicPr/>
          <p:nvPr/>
        </p:nvPicPr>
        <p:blipFill>
          <a:blip r:embed="rId1"/>
          <a:stretch/>
        </p:blipFill>
        <p:spPr>
          <a:xfrm>
            <a:off x="6072120" y="2975040"/>
            <a:ext cx="2986200" cy="388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9" name=""/>
          <p:cNvSpPr txBox="1"/>
          <p:nvPr/>
        </p:nvSpPr>
        <p:spPr>
          <a:xfrm>
            <a:off x="142560" y="499680"/>
            <a:ext cx="5715000" cy="442908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a:t>
            </a:r>
            <a:r>
              <a:rPr b="0" lang="ru-RU" sz="2000" spc="-1" strike="noStrike">
                <a:solidFill>
                  <a:srgbClr val="000000"/>
                </a:solidFill>
                <a:latin typeface="Constantia"/>
              </a:rPr>
              <a:t>...Я слишком  понадеялась на свои силы... Не о первой молодости и красоте мечтала я: я думала, что я оживлю тебя, что ты можешь еще жить для меня, — а ты давно уже умер. Я не предвидела этой ошибки, я все ждала, надеялась!..”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то проклял тебя, Илья? Что ты сделал? &lt;...&gt; Что сгубило тебя? Нет имени этому злу..."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сть, - отвечает Илья. - Обломовщина!«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 него нет сил сопротивляться ей, и Илья Ильич вскоре засыпает духовно, а потом и физически.)</a:t>
            </a:r>
            <a:r>
              <a:rPr b="0" lang="ru-RU"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0" name="Picture 5" descr="Сочинение: &quot;Сон Обломова&quot; (по роману И.А. Гончарова &quot;Обломов&quot;)"/>
          <p:cNvPicPr/>
          <p:nvPr/>
        </p:nvPicPr>
        <p:blipFill>
          <a:blip r:embed="rId1"/>
          <a:stretch/>
        </p:blipFill>
        <p:spPr>
          <a:xfrm>
            <a:off x="5715000" y="2071800"/>
            <a:ext cx="3286080" cy="40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Композиция романа</a:t>
            </a:r>
            <a:endParaRPr b="0" lang="en-US" sz="5000" spc="-1" strike="noStrike">
              <a:solidFill>
                <a:srgbClr val="04617b"/>
              </a:solidFill>
              <a:latin typeface="Calibri"/>
            </a:endParaRPr>
          </a:p>
        </p:txBody>
      </p:sp>
      <p:pic>
        <p:nvPicPr>
          <p:cNvPr id="242" name="Содержимое 3" descr=""/>
          <p:cNvPicPr/>
          <p:nvPr/>
        </p:nvPicPr>
        <p:blipFill>
          <a:blip r:embed="rId1"/>
          <a:stretch/>
        </p:blipFill>
        <p:spPr>
          <a:xfrm>
            <a:off x="1116000" y="2492280"/>
            <a:ext cx="7128000" cy="35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44" name=""/>
          <p:cNvSpPr txBox="1"/>
          <p:nvPr/>
        </p:nvSpPr>
        <p:spPr>
          <a:xfrm>
            <a:off x="179280" y="1125360"/>
            <a:ext cx="8507520" cy="51991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ервая и четвертая части романа</a:t>
            </a:r>
            <a:r>
              <a:rPr b="0" lang="ru-RU" sz="2600" spc="-1" strike="noStrike">
                <a:solidFill>
                  <a:srgbClr val="000000"/>
                </a:solidFill>
                <a:latin typeface="Constantia"/>
              </a:rPr>
              <a:t> - его опора, почва. Взлет во </a:t>
            </a:r>
            <a:r>
              <a:rPr b="0" lang="ru-RU" sz="2600" spc="-1" strike="noStrike" u="sng">
                <a:solidFill>
                  <a:srgbClr val="000000"/>
                </a:solidFill>
                <a:uFillTx/>
                <a:latin typeface="Constantia"/>
              </a:rPr>
              <a:t>второй-третьей частях</a:t>
            </a:r>
            <a:r>
              <a:rPr b="0" lang="ru-RU" sz="2600" spc="-1" strike="noStrike">
                <a:solidFill>
                  <a:srgbClr val="000000"/>
                </a:solidFill>
                <a:latin typeface="Constantia"/>
              </a:rPr>
              <a:t> - кульминация романа, та самая горка, на которую приходится взбираться Обломову.</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ервая часть романа внутренне связана с четвертой частью</a:t>
            </a:r>
            <a:r>
              <a:rPr b="0" lang="ru-RU" sz="2600" spc="-1" strike="noStrike">
                <a:solidFill>
                  <a:srgbClr val="000000"/>
                </a:solidFill>
                <a:latin typeface="Constantia"/>
              </a:rPr>
              <a:t>, т. е. сопоставленными оказываются Обломовка и Выборгская сторона.</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етыре части романа соответствуют четырем временам года. Роман начинается весной, 1 ма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тория любви - лето, переходящее в осень и зиму. Композиция вписана в годовой круг, ежегодный круговорот природы, цикличное время.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642960"/>
            <a:ext cx="8229600" cy="44496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Любовь — это не покой, она должна иметь нравственный результат, прежде всего для любящих» </a:t>
            </a:r>
            <a:br>
              <a:rPr sz="4400"/>
            </a:br>
            <a:r>
              <a:rPr b="0" lang="ru-RU" sz="4000" spc="-1" strike="noStrike">
                <a:solidFill>
                  <a:srgbClr val="04617b"/>
                </a:solidFill>
                <a:latin typeface="Calibri"/>
              </a:rPr>
              <a:t>Иннокентий Анненский</a:t>
            </a:r>
            <a:br>
              <a:rPr sz="4000"/>
            </a:br>
            <a:endParaRPr b="0" lang="en-US" sz="4000" spc="-1" strike="noStrike">
              <a:solidFill>
                <a:srgbClr val="04617b"/>
              </a:solidFill>
              <a:latin typeface="Calibri"/>
            </a:endParaRPr>
          </a:p>
        </p:txBody>
      </p:sp>
      <p:sp>
        <p:nvSpPr>
          <p:cNvPr id="198" name=""/>
          <p:cNvSpPr txBox="1"/>
          <p:nvPr/>
        </p:nvSpPr>
        <p:spPr>
          <a:xfrm>
            <a:off x="4716000" y="5300640"/>
            <a:ext cx="3970440" cy="1023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00" y="642600"/>
            <a:ext cx="542916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Расскажите об Агафье Пшеницыной по плану</a:t>
            </a:r>
            <a:endParaRPr b="0" lang="en-US" sz="3200" spc="-1" strike="noStrike">
              <a:solidFill>
                <a:srgbClr val="04617b"/>
              </a:solidFill>
              <a:latin typeface="Calibri"/>
            </a:endParaRPr>
          </a:p>
        </p:txBody>
      </p:sp>
      <p:sp>
        <p:nvSpPr>
          <p:cNvPr id="246" name=""/>
          <p:cNvSpPr txBox="1"/>
          <p:nvPr/>
        </p:nvSpPr>
        <p:spPr>
          <a:xfrm>
            <a:off x="428760" y="13568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ервое впечатление о героин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чему Обломов полюбил её?</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ак изображено чувство хозяйк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ак протекала их жи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Что изменил Обломов в судьбе Агафьи Матвеевн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равните Ольгу Ильинскую и Агафью Пшеницыну.</a:t>
            </a:r>
            <a:endParaRPr b="0" lang="en-US" sz="2000" spc="-1" strike="noStrike">
              <a:solidFill>
                <a:srgbClr val="000000"/>
              </a:solidFill>
              <a:latin typeface="Constantia"/>
            </a:endParaRPr>
          </a:p>
        </p:txBody>
      </p:sp>
      <p:pic>
        <p:nvPicPr>
          <p:cNvPr id="247" name="Picture 2" descr="Логика обломовской сказки лекция смотреть, слушать и читать онлайн. Курс  Русский канон в эпоху реализма. Михаил Свердлов - Магистерия"/>
          <p:cNvPicPr/>
          <p:nvPr/>
        </p:nvPicPr>
        <p:blipFill>
          <a:blip r:embed="rId1"/>
          <a:stretch/>
        </p:blipFill>
        <p:spPr>
          <a:xfrm>
            <a:off x="6715080" y="3500280"/>
            <a:ext cx="2286000" cy="3252960"/>
          </a:xfrm>
          <a:prstGeom prst="rect">
            <a:avLst/>
          </a:prstGeom>
          <a:ln w="0">
            <a:noFill/>
          </a:ln>
        </p:spPr>
      </p:pic>
      <p:pic>
        <p:nvPicPr>
          <p:cNvPr id="248" name="Picture 4" descr="Агафья Пшеницына - история персонажа, сюжет, характер, цитаты - 24СМИ"/>
          <p:cNvPicPr/>
          <p:nvPr/>
        </p:nvPicPr>
        <p:blipFill>
          <a:blip r:embed="rId2"/>
          <a:stretch/>
        </p:blipFill>
        <p:spPr>
          <a:xfrm>
            <a:off x="1357200" y="3929040"/>
            <a:ext cx="3727440" cy="248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28760" y="642600"/>
            <a:ext cx="8229600" cy="57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4617b"/>
                </a:solidFill>
                <a:latin typeface="Calibri"/>
              </a:rPr>
              <a:t>Каждая из этих женщин помогает нам понять главного героя </a:t>
            </a:r>
            <a:endParaRPr b="0" lang="en-US" sz="2400" spc="-1" strike="noStrike">
              <a:solidFill>
                <a:srgbClr val="04617b"/>
              </a:solidFill>
              <a:latin typeface="Calibri"/>
            </a:endParaRPr>
          </a:p>
        </p:txBody>
      </p:sp>
      <p:sp>
        <p:nvSpPr>
          <p:cNvPr id="250" name=""/>
          <p:cNvSpPr txBox="1"/>
          <p:nvPr/>
        </p:nvSpPr>
        <p:spPr>
          <a:xfrm>
            <a:off x="356760" y="1428840"/>
            <a:ext cx="4038840" cy="26431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льга гармонично совмещает сердце и волю, стремится пробудить героя к жизн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ё любовь смогла хоть ненадолго преобразить Обломова, показать его «чистое,верное сердц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1" name=""/>
          <p:cNvSpPr txBox="1"/>
          <p:nvPr/>
        </p:nvSpPr>
        <p:spPr>
          <a:xfrm>
            <a:off x="4572000" y="1428840"/>
            <a:ext cx="4038480" cy="2571840"/>
          </a:xfrm>
          <a:prstGeom prst="rect">
            <a:avLst/>
          </a:prstGeom>
          <a:noFill/>
          <a:ln w="0">
            <a:noFill/>
          </a:ln>
        </p:spPr>
        <p:txBody>
          <a:bodyPr anchor="t">
            <a:normAutofit fontScale="93000"/>
          </a:bodyPr>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гафья Матвеевна простодушно и преданно любит героя, создаёт в его жизни уют и комфорт, что напоминает ему родную Обломовку. Она любит его таким, какой он есть, позволяя ему жить спокойно.</a:t>
            </a:r>
            <a:endParaRPr b="0" lang="en-US" sz="2000" spc="-1" strike="noStrike">
              <a:solidFill>
                <a:srgbClr val="000000"/>
              </a:solidFill>
              <a:latin typeface="Constantia"/>
            </a:endParaRPr>
          </a:p>
        </p:txBody>
      </p:sp>
      <p:sp>
        <p:nvSpPr>
          <p:cNvPr id="252" name="Rectangle 4"/>
          <p:cNvSpPr/>
          <p:nvPr/>
        </p:nvSpPr>
        <p:spPr>
          <a:xfrm>
            <a:off x="714240" y="4214880"/>
            <a:ext cx="7858440" cy="1373760"/>
          </a:xfrm>
          <a:prstGeom prst="rect">
            <a:avLst/>
          </a:prstGeom>
          <a:solidFill>
            <a:srgbClr val="0f6fc6"/>
          </a:solidFill>
          <a:ln w="38160">
            <a:solidFill>
              <a:srgbClr val="ffffff"/>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Домашнее задание: записать основное содержание презентации тезисно. (2 страницы в тетр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285840"/>
            <a:ext cx="8358120" cy="2286000"/>
          </a:xfrm>
          <a:prstGeom prst="rect">
            <a:avLst/>
          </a:prstGeom>
          <a:noFill/>
          <a:ln w="0">
            <a:noFill/>
          </a:ln>
        </p:spPr>
        <p:txBody>
          <a:bodyPr lIns="0" rIns="0" b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начально «Обломов» задумывался как обобщённое жизнеописание одного представителя бездеятельного, апатичного помещичьего класса. Так проявлялась позиция автора по отношению к крепостному праву. Но позже Гончаров усложняет сюжет, включая в него любовную линию. Для чего он это делает?  Какой общеизвестный приём использует?</a:t>
            </a:r>
            <a:endParaRPr b="0" lang="en-US" sz="2400" spc="-1" strike="noStrike">
              <a:solidFill>
                <a:srgbClr val="04617b"/>
              </a:solidFill>
              <a:latin typeface="Calibri"/>
            </a:endParaRPr>
          </a:p>
        </p:txBody>
      </p:sp>
      <p:pic>
        <p:nvPicPr>
          <p:cNvPr id="200" name="Picture 2" descr="Отношения и любовь Ильи Обломова и Ольги Ильинской"/>
          <p:cNvPicPr/>
          <p:nvPr/>
        </p:nvPicPr>
        <p:blipFill>
          <a:blip r:embed="rId1"/>
          <a:stretch/>
        </p:blipFill>
        <p:spPr>
          <a:xfrm>
            <a:off x="2000160" y="2928960"/>
            <a:ext cx="4762440" cy="33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785880"/>
            <a:ext cx="8358120" cy="1643040"/>
          </a:xfrm>
          <a:prstGeom prst="rect">
            <a:avLst/>
          </a:prstGeom>
          <a:noFill/>
          <a:ln w="0">
            <a:noFill/>
          </a:ln>
        </p:spPr>
        <p:txBody>
          <a:bodyPr lIns="0" rIns="0" b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начально «Обломов» задумывался как обобщённое жизнеописание одного представителя бездеятельного, апатичного помещичьего класса. Так проявлялась позиция автора по отношению к крепостному праву. Но позже Гончаров усложняет сюжет, включая в него любовную линию. Для чего он это делает?  Какой общеизвестный приём использует?</a:t>
            </a:r>
            <a:endParaRPr b="0" lang="en-US" sz="2000" spc="-1" strike="noStrike">
              <a:solidFill>
                <a:srgbClr val="04617b"/>
              </a:solidFill>
              <a:latin typeface="Calibri"/>
            </a:endParaRPr>
          </a:p>
        </p:txBody>
      </p:sp>
      <p:pic>
        <p:nvPicPr>
          <p:cNvPr id="202" name="Picture 2" descr="Отношения и любовь Ильи Обломова и Ольги Ильинской"/>
          <p:cNvPicPr/>
          <p:nvPr/>
        </p:nvPicPr>
        <p:blipFill>
          <a:blip r:embed="rId1"/>
          <a:stretch/>
        </p:blipFill>
        <p:spPr>
          <a:xfrm>
            <a:off x="214200" y="2643120"/>
            <a:ext cx="3953160" cy="2790720"/>
          </a:xfrm>
          <a:prstGeom prst="rect">
            <a:avLst/>
          </a:prstGeom>
          <a:ln w="0">
            <a:noFill/>
          </a:ln>
        </p:spPr>
      </p:pic>
      <p:sp>
        <p:nvSpPr>
          <p:cNvPr id="203" name="Rectangle 3"/>
          <p:cNvSpPr/>
          <p:nvPr/>
        </p:nvSpPr>
        <p:spPr>
          <a:xfrm>
            <a:off x="4214880" y="2643120"/>
            <a:ext cx="478620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ём испытания любовью.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ывая, как ведёт себя герой, влюбившись, автор открывает в душе своего персонажа много новых граней, которые не проявились бы при других обстоятельствах.</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о развязке любовного сюжета можно судить и об отношении автора к персонажу.</a:t>
            </a:r>
            <a:endParaRPr b="0" lang="en-US" sz="1800" spc="-1" strike="noStrike">
              <a:solidFill>
                <a:srgbClr val="000000"/>
              </a:solidFill>
              <a:latin typeface="Arial"/>
            </a:endParaRPr>
          </a:p>
        </p:txBody>
      </p:sp>
      <p:sp>
        <p:nvSpPr>
          <p:cNvPr id="204" name="Rectangle 4"/>
          <p:cNvSpPr/>
          <p:nvPr/>
        </p:nvSpPr>
        <p:spPr>
          <a:xfrm>
            <a:off x="1000080" y="5572080"/>
            <a:ext cx="7286760" cy="1008720"/>
          </a:xfrm>
          <a:prstGeom prst="rect">
            <a:avLst/>
          </a:pr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Прежде чем говорить об отношениях героев, давайте вспомним, каков их характер, чего они ждут от жизн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85480" y="785880"/>
            <a:ext cx="404316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Ольга</a:t>
            </a:r>
            <a:endParaRPr b="0" lang="en-US" sz="2400" spc="-1" strike="noStrike">
              <a:solidFill>
                <a:srgbClr val="000000"/>
              </a:solidFill>
              <a:latin typeface="Constantia"/>
            </a:endParaRPr>
          </a:p>
        </p:txBody>
      </p:sp>
      <p:sp>
        <p:nvSpPr>
          <p:cNvPr id="206" name="PlaceHolder 2"/>
          <p:cNvSpPr>
            <a:spLocks noGrp="1"/>
          </p:cNvSpPr>
          <p:nvPr>
            <p:ph/>
          </p:nvPr>
        </p:nvSpPr>
        <p:spPr>
          <a:xfrm>
            <a:off x="4643280" y="856800"/>
            <a:ext cx="404208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Обломов</a:t>
            </a:r>
            <a:endParaRPr b="0" lang="en-US" sz="2400" spc="-1" strike="noStrike">
              <a:solidFill>
                <a:srgbClr val="000000"/>
              </a:solidFill>
              <a:latin typeface="Constantia"/>
            </a:endParaRPr>
          </a:p>
        </p:txBody>
      </p:sp>
      <p:sp>
        <p:nvSpPr>
          <p:cNvPr id="207" name=""/>
          <p:cNvSpPr txBox="1"/>
          <p:nvPr/>
        </p:nvSpPr>
        <p:spPr>
          <a:xfrm>
            <a:off x="428760" y="1356840"/>
            <a:ext cx="4039920" cy="4643640"/>
          </a:xfrm>
          <a:prstGeom prst="rect">
            <a:avLst/>
          </a:prstGeom>
          <a:noFill/>
          <a:ln w="0">
            <a:noFill/>
          </a:ln>
        </p:spPr>
        <p:txBody>
          <a:bodyPr tIns="0" anchor="t">
            <a:normAutofit fontScale="93000"/>
          </a:bodyPr>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оницательная</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равновешенная,гармоничная</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кренняя, честная</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щительная</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ордая</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меет чувство долга</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Чувствительная, с возвышенной душой</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мная</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Энергичная</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обрая</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Жаждет деятельности, ждёт настоящей любви</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8" name=""/>
          <p:cNvSpPr txBox="1"/>
          <p:nvPr/>
        </p:nvSpPr>
        <p:spPr>
          <a:xfrm>
            <a:off x="4643280" y="1428840"/>
            <a:ext cx="4042080" cy="428616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обрый, душевны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лагородный, порядочны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звольный, ленивый, беспечны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лабохарактерны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есамостоятельны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е способен что-то менят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уждается в забот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е желает быть в обществе </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Мечтает об идеальной жизни</a:t>
            </a:r>
            <a:endParaRPr b="0" lang="en-US" sz="2200" spc="-1" strike="noStrike">
              <a:solidFill>
                <a:srgbClr val="000000"/>
              </a:solidFill>
              <a:latin typeface="Constantia"/>
            </a:endParaRPr>
          </a:p>
        </p:txBody>
      </p:sp>
      <p:grpSp>
        <p:nvGrpSpPr>
          <p:cNvPr id="209" name="Rectangle 6"/>
          <p:cNvGrpSpPr/>
          <p:nvPr/>
        </p:nvGrpSpPr>
        <p:grpSpPr>
          <a:xfrm>
            <a:off x="382680" y="212760"/>
            <a:ext cx="8631360" cy="646200"/>
            <a:chOff x="382680" y="212760"/>
            <a:chExt cx="8631360" cy="646200"/>
          </a:xfrm>
        </p:grpSpPr>
        <p:pic>
          <p:nvPicPr>
            <p:cNvPr id="210" name="Rectangle 6" descr=""/>
            <p:cNvPicPr/>
            <p:nvPr/>
          </p:nvPicPr>
          <p:blipFill>
            <a:blip r:embed="rId1"/>
            <a:stretch/>
          </p:blipFill>
          <p:spPr>
            <a:xfrm>
              <a:off x="554040" y="212760"/>
              <a:ext cx="8211960" cy="646200"/>
            </a:xfrm>
            <a:prstGeom prst="rect">
              <a:avLst/>
            </a:prstGeom>
            <a:ln w="0">
              <a:noFill/>
            </a:ln>
          </p:spPr>
        </p:pic>
        <p:sp>
          <p:nvSpPr>
            <p:cNvPr id="211" name=""/>
            <p:cNvSpPr/>
            <p:nvPr/>
          </p:nvSpPr>
          <p:spPr>
            <a:xfrm>
              <a:off x="382680" y="285840"/>
              <a:ext cx="863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Черты характера и жизненные устремления героев</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1680" y="1142640"/>
            <a:ext cx="8229600" cy="49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Почему Обломов прячется от общества? От чего он бежит?</a:t>
            </a:r>
            <a:r>
              <a:rPr b="0" lang="ru-RU" sz="2400" spc="-1" strike="noStrike">
                <a:solidFill>
                  <a:srgbClr val="04617b"/>
                </a:solidFill>
                <a:latin typeface="Calibri"/>
              </a:rPr>
              <a:t> </a:t>
            </a:r>
            <a:endParaRPr b="0" lang="en-US" sz="24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 </a:t>
            </a:r>
            <a:r>
              <a:rPr b="1" i="1" lang="ru-RU" sz="2600" spc="-1" strike="noStrike">
                <a:solidFill>
                  <a:srgbClr val="000000"/>
                </a:solidFill>
                <a:latin typeface="Constantia"/>
              </a:rPr>
              <a:t>Илья Ильич мечтал уйти от общества, света, потому что не находит там никаких интересов, видит там одних "мертвецов".  Ему хотелось освободиться от вечной суеты, страстей, жадности, сплетен, пересудов. Илья Ильич мечтал, "обняв жену за талью, углубиться с ней в бесконечную темную аллею, идти с ней искать в природе сочувств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 </a:t>
            </a:r>
            <a:r>
              <a:rPr b="1" i="1" lang="ru-RU" sz="4500" spc="-1" strike="noStrike">
                <a:solidFill>
                  <a:srgbClr val="04617b"/>
                </a:solidFill>
                <a:latin typeface="Calibri"/>
              </a:rPr>
              <a:t>Идеальная жизнь для Обломова</a:t>
            </a:r>
            <a:endParaRPr b="0" lang="en-US" sz="4500" spc="-1" strike="noStrike">
              <a:solidFill>
                <a:srgbClr val="04617b"/>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1. Деревн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2. Жен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3. Новый, покойно выстроенный дом</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4. Добрые соседи-приятел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5. Музык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6. Поэз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7. Любовь</a:t>
            </a:r>
            <a:endParaRPr b="0" lang="en-US" sz="2600" spc="-1" strike="noStrike">
              <a:solidFill>
                <a:srgbClr val="000000"/>
              </a:solidFill>
              <a:latin typeface="Constantia"/>
            </a:endParaRPr>
          </a:p>
        </p:txBody>
      </p:sp>
      <p:pic>
        <p:nvPicPr>
          <p:cNvPr id="216" name="Picture 5" descr="Основные плюсы и минусы жизни в Обломовке | Плюсы и минусы"/>
          <p:cNvPicPr/>
          <p:nvPr/>
        </p:nvPicPr>
        <p:blipFill>
          <a:blip r:embed="rId1"/>
          <a:stretch/>
        </p:blipFill>
        <p:spPr>
          <a:xfrm>
            <a:off x="5286240" y="3571920"/>
            <a:ext cx="3571920" cy="28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4632480" y="853920"/>
            <a:ext cx="4273560" cy="2876760"/>
          </a:xfrm>
          <a:prstGeom prst="rect">
            <a:avLst/>
          </a:prstGeom>
          <a:ln w="0">
            <a:noFill/>
          </a:ln>
        </p:spPr>
      </p:pic>
      <p:sp>
        <p:nvSpPr>
          <p:cNvPr id="21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6" descr="Илья Обломов фото на - 24СМИ"/>
          <p:cNvPicPr/>
          <p:nvPr/>
        </p:nvPicPr>
        <p:blipFill>
          <a:blip r:embed="rId2"/>
          <a:stretch/>
        </p:blipFill>
        <p:spPr>
          <a:xfrm>
            <a:off x="357120" y="571680"/>
            <a:ext cx="4054680" cy="540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07560"/>
            <a:ext cx="8229600" cy="939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План возрождения Обломова:</a:t>
            </a:r>
            <a:br>
              <a:rPr sz="4500"/>
            </a:br>
            <a:endParaRPr b="0" lang="en-US" sz="4500" spc="-1" strike="noStrike">
              <a:solidFill>
                <a:srgbClr val="04617b"/>
              </a:solidFill>
              <a:latin typeface="Calibri"/>
            </a:endParaRPr>
          </a:p>
        </p:txBody>
      </p:sp>
      <p:sp>
        <p:nvSpPr>
          <p:cNvPr id="222" name=""/>
          <p:cNvSpPr txBox="1"/>
          <p:nvPr/>
        </p:nvSpPr>
        <p:spPr>
          <a:xfrm>
            <a:off x="500040" y="142848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Отучить спать после обеда</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рочитать книги, которые оставил Штольц</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читать каждый день газеты и рассказывать ей новости</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исать в деревню письма</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дописать план устройства имения</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риготовиться ехать за границу</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9T10:08:21Z</dcterms:created>
  <dc:creator>STAR</dc:creator>
  <dc:description/>
  <dc:language>en-US</dc:language>
  <cp:lastModifiedBy>Andrew</cp:lastModifiedBy>
  <dcterms:modified xsi:type="dcterms:W3CDTF">2020-12-03T20:52:45Z</dcterms:modified>
  <cp:revision>16</cp:revision>
  <dc:subject/>
  <dc:title>Слайд 1</dc:title>
</cp:coreProperties>
</file>