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21F-3C89-481F-B9C4-41BA5F84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E6E-A711-431B-AF45-259E0FC7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9CE-2126-468A-9E26-613AC7AC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103-EF2A-426A-B0C6-95C37584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BA0-E2EE-487C-A3ED-D134F0D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D4C-F316-42EE-93D8-A717E659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612-9DD0-4809-B092-8463CFE9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2E3-9342-402C-A0C2-CC33281B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932-5169-46F5-8722-00F30050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4FC-37C4-48FA-AF5A-59E2F894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D15-B6A6-451E-BF92-661BBE13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A2D-13AE-4A16-B490-892F79F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0E3A-4E59-4354-9073-BED0F3DFF1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2706840"/>
            <a:ext cx="8290080" cy="1279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539640" y="3758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казен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оицко-Сунгурская средня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5580000" y="429264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у выполн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лясова Юли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МОУ «Троицко Сунгурская казачья сш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161960" y="614052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23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Диаграмма 1" descr=""/>
          <p:cNvPicPr/>
          <p:nvPr/>
        </p:nvPicPr>
        <p:blipFill>
          <a:blip r:embed="rId1"/>
          <a:stretch/>
        </p:blipFill>
        <p:spPr>
          <a:xfrm>
            <a:off x="920880" y="930240"/>
            <a:ext cx="7446960" cy="5645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611280" y="40464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загрязненности атмосферы по состоянию кроны деревь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Диаграмма 1" descr=""/>
          <p:cNvPicPr/>
          <p:nvPr/>
        </p:nvPicPr>
        <p:blipFill>
          <a:blip r:embed="rId1"/>
          <a:stretch/>
        </p:blipFill>
        <p:spPr>
          <a:xfrm>
            <a:off x="633240" y="1346040"/>
            <a:ext cx="8310600" cy="53024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539640" y="476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загрязненности атмосфе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остоянию прироста деревьев последних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Диаграмма 1" descr=""/>
          <p:cNvPicPr/>
          <p:nvPr/>
        </p:nvPicPr>
        <p:blipFill>
          <a:blip r:embed="rId1"/>
          <a:stretch/>
        </p:blipFill>
        <p:spPr>
          <a:xfrm>
            <a:off x="128520" y="1290600"/>
            <a:ext cx="8742600" cy="52848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900000" y="549360"/>
            <a:ext cx="73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загрязненности атмосферы по продолжительности жизни хво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42920" y="142884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Таким образом, в результате проведенных исследований выявлен разный . уровень состояния атмосферного воздуха на исследуемой территории. В целом состояние зеленой зоны в лесах окрестностей с. Троицкий Сунгур  удовлетворительно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142920" y="250020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Однако, анализируя состояние морфологических признаков сосны обыкновенной в данной местности можно сделать вывод, что в разных частях экосистемы – разное загрязнение и антропогенное воздействие на экосистему продолжает усиливать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214200" y="371484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Наиболее загрязнен воздух на площадке №3, расположенной в 50 метрах от села, рядом с которой проходит грунтовая лесная дорога и находится свал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14200" y="450072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Менее загрязнен воздух на площадках №1, №5 и №6. Площадка №1 находится на маршруте следования транспортных средств от разрабатываемой делянки. Площадка №5 и №6 так же располагаются вдоль лесных грунтовых дорог в непосредственной близости к бытовой свалке и карьер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214200" y="585792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 Воздух чистый на площадках №2, №4, расположенных в глубине лесного массива на расстоянии 1 километра от  населенного пунк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14200" y="57168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ающееся ухудшение состояния окружающей среды, деградация природных систем, жизнеобеспечения и медленные ответные действия общества привели к реальной опасности экологического бедствия, в том числе уничтожению лесов. Биоэкологические исследования позволяют научиться прогнозировать последствия воздействия на природу, намечать пути и способы решения локальных экологических проблем, принимать активное участие в их решении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179280" y="62064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ктуальность рабо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Заголовок 1"/>
          <p:cNvSpPr/>
          <p:nvPr/>
        </p:nvSpPr>
        <p:spPr>
          <a:xfrm>
            <a:off x="250920" y="260280"/>
            <a:ext cx="846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0" y="17146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85840" y="859320"/>
            <a:ext cx="86439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учение экологического состояния атмосферного воздуха в окрестностях   с. Троицкий Сунгур  по морфологическим признакам сосны обыкновен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42920" y="2232720"/>
            <a:ext cx="8715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учить соответствующую литерату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ценить загрязненность атмосферного воздуха  по состоянию: хвои сосны обыкновенной;  генеративных органов сосны обыкновенной; кроны древостоя визуальным метод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роста деревьев сосны обыкновенной за последни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ь загрязненность атмосферного воздуха по продолжительности жизни хвои сосны обыкновен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вить источники загрязнения, используя биоиндикацию, как метод экологического мониторин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ть выводы об экологическом состоянии лесов окрестностей с. Троицкий Сунгу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ть рекомендации  экологического улучшения лесов окрестностей с. Троицкий Сунгу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:\фото исследований\DSC_0328.JPG"/>
          <p:cNvPicPr/>
          <p:nvPr/>
        </p:nvPicPr>
        <p:blipFill>
          <a:blip r:embed="rId1"/>
          <a:srcRect l="24232" t="1178" r="24232" b="0"/>
          <a:stretch/>
        </p:blipFill>
        <p:spPr>
          <a:xfrm>
            <a:off x="357120" y="1285920"/>
            <a:ext cx="4024440" cy="528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J:\фото исследований\DSC_0679.JPG"/>
          <p:cNvPicPr/>
          <p:nvPr/>
        </p:nvPicPr>
        <p:blipFill>
          <a:blip r:embed="rId2"/>
          <a:stretch/>
        </p:blipFill>
        <p:spPr>
          <a:xfrm>
            <a:off x="4857840" y="1214280"/>
            <a:ext cx="3322440" cy="221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J:\фото исследований\DSC_0659.JPG"/>
          <p:cNvPicPr/>
          <p:nvPr/>
        </p:nvPicPr>
        <p:blipFill>
          <a:blip r:embed="rId3"/>
          <a:stretch/>
        </p:blipFill>
        <p:spPr>
          <a:xfrm>
            <a:off x="4572000" y="357192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214200" y="4287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на обыкновенная (Pinus silvest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79280" y="1523520"/>
            <a:ext cx="878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следования велись маршрутно-экскурсионным  методом, который предусматривает: прохождение по маршруту и определением визуальным методом загрязненность атмосферы по сосне обыкновенной. Мною было заложено 6 базовых площадок сосны обыкновенной в квартале 51, размером 20х20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969840" y="692280"/>
            <a:ext cx="72043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ы исслед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55640" y="3430440"/>
            <a:ext cx="3925800" cy="2622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I:\фото исследований\DSC_0292.JPG"/>
          <p:cNvPicPr/>
          <p:nvPr/>
        </p:nvPicPr>
        <p:blipFill>
          <a:blip r:embed="rId2"/>
          <a:stretch/>
        </p:blipFill>
        <p:spPr>
          <a:xfrm>
            <a:off x="4780080" y="3475080"/>
            <a:ext cx="3949560" cy="26337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755640" y="595008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пределение прироста деревьев последних лет на участке №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6185520" y="60912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сная доро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сканирование0001"/>
          <p:cNvPicPr/>
          <p:nvPr/>
        </p:nvPicPr>
        <p:blipFill>
          <a:blip r:embed="rId1"/>
          <a:srcRect l="4396" t="6970" r="0" b="5197"/>
          <a:stretch/>
        </p:blipFill>
        <p:spPr>
          <a:xfrm>
            <a:off x="1116000" y="1052640"/>
            <a:ext cx="6912000" cy="4897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62" name="Oval 2"/>
          <p:cNvSpPr/>
          <p:nvPr/>
        </p:nvSpPr>
        <p:spPr>
          <a:xfrm rot="5269200">
            <a:off x="3960720" y="2251080"/>
            <a:ext cx="285840" cy="349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969840" y="380880"/>
            <a:ext cx="72043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йон исслед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Прямоугольник 4" descr=""/>
          <p:cNvPicPr/>
          <p:nvPr/>
        </p:nvPicPr>
        <p:blipFill>
          <a:blip r:embed="rId2"/>
          <a:stretch/>
        </p:blipFill>
        <p:spPr>
          <a:xfrm>
            <a:off x="963720" y="5973840"/>
            <a:ext cx="6924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Диаграмма 1" descr=""/>
          <p:cNvPicPr/>
          <p:nvPr/>
        </p:nvPicPr>
        <p:blipFill>
          <a:blip r:embed="rId1"/>
          <a:stretch/>
        </p:blipFill>
        <p:spPr>
          <a:xfrm>
            <a:off x="128520" y="852480"/>
            <a:ext cx="8562960" cy="55022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79280" y="54936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состояния хвои сосны обыкно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оценки загрязненности атмосфе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Диаграмма 1" descr=""/>
          <p:cNvPicPr/>
          <p:nvPr/>
        </p:nvPicPr>
        <p:blipFill>
          <a:blip r:embed="rId1"/>
          <a:stretch/>
        </p:blipFill>
        <p:spPr>
          <a:xfrm>
            <a:off x="128520" y="917640"/>
            <a:ext cx="8815320" cy="57308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179280" y="2602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ка загрязненности атмосферы по состоя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неративных органов сосны обыкновенной (Измерение длин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Диаграмма 2" descr=""/>
          <p:cNvPicPr/>
          <p:nvPr/>
        </p:nvPicPr>
        <p:blipFill>
          <a:blip r:embed="rId1"/>
          <a:stretch/>
        </p:blipFill>
        <p:spPr>
          <a:xfrm>
            <a:off x="200160" y="1122480"/>
            <a:ext cx="8677080" cy="55972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179280" y="2602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ценка загрязненности атмосферы по состоя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неративных органов сосны обыкновенной (Измерение диаметр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Школа-1</cp:lastModifiedBy>
  <dcterms:modified xsi:type="dcterms:W3CDTF">2023-11-02T05:54:32Z</dcterms:modified>
  <cp:revision>39</cp:revision>
  <dc:subject/>
  <dc:title>Слайд 1</dc:title>
</cp:coreProperties>
</file>