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B6D5-911A-49CB-BCB6-F62D7E0D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4CB-84D0-4258-B9E1-30D7E1A4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D60-08BB-4156-BEED-5B4DC4E5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695-D5E4-4C4B-BBBD-E59EE65B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2B3B-5320-4352-A30E-BD052A12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FEE0-2F6C-467E-9396-905C73ED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B46C-71FD-4FE1-8710-B1C1120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EEA9-B319-442C-A4E8-97A3F086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2E06-780F-430E-B6E4-5AEC6A95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8223-BE46-4859-A446-FFF642D2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5A28-DFB8-48E0-BBF1-CB7C0B25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264-67DB-4CBF-9117-5B40E8FF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B8B3-20E1-4FFE-A1AD-49A70AF1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5EC7-F368-431F-90FC-6AAF0EE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43B1-DB79-4B21-968D-4F7B722A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08AC-29D1-477C-A7FC-98E4AECA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8058-4602-4D22-A03B-E2942FFA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939-5252-4BCD-A2E2-BD6B76EF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5F2-AECD-44C2-9D61-73AF9B7B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BDD-FFE5-448C-B88B-7A5567F7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90F-4DDD-4122-A082-AE99B3DC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93D-1014-45D7-A5EC-0DF1D432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655-1556-424E-AEEF-6AF4F85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A9A-9945-49E6-8914-6CDDD7F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F1DC-56FB-474E-887E-B5CC3F5F93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7DB8-B1BA-4075-BCCC-52C47F32D1A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fd4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403280" y="717480"/>
            <a:ext cx="7345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English Rhymes</a:t>
            </a:r>
            <a:endParaRPr b="0" lang="en-US" sz="5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987640" y="501336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Form 5 - 6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639960" y="34920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Дронова Е.В. , МОУ СШ №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19280" y="621000"/>
            <a:ext cx="65516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9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. Скажешь по-английск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Это вид общения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кажешь то ж по-русск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Нам дан для освещения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58920" y="3284640"/>
          <a:ext cx="7416720" cy="877680"/>
        </p:xfrm>
        <a:graphic>
          <a:graphicData uri="http://schemas.openxmlformats.org/drawingml/2006/table">
            <a:tbl>
              <a:tblPr/>
              <a:tblGrid>
                <a:gridCol w="824040"/>
                <a:gridCol w="823680"/>
                <a:gridCol w="824040"/>
                <a:gridCol w="823680"/>
                <a:gridCol w="825840"/>
                <a:gridCol w="823680"/>
                <a:gridCol w="824040"/>
                <a:gridCol w="823680"/>
                <a:gridCol w="824040"/>
              </a:tblGrid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925280" y="334080"/>
            <a:ext cx="636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10.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кажешь по-английск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Листвою шелести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кажешь то ж по-русск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За твой диктант стои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47640" y="3213000"/>
          <a:ext cx="7201080" cy="94608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  <a:gridCol w="799920"/>
                <a:gridCol w="800280"/>
                <a:gridCol w="799920"/>
                <a:gridCol w="800280"/>
                <a:gridCol w="799920"/>
                <a:gridCol w="80028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692360" y="1413000"/>
            <a:ext cx="71276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507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Monotype Corsiva"/>
              </a:rPr>
              <a:t>Do you know English Letters? </a:t>
            </a:r>
            <a:endParaRPr b="0" lang="en-US" sz="1800" spc="1" strike="noStrike">
              <a:ln cap="rnd" w="507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324000" y="1112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Tahoma"/>
              </a:rPr>
              <a:t>Попробуйте отгадать пары английских слов, </a:t>
            </a:r>
            <a:r>
              <a:rPr b="1" i="1" lang="ru-RU" sz="3600" spc="-1" strike="noStrike">
                <a:solidFill>
                  <a:srgbClr val="ff0066"/>
                </a:solidFill>
                <a:latin typeface="Tahoma"/>
              </a:rPr>
              <a:t>отличающихся только одной буквой</a:t>
            </a:r>
            <a:r>
              <a:rPr b="0" i="1" lang="ru-RU" sz="3600" spc="-1" strike="noStrike">
                <a:solidFill>
                  <a:srgbClr val="ff0066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042920" y="186444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1.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 буквой «Р» - пишу слова в тетрадки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   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 буквой «Н» - ищу червей на грядке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76360" y="4292640"/>
          <a:ext cx="6191280" cy="1031760"/>
        </p:xfrm>
        <a:graphic>
          <a:graphicData uri="http://schemas.openxmlformats.org/drawingml/2006/table">
            <a:tbl>
              <a:tblPr/>
              <a:tblGrid>
                <a:gridCol w="773280"/>
                <a:gridCol w="774720"/>
                <a:gridCol w="774360"/>
                <a:gridCol w="712800"/>
                <a:gridCol w="833760"/>
                <a:gridCol w="774360"/>
                <a:gridCol w="774720"/>
                <a:gridCol w="77328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36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0,-103)"/>
                                      </p:to>
                                    </p:set>
                                    <p:set>
                                      <p:cBhvr>
                                        <p:cTn id="269" dur="25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0,-103)"/>
                                      </p:to>
                                    </p:set>
                                    <p:set>
                                      <p:cBhvr>
                                        <p:cTn id="270" dur="25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5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6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9" dur="indefinite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195640" y="26064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2.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 буквой «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Т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» - меня все пьют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 буквой «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» - по мне плыву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32000" y="3384720"/>
          <a:ext cx="5832360" cy="981000"/>
        </p:xfrm>
        <a:graphic>
          <a:graphicData uri="http://schemas.openxmlformats.org/drawingml/2006/table">
            <a:tbl>
              <a:tblPr/>
              <a:tblGrid>
                <a:gridCol w="728640"/>
                <a:gridCol w="730080"/>
                <a:gridCol w="728640"/>
                <a:gridCol w="728640"/>
                <a:gridCol w="728640"/>
                <a:gridCol w="730440"/>
                <a:gridCol w="728640"/>
                <a:gridCol w="728640"/>
              </a:tblGrid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47"/>
          <p:cNvSpPr/>
          <p:nvPr/>
        </p:nvSpPr>
        <p:spPr>
          <a:xfrm>
            <a:off x="3278160" y="3839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cc"/>
                                      </p:to>
                                    </p:animClr>
                                    <p:animClr clrSpc="rgb">
                                      <p:cBhvr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cc"/>
                                      </p:to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1547640" y="241560"/>
            <a:ext cx="6193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3.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 буквой «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» - хожу в тельняшке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 буквой «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Т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» - вам шью рубашки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47640" y="2708280"/>
          <a:ext cx="720108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440"/>
                <a:gridCol w="514080"/>
                <a:gridCol w="514440"/>
                <a:gridCol w="514440"/>
                <a:gridCol w="514440"/>
                <a:gridCol w="514080"/>
                <a:gridCol w="514440"/>
                <a:gridCol w="514440"/>
                <a:gridCol w="51444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77"/>
          <p:cNvSpPr/>
          <p:nvPr/>
        </p:nvSpPr>
        <p:spPr>
          <a:xfrm>
            <a:off x="2306520" y="3839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1692360" y="-418320"/>
            <a:ext cx="717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4.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 буквой «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Т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» - на диване урчу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 буквой «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R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» - по дороге качу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76360" y="2276640"/>
          <a:ext cx="7343640" cy="865080"/>
        </p:xfrm>
        <a:graphic>
          <a:graphicData uri="http://schemas.openxmlformats.org/drawingml/2006/table">
            <a:tbl>
              <a:tblPr/>
              <a:tblGrid>
                <a:gridCol w="917640"/>
                <a:gridCol w="919080"/>
                <a:gridCol w="917640"/>
                <a:gridCol w="917640"/>
                <a:gridCol w="917640"/>
                <a:gridCol w="919080"/>
                <a:gridCol w="917640"/>
                <a:gridCol w="9172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5. 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С буквой «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U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» - коровы муж могучий,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      А вот с «</a:t>
            </a: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А</a:t>
            </a: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» - он круглый и прыгучий.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5280" y="2708280"/>
          <a:ext cx="7669440" cy="865080"/>
        </p:xfrm>
        <a:graphic>
          <a:graphicData uri="http://schemas.openxmlformats.org/drawingml/2006/table">
            <a:tbl>
              <a:tblPr/>
              <a:tblGrid>
                <a:gridCol w="766800"/>
                <a:gridCol w="765360"/>
                <a:gridCol w="766800"/>
                <a:gridCol w="768240"/>
                <a:gridCol w="768240"/>
                <a:gridCol w="766800"/>
                <a:gridCol w="763560"/>
                <a:gridCol w="766800"/>
                <a:gridCol w="770040"/>
                <a:gridCol w="76680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2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0,-103)"/>
                                      </p:to>
                                    </p:set>
                                    <p:set>
                                      <p:cBhvr>
                                        <p:cTn id="343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0,-103)"/>
                                      </p:to>
                                    </p:set>
                                    <p:set>
                                      <p:cBhvr>
                                        <p:cTn id="344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6. </a:t>
            </a:r>
            <a:r>
              <a:rPr b="0" lang="ru-RU" sz="3200" spc="-1" strike="noStrike">
                <a:solidFill>
                  <a:srgbClr val="cc0099"/>
                </a:solidFill>
                <a:latin typeface="Arial Black"/>
              </a:rPr>
              <a:t>С </a:t>
            </a:r>
            <a:r>
              <a:rPr b="1" lang="ru-RU" sz="3200" spc="-1" strike="noStrike">
                <a:solidFill>
                  <a:srgbClr val="cc0099"/>
                </a:solidFill>
                <a:latin typeface="Arial Black"/>
              </a:rPr>
              <a:t>парой</a:t>
            </a:r>
            <a:r>
              <a:rPr b="0" lang="ru-RU" sz="3200" spc="-1" strike="noStrike">
                <a:solidFill>
                  <a:srgbClr val="cc0099"/>
                </a:solidFill>
                <a:latin typeface="Arial Black"/>
              </a:rPr>
              <a:t> «</a:t>
            </a:r>
            <a:r>
              <a:rPr b="1" lang="ru-RU" sz="3200" spc="-1" strike="noStrike">
                <a:solidFill>
                  <a:srgbClr val="cc0099"/>
                </a:solidFill>
                <a:latin typeface="Arial Black"/>
              </a:rPr>
              <a:t>Т</a:t>
            </a:r>
            <a:r>
              <a:rPr b="0" lang="ru-RU" sz="3200" spc="-1" strike="noStrike">
                <a:solidFill>
                  <a:srgbClr val="cc0099"/>
                </a:solidFill>
                <a:latin typeface="Arial Black"/>
              </a:rPr>
              <a:t>» - дистанции начало,</a:t>
            </a:r>
            <a:br>
              <a:rPr sz="3200"/>
            </a:br>
            <a:r>
              <a:rPr b="0" lang="ru-RU" sz="3200" spc="-1" strike="noStrike">
                <a:solidFill>
                  <a:srgbClr val="cc0099"/>
                </a:solidFill>
                <a:latin typeface="Arial Black"/>
              </a:rPr>
              <a:t>      А с </a:t>
            </a:r>
            <a:r>
              <a:rPr b="1" lang="ru-RU" sz="3200" spc="-1" strike="noStrike">
                <a:solidFill>
                  <a:srgbClr val="cc0099"/>
                </a:solidFill>
                <a:latin typeface="Arial Black"/>
              </a:rPr>
              <a:t>одной</a:t>
            </a:r>
            <a:r>
              <a:rPr b="0" lang="ru-RU" sz="3200" spc="-1" strike="noStrike">
                <a:solidFill>
                  <a:srgbClr val="cc0099"/>
                </a:solidFill>
                <a:latin typeface="Arial Black"/>
              </a:rPr>
              <a:t> - в ночи она сияла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7280" y="2924280"/>
          <a:ext cx="3200400" cy="936360"/>
        </p:xfrm>
        <a:graphic>
          <a:graphicData uri="http://schemas.openxmlformats.org/drawingml/2006/table">
            <a:tbl>
              <a:tblPr/>
              <a:tblGrid>
                <a:gridCol w="800280"/>
                <a:gridCol w="799920"/>
                <a:gridCol w="800280"/>
                <a:gridCol w="79992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295280" y="1905120"/>
          <a:ext cx="3810240" cy="876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359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0,-52)"/>
                                      </p:to>
                                    </p:set>
                                    <p:set>
                                      <p:cBhvr>
                                        <p:cTn id="360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7. </a:t>
            </a: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С буквой «</a:t>
            </a: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C</a:t>
            </a: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» - детей жду в гости летом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      С буквой «</a:t>
            </a: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L</a:t>
            </a: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» - горю я ярким светом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95280" y="2133720"/>
          <a:ext cx="3810240" cy="86364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5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257800" y="4941720"/>
          <a:ext cx="3809880" cy="107820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  <a:gridCol w="952560"/>
                <a:gridCol w="952200"/>
              </a:tblGrid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278160" y="30632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2781360"/>
          <a:ext cx="7559640" cy="1008000"/>
        </p:xfrm>
        <a:graphic>
          <a:graphicData uri="http://schemas.openxmlformats.org/drawingml/2006/table">
            <a:tbl>
              <a:tblPr/>
              <a:tblGrid>
                <a:gridCol w="944640"/>
                <a:gridCol w="946080"/>
                <a:gridCol w="944640"/>
                <a:gridCol w="944280"/>
                <a:gridCol w="944640"/>
                <a:gridCol w="946080"/>
                <a:gridCol w="944640"/>
                <a:gridCol w="944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7"/>
          <p:cNvSpPr/>
          <p:nvPr/>
        </p:nvSpPr>
        <p:spPr>
          <a:xfrm>
            <a:off x="1258920" y="260280"/>
            <a:ext cx="663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1. Скажешь по-английски 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    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Тебя он повезёт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    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А по-русски если 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    </a:t>
            </a: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Певец им запоё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8. </a:t>
            </a: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С буквой «</a:t>
            </a:r>
            <a:r>
              <a:rPr b="1" lang="en-US" sz="3200" spc="-1" strike="noStrike">
                <a:solidFill>
                  <a:srgbClr val="ccecff"/>
                </a:solidFill>
                <a:latin typeface="Arial Black"/>
              </a:rPr>
              <a:t>P</a:t>
            </a: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» - болтливая то птица,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      </a:t>
            </a: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C </a:t>
            </a: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буквой «</a:t>
            </a:r>
            <a:r>
              <a:rPr b="1" lang="en-US" sz="3200" spc="-1" strike="noStrike">
                <a:solidFill>
                  <a:srgbClr val="ccecff"/>
                </a:solidFill>
                <a:latin typeface="Arial Black"/>
              </a:rPr>
              <a:t>C</a:t>
            </a: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» - есть кролику годится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95280" y="2565360"/>
          <a:ext cx="3810240" cy="863640"/>
        </p:xfrm>
        <a:graphic>
          <a:graphicData uri="http://schemas.openxmlformats.org/drawingml/2006/table">
            <a:tbl>
              <a:tblPr/>
              <a:tblGrid>
                <a:gridCol w="660600"/>
                <a:gridCol w="628560"/>
                <a:gridCol w="630360"/>
                <a:gridCol w="631800"/>
                <a:gridCol w="628560"/>
                <a:gridCol w="630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924360" y="5229360"/>
          <a:ext cx="5143320" cy="790560"/>
        </p:xfrm>
        <a:graphic>
          <a:graphicData uri="http://schemas.openxmlformats.org/drawingml/2006/table">
            <a:tbl>
              <a:tblPr/>
              <a:tblGrid>
                <a:gridCol w="890640"/>
                <a:gridCol w="849240"/>
                <a:gridCol w="852480"/>
                <a:gridCol w="851040"/>
                <a:gridCol w="849240"/>
                <a:gridCol w="8506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8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9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10" dur="250" autoRev="1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755640" y="692280"/>
            <a:ext cx="81374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ВЕСЁЛАЯ ВИКТОРИНА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ПРО АНГЛИЙСКИЕ БУКВЫ И СЛОВА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71640" y="476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какой английско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укв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можно утонут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 [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и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]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 чего начинается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то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в Англи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S – summ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ими станут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ернил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, если в них бросить английскую букву «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»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NK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чернила) + К =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INK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розовый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71280" y="620280"/>
            <a:ext cx="81723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всегда стоит посередине английской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ек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V 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RIVER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(река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з каких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ух букв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можно построить большой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ород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[си]+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[ти] -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ity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[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iti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] (большой город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кая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укв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всё время ТЫкает и ВЫкает 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[ю] -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you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[ю] (ты, вы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16000" y="40428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7.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ая 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укв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пристаёт ко всем с вопросом: почему, зачем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 [уай] -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Why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?[уай]  (почему? Зачем?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8.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укв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утоляет нашу жажду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[ти] -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a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[ти] (чай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9.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ая английская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укв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самая хвастливая 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[ай] -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[ай] (я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50000">
              <a:srgbClr val="66ffff"/>
            </a:gs>
            <a:gs pos="100000">
              <a:srgbClr val="2f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 Black"/>
              </a:rPr>
              <a:t>puzzl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Picture 5" descr="Snow"/>
          <p:cNvPicPr/>
          <p:nvPr/>
        </p:nvPicPr>
        <p:blipFill>
          <a:blip r:embed="rId1"/>
          <a:stretch/>
        </p:blipFill>
        <p:spPr>
          <a:xfrm>
            <a:off x="1979640" y="1844640"/>
            <a:ext cx="3267000" cy="2536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12000" y="1844640"/>
            <a:ext cx="2771640" cy="2381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547640" y="5373720"/>
            <a:ext cx="64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763640" y="5445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snowbal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50000">
              <a:srgbClr val="66ffff"/>
            </a:gs>
            <a:gs pos="100000">
              <a:srgbClr val="2f76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Picture 4" descr="cup and saucer 3"/>
          <p:cNvPicPr/>
          <p:nvPr/>
        </p:nvPicPr>
        <p:blipFill>
          <a:blip r:embed="rId1"/>
          <a:stretch/>
        </p:blipFill>
        <p:spPr>
          <a:xfrm>
            <a:off x="1835280" y="170028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700360" y="21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4e"/>
                </a:solidFill>
                <a:latin typeface="Times New Roman"/>
              </a:rPr>
              <a:t>t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500720" y="1916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54e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632560" y="215424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5292720" y="1989000"/>
            <a:ext cx="76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cc"/>
                </a:solidFill>
                <a:latin typeface="Times New Roman"/>
              </a:rPr>
              <a:t>+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2"/>
          <a:stretch/>
        </p:blipFill>
        <p:spPr>
          <a:xfrm>
            <a:off x="6732720" y="1628640"/>
            <a:ext cx="2143080" cy="4105440"/>
          </a:xfrm>
          <a:prstGeom prst="rect">
            <a:avLst/>
          </a:prstGeom>
          <a:ln w="0">
            <a:noFill/>
          </a:ln>
        </p:spPr>
      </p:pic>
      <p:sp>
        <p:nvSpPr>
          <p:cNvPr id="174" name="Line 11"/>
          <p:cNvSpPr/>
          <p:nvPr/>
        </p:nvSpPr>
        <p:spPr>
          <a:xfrm flipH="1">
            <a:off x="8244000" y="3141720"/>
            <a:ext cx="5047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17080" y="4221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 flipH="1">
            <a:off x="8388000" y="4508640"/>
            <a:ext cx="36036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838836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826920" y="501336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cc"/>
                </a:solidFill>
                <a:latin typeface="Times New Roman"/>
              </a:rPr>
              <a:t>T - shirt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Picture 4" descr="Drizzle"/>
          <p:cNvPicPr/>
          <p:nvPr/>
        </p:nvPicPr>
        <p:blipFill>
          <a:blip r:embed="rId1"/>
          <a:stretch/>
        </p:blipFill>
        <p:spPr>
          <a:xfrm>
            <a:off x="2050920" y="1700280"/>
            <a:ext cx="3097440" cy="2233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448000" cy="1656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1403280" y="494172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cc"/>
                </a:solidFill>
                <a:latin typeface="Times New Roman"/>
              </a:rPr>
              <a:t>rainbow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4" name="Picture 4" descr="Pig"/>
          <p:cNvPicPr/>
          <p:nvPr/>
        </p:nvPicPr>
        <p:blipFill>
          <a:blip r:embed="rId1"/>
          <a:stretch/>
        </p:blipFill>
        <p:spPr>
          <a:xfrm>
            <a:off x="1908000" y="1628640"/>
            <a:ext cx="2737080" cy="2087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5003640" y="2205000"/>
            <a:ext cx="20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6"/>
          <p:cNvSpPr/>
          <p:nvPr/>
        </p:nvSpPr>
        <p:spPr>
          <a:xfrm flipH="1">
            <a:off x="5076360" y="234936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788000" y="292428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651640" y="263700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9" descr="Park"/>
          <p:cNvPicPr/>
          <p:nvPr/>
        </p:nvPicPr>
        <p:blipFill>
          <a:blip r:embed="rId2"/>
          <a:stretch/>
        </p:blipFill>
        <p:spPr>
          <a:xfrm>
            <a:off x="6877080" y="1773360"/>
            <a:ext cx="2266920" cy="2374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6372360" y="1916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258920" y="4508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cc"/>
                </a:solidFill>
                <a:latin typeface="Times New Roman"/>
              </a:rPr>
              <a:t>picture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00"/>
            </a:gs>
            <a:gs pos="50000">
              <a:srgbClr val="ffff00"/>
            </a:gs>
            <a:gs pos="100000">
              <a:srgbClr val="767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00000" y="1905120"/>
            <a:ext cx="81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3" name="Picture 4" descr="Corn"/>
          <p:cNvPicPr/>
          <p:nvPr/>
        </p:nvPicPr>
        <p:blipFill>
          <a:blip r:embed="rId1"/>
          <a:stretch/>
        </p:blipFill>
        <p:spPr>
          <a:xfrm>
            <a:off x="1476360" y="1916280"/>
            <a:ext cx="2089080" cy="1295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492360" y="1916280"/>
            <a:ext cx="100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859280" y="1916280"/>
            <a:ext cx="64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7" descr="Mouse"/>
          <p:cNvPicPr/>
          <p:nvPr/>
        </p:nvPicPr>
        <p:blipFill>
          <a:blip r:embed="rId2"/>
          <a:stretch/>
        </p:blipFill>
        <p:spPr>
          <a:xfrm>
            <a:off x="5724360" y="1557360"/>
            <a:ext cx="2016360" cy="1655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7667640" y="1916280"/>
            <a:ext cx="14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’’’’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971640" y="321300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11" descr="pen 2"/>
          <p:cNvPicPr/>
          <p:nvPr/>
        </p:nvPicPr>
        <p:blipFill>
          <a:blip r:embed="rId3"/>
          <a:stretch/>
        </p:blipFill>
        <p:spPr>
          <a:xfrm>
            <a:off x="1835280" y="321300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3635280" y="350028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4716360" y="32130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5651640" y="306864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9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6877080" y="321300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17" descr="Tiger"/>
          <p:cNvPicPr/>
          <p:nvPr/>
        </p:nvPicPr>
        <p:blipFill>
          <a:blip r:embed="rId4"/>
          <a:stretch/>
        </p:blipFill>
        <p:spPr>
          <a:xfrm>
            <a:off x="1042920" y="4653000"/>
            <a:ext cx="2305080" cy="1368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8"/>
          <p:cNvSpPr/>
          <p:nvPr/>
        </p:nvSpPr>
        <p:spPr>
          <a:xfrm>
            <a:off x="3348000" y="479736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_ ’’_ _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4427640" y="5851440"/>
            <a:ext cx="40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Times New Roman"/>
              </a:rPr>
              <a:t>computer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47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116160" y="30632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03280" y="2924280"/>
          <a:ext cx="6675480" cy="1162080"/>
        </p:xfrm>
        <a:graphic>
          <a:graphicData uri="http://schemas.openxmlformats.org/drawingml/2006/table">
            <a:tbl>
              <a:tblPr/>
              <a:tblGrid>
                <a:gridCol w="741600"/>
                <a:gridCol w="742680"/>
                <a:gridCol w="741600"/>
                <a:gridCol w="741240"/>
                <a:gridCol w="741240"/>
                <a:gridCol w="741600"/>
                <a:gridCol w="742680"/>
                <a:gridCol w="741600"/>
                <a:gridCol w="74124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52"/>
          <p:cNvSpPr/>
          <p:nvPr/>
        </p:nvSpPr>
        <p:spPr>
          <a:xfrm>
            <a:off x="1403280" y="33336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2. Скажешь по-английски 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Будильник он живой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А по-русски если 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То повар он морской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1332000" y="2133720"/>
            <a:ext cx="7416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o you know English names?</a:t>
            </a:r>
            <a:endParaRPr b="0" lang="en-US" sz="1800" spc="1" strike="noStrike">
              <a:ln w="0">
                <a:noFill/>
              </a:ln>
              <a:solidFill>
                <a:srgbClr val="99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76"/>
            </a:gs>
            <a:gs pos="50000">
              <a:srgbClr val="00ffff"/>
            </a:gs>
            <a:gs pos="100000">
              <a:srgbClr val="00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cc"/>
                </a:solidFill>
                <a:uFillTx/>
                <a:latin typeface="Arial Black"/>
              </a:rPr>
              <a:t>Соедини</a:t>
            </a:r>
            <a:r>
              <a:rPr b="1" lang="en-US" sz="4400" spc="-1" strike="noStrike" u="sng">
                <a:solidFill>
                  <a:srgbClr val="9900cc"/>
                </a:solidFill>
                <a:uFillTx/>
                <a:latin typeface="Arial Black"/>
              </a:rPr>
              <a:t> </a:t>
            </a:r>
            <a:r>
              <a:rPr b="1" lang="ru-RU" sz="4400" spc="-1" strike="noStrike" u="sng">
                <a:solidFill>
                  <a:srgbClr val="9900cc"/>
                </a:solidFill>
                <a:uFillTx/>
                <a:latin typeface="Arial Black"/>
              </a:rPr>
              <a:t>полное</a:t>
            </a:r>
            <a:r>
              <a:rPr b="1" lang="en-US" sz="4400" spc="-1" strike="noStrike" u="sng">
                <a:solidFill>
                  <a:srgbClr val="9900cc"/>
                </a:solidFill>
                <a:uFillTx/>
                <a:latin typeface="Arial Black"/>
              </a:rPr>
              <a:t> </a:t>
            </a:r>
            <a:r>
              <a:rPr b="1" lang="ru-RU" sz="4400" spc="-1" strike="noStrike" u="sng">
                <a:solidFill>
                  <a:srgbClr val="9900cc"/>
                </a:solidFill>
                <a:uFillTx/>
                <a:latin typeface="Arial Black"/>
              </a:rPr>
              <a:t>имя</a:t>
            </a:r>
            <a:r>
              <a:rPr b="1" lang="en-US" sz="4400" spc="-1" strike="noStrike" u="sng">
                <a:solidFill>
                  <a:srgbClr val="9900cc"/>
                </a:solidFill>
                <a:uFillTx/>
                <a:latin typeface="Arial Black"/>
              </a:rPr>
              <a:t> </a:t>
            </a:r>
            <a:r>
              <a:rPr b="1" lang="ru-RU" sz="4400" spc="-1" strike="noStrike" u="sng">
                <a:solidFill>
                  <a:srgbClr val="9900cc"/>
                </a:solidFill>
                <a:uFillTx/>
                <a:latin typeface="Arial Black"/>
              </a:rPr>
              <a:t>с</a:t>
            </a:r>
            <a:r>
              <a:rPr b="1" lang="en-US" sz="4400" spc="-1" strike="noStrike" u="sng">
                <a:solidFill>
                  <a:srgbClr val="9900cc"/>
                </a:solidFill>
                <a:uFillTx/>
                <a:latin typeface="Arial Black"/>
              </a:rPr>
              <a:t> </a:t>
            </a:r>
            <a:r>
              <a:rPr b="1" lang="ru-RU" sz="4400" spc="-1" strike="noStrike" u="sng">
                <a:solidFill>
                  <a:srgbClr val="9900cc"/>
                </a:solidFill>
                <a:uFillTx/>
                <a:latin typeface="Arial Black"/>
              </a:rPr>
              <a:t>сокращенным</a:t>
            </a:r>
            <a:r>
              <a:rPr b="1" lang="en-US" sz="4400" spc="-1" strike="noStrike" u="sng">
                <a:solidFill>
                  <a:srgbClr val="9900cc"/>
                </a:solidFill>
                <a:uFillTx/>
                <a:latin typeface="Arial Black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1. Elizabeth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a. Mik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2. Thomas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b. Bobb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3. William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. P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4. Susan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d. To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5. Michael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e. 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6. Robert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f. P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7. Patric or Patrica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g. Bi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8. Anthony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h. T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9. Pamela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i. Li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835280" y="261000"/>
            <a:ext cx="70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3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.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Скажешь по-английски 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Я одежды часть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Скажешь то ж по-русски 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Им напьёшься всласть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2852640"/>
          <a:ext cx="7848360" cy="701640"/>
        </p:xfrm>
        <a:graphic>
          <a:graphicData uri="http://schemas.openxmlformats.org/drawingml/2006/table">
            <a:tbl>
              <a:tblPr/>
              <a:tblGrid>
                <a:gridCol w="871560"/>
                <a:gridCol w="873000"/>
                <a:gridCol w="871560"/>
                <a:gridCol w="871560"/>
                <a:gridCol w="873000"/>
                <a:gridCol w="871560"/>
                <a:gridCol w="871560"/>
                <a:gridCol w="873000"/>
                <a:gridCol w="8715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132920" y="260640"/>
            <a:ext cx="6241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. Скажешь по-английски 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Мне имя Джек иль Том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кажешь то ж по-русски -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Услышишь пушек гром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32000" y="3068640"/>
          <a:ext cx="7343640" cy="865080"/>
        </p:xfrm>
        <a:graphic>
          <a:graphicData uri="http://schemas.openxmlformats.org/drawingml/2006/table">
            <a:tbl>
              <a:tblPr/>
              <a:tblGrid>
                <a:gridCol w="917640"/>
                <a:gridCol w="919080"/>
                <a:gridCol w="917640"/>
                <a:gridCol w="917280"/>
                <a:gridCol w="917640"/>
                <a:gridCol w="919080"/>
                <a:gridCol w="917640"/>
                <a:gridCol w="91764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50000">
              <a:srgbClr val="ccccff"/>
            </a:gs>
            <a:gs pos="100000">
              <a:srgbClr val="5e5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2056320" y="261000"/>
            <a:ext cx="583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5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. Скажешь по-английск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Мёд во мне лежит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А по-русски есл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Ручьём с тебя бежи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58920" y="2924280"/>
          <a:ext cx="7200720" cy="1234800"/>
        </p:xfrm>
        <a:graphic>
          <a:graphicData uri="http://schemas.openxmlformats.org/drawingml/2006/table">
            <a:tbl>
              <a:tblPr/>
              <a:tblGrid>
                <a:gridCol w="900000"/>
                <a:gridCol w="900360"/>
                <a:gridCol w="900000"/>
                <a:gridCol w="900000"/>
                <a:gridCol w="900000"/>
                <a:gridCol w="900360"/>
                <a:gridCol w="900000"/>
                <a:gridCol w="900000"/>
              </a:tblGrid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277640" y="260640"/>
            <a:ext cx="63680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6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. Скажешь по-английск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Я очень интересная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кажешь то ж по-русск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Я дерево чудесное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32000" y="2924280"/>
          <a:ext cx="7488000" cy="1234800"/>
        </p:xfrm>
        <a:graphic>
          <a:graphicData uri="http://schemas.openxmlformats.org/drawingml/2006/table">
            <a:tbl>
              <a:tblPr/>
              <a:tblGrid>
                <a:gridCol w="831600"/>
                <a:gridCol w="831960"/>
                <a:gridCol w="831960"/>
                <a:gridCol w="831960"/>
                <a:gridCol w="833400"/>
                <a:gridCol w="831600"/>
                <a:gridCol w="831960"/>
                <a:gridCol w="831960"/>
                <a:gridCol w="831600"/>
              </a:tblGrid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416680" y="334080"/>
            <a:ext cx="583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7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. Скажешь по-английск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Подарок в ней лежит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А по-русски есл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То тут же гонг звучи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332000" y="2997360"/>
          <a:ext cx="7561080" cy="1161720"/>
        </p:xfrm>
        <a:graphic>
          <a:graphicData uri="http://schemas.openxmlformats.org/drawingml/2006/table">
            <a:tbl>
              <a:tblPr/>
              <a:tblGrid>
                <a:gridCol w="839880"/>
                <a:gridCol w="839520"/>
                <a:gridCol w="841320"/>
                <a:gridCol w="839880"/>
                <a:gridCol w="839880"/>
                <a:gridCol w="839880"/>
                <a:gridCol w="841320"/>
                <a:gridCol w="839880"/>
                <a:gridCol w="839520"/>
              </a:tblGrid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840320" y="476640"/>
            <a:ext cx="58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8.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Скажешь по-английски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В дневнике стоит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А по-русски скажешь 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      </a:t>
            </a:r>
            <a:r>
              <a:rPr b="0" lang="ru-RU" sz="3600" spc="-1" strike="noStrike">
                <a:solidFill>
                  <a:srgbClr val="000080"/>
                </a:solidFill>
                <a:latin typeface="Arial"/>
                <a:ea typeface="Times New Roman"/>
              </a:rPr>
              <a:t>Вас он усыпи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47640" y="3068640"/>
          <a:ext cx="7344000" cy="927000"/>
        </p:xfrm>
        <a:graphic>
          <a:graphicData uri="http://schemas.openxmlformats.org/drawingml/2006/table">
            <a:tbl>
              <a:tblPr/>
              <a:tblGrid>
                <a:gridCol w="816120"/>
                <a:gridCol w="816120"/>
                <a:gridCol w="815760"/>
                <a:gridCol w="816120"/>
                <a:gridCol w="815760"/>
                <a:gridCol w="816120"/>
                <a:gridCol w="816120"/>
                <a:gridCol w="815760"/>
                <a:gridCol w="81612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8:41:52Z</dcterms:created>
  <dc:creator>Customer</dc:creator>
  <dc:description/>
  <dc:language>en-US</dc:language>
  <cp:lastModifiedBy>Елена</cp:lastModifiedBy>
  <dcterms:modified xsi:type="dcterms:W3CDTF">2023-11-01T22:52:49Z</dcterms:modified>
  <cp:revision>6</cp:revision>
  <dc:subject/>
  <dc:title>Слайд 1</dc:title>
</cp:coreProperties>
</file>