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9F6-2FC2-4B4A-BC70-E5216DD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41D-25CC-431D-A1B9-43C0085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5A7-8262-4A15-85C2-3ABB4610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3E4-BDAE-4276-8DE1-64F5DA58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A44-A6D4-40DD-96D0-0962BBF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BB1-1AFA-4EEC-BE4D-204741D0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237-6711-4345-A48A-23F959E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0FF-F9EF-4C16-9199-919FD0C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833-93C6-4021-9DEF-3F9E53D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DD7-CCAC-421E-96E3-BA6CE4D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FBC-0D03-4ABA-82D9-3882327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34A-B3CA-40F2-B60A-BC6D5DA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28D-A656-4B97-8343-90E5E5C0D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нус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5805000"/>
            <a:ext cx="416880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Н.Голоднова, МБОУ СОШ №1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«Конусы» в нашей жиз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28-2"/>
          <p:cNvPicPr/>
          <p:nvPr/>
        </p:nvPicPr>
        <p:blipFill>
          <a:blip r:embed="rId1"/>
          <a:stretch/>
        </p:blipFill>
        <p:spPr>
          <a:xfrm>
            <a:off x="2771640" y="1341360"/>
            <a:ext cx="390852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konus-s"/>
          <p:cNvPicPr/>
          <p:nvPr/>
        </p:nvPicPr>
        <p:blipFill>
          <a:blip r:embed="rId2"/>
          <a:stretch/>
        </p:blipFill>
        <p:spPr>
          <a:xfrm>
            <a:off x="6588000" y="3789360"/>
            <a:ext cx="1978200" cy="237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piramida-konus-view-big"/>
          <p:cNvPicPr/>
          <p:nvPr/>
        </p:nvPicPr>
        <p:blipFill>
          <a:blip r:embed="rId3"/>
          <a:stretch/>
        </p:blipFill>
        <p:spPr>
          <a:xfrm>
            <a:off x="900000" y="4005360"/>
            <a:ext cx="2187720" cy="2187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6227640" y="3645000"/>
            <a:ext cx="28083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4"/>
          <a:stretch/>
        </p:blipFill>
        <p:spPr>
          <a:xfrm>
            <a:off x="3276720" y="3645000"/>
            <a:ext cx="2660400" cy="2840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Ко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14"/>
          <p:cNvGraphicFramePr/>
          <p:nvPr/>
        </p:nvGraphicFramePr>
        <p:xfrm>
          <a:off x="4284720" y="4167360"/>
          <a:ext cx="4859280" cy="26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167360"/>
                    <a:ext cx="485928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Line 16"/>
          <p:cNvSpPr/>
          <p:nvPr/>
        </p:nvSpPr>
        <p:spPr>
          <a:xfrm flipV="1">
            <a:off x="6659640" y="2133360"/>
            <a:ext cx="0" cy="33829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7"/>
          <p:cNvSpPr/>
          <p:nvPr/>
        </p:nvSpPr>
        <p:spPr>
          <a:xfrm flipH="1">
            <a:off x="5866920" y="5516640"/>
            <a:ext cx="792360" cy="5047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8"/>
          <p:cNvSpPr/>
          <p:nvPr/>
        </p:nvSpPr>
        <p:spPr>
          <a:xfrm flipH="1">
            <a:off x="4787640" y="2133720"/>
            <a:ext cx="187164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9"/>
          <p:cNvSpPr/>
          <p:nvPr/>
        </p:nvSpPr>
        <p:spPr>
          <a:xfrm>
            <a:off x="6659640" y="2133720"/>
            <a:ext cx="172872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"/>
          <p:cNvSpPr/>
          <p:nvPr/>
        </p:nvSpPr>
        <p:spPr>
          <a:xfrm flipH="1">
            <a:off x="5866920" y="2133720"/>
            <a:ext cx="792360" cy="38876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/>
          <p:cNvSpPr/>
          <p:nvPr/>
        </p:nvSpPr>
        <p:spPr>
          <a:xfrm>
            <a:off x="5796000" y="5950080"/>
            <a:ext cx="144360" cy="142920"/>
          </a:xfrm>
          <a:custGeom>
            <a:avLst/>
            <a:gdLst>
              <a:gd name="textAreaLeft" fmla="*/ 33480 w 144360"/>
              <a:gd name="textAreaRight" fmla="*/ 110880 w 144360"/>
              <a:gd name="textAreaTop" fmla="*/ 14760 h 142920"/>
              <a:gd name="textAreaBottom" fmla="*/ 90720 h 142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6588000" y="5445000"/>
            <a:ext cx="144720" cy="142920"/>
          </a:xfrm>
          <a:custGeom>
            <a:avLst/>
            <a:gdLst>
              <a:gd name="textAreaLeft" fmla="*/ 33480 w 144720"/>
              <a:gd name="textAreaRight" fmla="*/ 110880 w 144720"/>
              <a:gd name="textAreaTop" fmla="*/ 14760 h 142920"/>
              <a:gd name="textAreaBottom" fmla="*/ 90720 h 142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6588000" y="2133720"/>
            <a:ext cx="144720" cy="142920"/>
          </a:xfrm>
          <a:custGeom>
            <a:avLst/>
            <a:gdLst>
              <a:gd name="textAreaLeft" fmla="*/ 33480 w 144720"/>
              <a:gd name="textAreaRight" fmla="*/ 110880 w 144720"/>
              <a:gd name="textAreaTop" fmla="*/ 14760 h 142920"/>
              <a:gd name="textAreaBottom" fmla="*/ 90720 h 142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673272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5580000" y="602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651672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V="1">
            <a:off x="4716360" y="5661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>
            <a:off x="5580000" y="2852640"/>
            <a:ext cx="647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9"/>
          <p:cNvSpPr/>
          <p:nvPr/>
        </p:nvSpPr>
        <p:spPr>
          <a:xfrm flipH="1">
            <a:off x="6659280" y="3357720"/>
            <a:ext cx="115236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H="1">
            <a:off x="6804000" y="162864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730872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7740720" y="306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4356000" y="2492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3851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324000" y="1773360"/>
            <a:ext cx="40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Кон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тело, которое состоит из круга (основания конуса), точки, не лежащей в плоскости основания (вершины) и отрезков, соединяющих вершину с точками основания, которые являются образующими кон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25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Кон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8"/>
          <p:cNvGraphicFramePr/>
          <p:nvPr/>
        </p:nvGraphicFramePr>
        <p:xfrm>
          <a:off x="179280" y="4834080"/>
          <a:ext cx="366876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834080"/>
                    <a:ext cx="36687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Line 4"/>
          <p:cNvSpPr/>
          <p:nvPr/>
        </p:nvSpPr>
        <p:spPr>
          <a:xfrm flipH="1">
            <a:off x="1692360" y="1197000"/>
            <a:ext cx="1727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5651640" y="1197000"/>
            <a:ext cx="16570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900000" y="285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Накл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732720" y="2852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39640" y="3500280"/>
            <a:ext cx="2087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2627280" y="3429000"/>
            <a:ext cx="4320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1907640" y="3500280"/>
            <a:ext cx="721080" cy="216072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2627280" y="3429000"/>
            <a:ext cx="0" cy="2305080"/>
          </a:xfrm>
          <a:prstGeom prst="line">
            <a:avLst/>
          </a:prstGeom>
          <a:ln w="93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 flipH="1">
            <a:off x="2484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2484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>
            <a:off x="2484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0" descr=""/>
          <p:cNvPicPr/>
          <p:nvPr/>
        </p:nvPicPr>
        <p:blipFill>
          <a:blip r:embed="rId3"/>
          <a:stretch/>
        </p:blipFill>
        <p:spPr>
          <a:xfrm>
            <a:off x="5580000" y="4890960"/>
            <a:ext cx="3564000" cy="1967040"/>
          </a:xfrm>
          <a:prstGeom prst="rect">
            <a:avLst/>
          </a:prstGeom>
          <a:ln w="0">
            <a:noFill/>
          </a:ln>
        </p:spPr>
      </p:pic>
      <p:sp>
        <p:nvSpPr>
          <p:cNvPr id="83" name="Line 42"/>
          <p:cNvSpPr/>
          <p:nvPr/>
        </p:nvSpPr>
        <p:spPr>
          <a:xfrm>
            <a:off x="7236000" y="3429000"/>
            <a:ext cx="0" cy="2376360"/>
          </a:xfrm>
          <a:prstGeom prst="line">
            <a:avLst/>
          </a:prstGeom>
          <a:ln w="93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 flipH="1">
            <a:off x="5867280" y="3429000"/>
            <a:ext cx="136872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4"/>
          <p:cNvSpPr/>
          <p:nvPr/>
        </p:nvSpPr>
        <p:spPr>
          <a:xfrm>
            <a:off x="7236000" y="3429000"/>
            <a:ext cx="12236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7164360" y="566100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835280" y="5661000"/>
            <a:ext cx="72720" cy="73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2627280" y="3429000"/>
            <a:ext cx="73080" cy="73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7236000" y="3429000"/>
            <a:ext cx="72720" cy="73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1476360" y="3860640"/>
            <a:ext cx="719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1"/>
          <p:cNvSpPr/>
          <p:nvPr/>
        </p:nvSpPr>
        <p:spPr>
          <a:xfrm flipH="1">
            <a:off x="2626920" y="414972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2"/>
          <p:cNvSpPr/>
          <p:nvPr/>
        </p:nvSpPr>
        <p:spPr>
          <a:xfrm>
            <a:off x="6156360" y="386064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3"/>
          <p:cNvSpPr/>
          <p:nvPr/>
        </p:nvSpPr>
        <p:spPr>
          <a:xfrm>
            <a:off x="90000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4"/>
          <p:cNvSpPr/>
          <p:nvPr/>
        </p:nvSpPr>
        <p:spPr>
          <a:xfrm>
            <a:off x="3132000" y="378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5"/>
          <p:cNvSpPr/>
          <p:nvPr/>
        </p:nvSpPr>
        <p:spPr>
          <a:xfrm>
            <a:off x="543564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 и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6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8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8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763640" y="333360"/>
            <a:ext cx="5688000" cy="13737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й конус получается путем вращения вокруг оси прямоугольног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1979640" y="4626000"/>
          <a:ext cx="557208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626000"/>
                    <a:ext cx="55720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8"/>
          <p:cNvSpPr/>
          <p:nvPr/>
        </p:nvSpPr>
        <p:spPr>
          <a:xfrm flipV="1">
            <a:off x="4643280" y="1915920"/>
            <a:ext cx="0" cy="381780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2556000" y="1916280"/>
            <a:ext cx="2087280" cy="38178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4643280" y="1916280"/>
            <a:ext cx="2016360" cy="38178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2556000" y="5734080"/>
            <a:ext cx="2087280" cy="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4427280" y="5734080"/>
            <a:ext cx="215640" cy="43164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4643280" y="5734080"/>
            <a:ext cx="2016360" cy="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V="1">
            <a:off x="4643280" y="5373360"/>
            <a:ext cx="144720" cy="36036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H="1">
            <a:off x="4427280" y="1989000"/>
            <a:ext cx="215640" cy="417672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4643280" y="1916280"/>
            <a:ext cx="144720" cy="3457440"/>
          </a:xfrm>
          <a:prstGeom prst="line">
            <a:avLst/>
          </a:prstGeom>
          <a:ln w="936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2268360" y="3933720"/>
            <a:ext cx="1151280" cy="792360"/>
          </a:xfrm>
          <a:custGeom>
            <a:avLst/>
            <a:gdLst>
              <a:gd name="textAreaLeft" fmla="*/ 154080 w 1151280"/>
              <a:gd name="textAreaRight" fmla="*/ 997200 w 1151280"/>
              <a:gd name="textAreaTop" fmla="*/ 131400 h 792360"/>
              <a:gd name="textAreaBottom" fmla="*/ 609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6" stAng="-5400000" swAng="-5400000"/>
                <a:lnTo>
                  <a:pt x="0" y="13034"/>
                </a:lnTo>
                <a:arcTo wR="21600" hR="7176" stAng="10800000" swAng="-2592983"/>
                <a:lnTo>
                  <a:pt x="14400" y="21190"/>
                </a:lnTo>
                <a:lnTo>
                  <a:pt x="21600" y="17280"/>
                </a:lnTo>
                <a:lnTo>
                  <a:pt x="14400" y="12550"/>
                </a:lnTo>
                <a:lnTo>
                  <a:pt x="14400" y="13941"/>
                </a:lnTo>
                <a:arcTo wR="21600" hR="7176" stAng="8207017" swAng="2086045"/>
                <a:lnTo>
                  <a:pt x="1881" y="10105"/>
                </a:lnTo>
                <a:arcTo wR="21600" hR="7176" stAng="-10293062" swAng="4893062"/>
                <a:close/>
              </a:path>
              <a:path fill="darkenLess" w="21600" h="21600">
                <a:moveTo>
                  <a:pt x="21600" y="0"/>
                </a:moveTo>
                <a:arcTo wR="21600" hR="7176" stAng="-5400000" swAng="-5400000"/>
                <a:lnTo>
                  <a:pt x="0" y="7176"/>
                </a:lnTo>
                <a:arcTo wR="21600" hR="7176" stAng="10800000" swAng="-506938"/>
                <a:lnTo>
                  <a:pt x="1881" y="10105"/>
                </a:lnTo>
                <a:arcTo wR="21600" hR="7176" stAng="-10293062" swAng="4893062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6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Сечения кону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konyc_5"/>
          <p:cNvPicPr/>
          <p:nvPr/>
        </p:nvPicPr>
        <p:blipFill>
          <a:blip r:embed="rId1"/>
          <a:stretch/>
        </p:blipFill>
        <p:spPr>
          <a:xfrm>
            <a:off x="2556000" y="1413000"/>
            <a:ext cx="4029120" cy="5184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859280" y="3860640"/>
            <a:ext cx="244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003640" y="3860640"/>
            <a:ext cx="1800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435640" y="3573360"/>
            <a:ext cx="7189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435640" y="3645000"/>
            <a:ext cx="718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132000" y="6165720"/>
            <a:ext cx="719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843280" y="357336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43564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059280" y="6165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6588000" y="1268280"/>
            <a:ext cx="2305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евое се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, которая образуется таким сечением – равнобедренный треугольник (рис.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95280" y="1628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179280" y="1268280"/>
            <a:ext cx="2987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чение, проходящее через хорду и верш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, которая образуется таким сечением – равнобедренный треугольник (рис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4643280" y="4076640"/>
            <a:ext cx="259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чение плоскостью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l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, полученная при таком сечении – круг, с центром принадлежащим оси ко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Касательная плоск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007"/>
          <p:cNvPicPr/>
          <p:nvPr/>
        </p:nvPicPr>
        <p:blipFill>
          <a:blip r:embed="rId1"/>
          <a:stretch/>
        </p:blipFill>
        <p:spPr>
          <a:xfrm>
            <a:off x="4859280" y="1557360"/>
            <a:ext cx="3792600" cy="465624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H="1">
            <a:off x="7020000" y="4437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164360" y="2637000"/>
            <a:ext cx="792360" cy="180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940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02000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95672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02000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26920" y="170028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сательной плоск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конусу называется плоскость, проходящая через образующую и перпендикулярная плоскости осевого сечения, проходящую через эту образ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5940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3708360" y="4941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β – касательная плос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35600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€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35600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  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88000" y="6237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Площадь полной и боковой поверхности кон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age001"/>
          <p:cNvPicPr/>
          <p:nvPr/>
        </p:nvPicPr>
        <p:blipFill>
          <a:blip r:embed="rId1"/>
          <a:stretch/>
        </p:blipFill>
        <p:spPr>
          <a:xfrm>
            <a:off x="2411280" y="1844640"/>
            <a:ext cx="4183200" cy="4608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79280" y="198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щадь боковой поверх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826920" y="2852640"/>
            <a:ext cx="19447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27640" y="198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щадь полной поверх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012000" y="2852640"/>
            <a:ext cx="2663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image010"/>
          <p:cNvPicPr/>
          <p:nvPr/>
        </p:nvPicPr>
        <p:blipFill>
          <a:blip r:embed="rId1"/>
          <a:stretch/>
        </p:blipFill>
        <p:spPr>
          <a:xfrm>
            <a:off x="1476360" y="2133720"/>
            <a:ext cx="1751040" cy="255564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 flipH="1">
            <a:off x="2700000" y="112536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5867280" y="1052640"/>
            <a:ext cx="503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32000" y="177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Вписанная в ко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508720" y="1844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Описанная около кон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image011"/>
          <p:cNvPicPr/>
          <p:nvPr/>
        </p:nvPicPr>
        <p:blipFill>
          <a:blip r:embed="rId2"/>
          <a:stretch/>
        </p:blipFill>
        <p:spPr>
          <a:xfrm>
            <a:off x="5940360" y="2133720"/>
            <a:ext cx="2033640" cy="2593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79280" y="4653000"/>
            <a:ext cx="42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ой вписанной в конус называется такая пирамида, основание которой – многоугольник вписанный в основание конуса, вершина совпадает с вершиной конуса, а боковые ребра являются образующими ко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896000" y="472428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ой описанной около конусу называется такая пирамида, основание которой – многоугольник описанный около основания конуса, вершина совпадает с вершиной конуса, а плоскости боковых граней – касательные к кону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Развертка кону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008"/>
          <p:cNvPicPr/>
          <p:nvPr/>
        </p:nvPicPr>
        <p:blipFill>
          <a:blip r:embed="rId1"/>
          <a:stretch/>
        </p:blipFill>
        <p:spPr>
          <a:xfrm>
            <a:off x="1763640" y="1125360"/>
            <a:ext cx="5832720" cy="2980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4211640" y="4869000"/>
            <a:ext cx="289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6804000" y="4941720"/>
            <a:ext cx="792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572000" y="3573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148360" y="2637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6156360" y="1197000"/>
            <a:ext cx="71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30072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395280" y="38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Объём кону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7" descr="Image14"/>
          <p:cNvPicPr/>
          <p:nvPr/>
        </p:nvPicPr>
        <p:blipFill>
          <a:blip r:embed="rId2"/>
          <a:stretch/>
        </p:blipFill>
        <p:spPr>
          <a:xfrm>
            <a:off x="3419640" y="5013360"/>
            <a:ext cx="2232000" cy="14414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168" name="Rectangle 19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28:43Z</dcterms:created>
  <dc:creator>Катя</dc:creator>
  <dc:description/>
  <dc:language>en-US</dc:language>
  <cp:lastModifiedBy>master</cp:lastModifiedBy>
  <dcterms:modified xsi:type="dcterms:W3CDTF">2023-10-22T04:58:07Z</dcterms:modified>
  <cp:revision>11</cp:revision>
  <dc:subject/>
  <dc:title>Слайд 1</dc:title>
</cp:coreProperties>
</file>