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274A-488B-43A2-B096-1B016122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13CF-A4B8-4ED7-BBF5-F7FD20BC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413A-EA19-4E2E-991C-C4BC6BE1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963-01F9-4D82-B5C9-0187A499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C9A7-E988-4D5C-9636-CF8180CD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85BD-64FB-406D-A1AD-EAD85B21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DC23-FD74-4616-8BAD-94FDC5D1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9317-7C61-465F-95FB-D7625B29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0BE4-55CA-45EC-B332-F855B959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CE3D-4834-4A01-A22E-BBAFC5EB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2F6-7E8E-4CE5-9C8D-401A77EC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8416-6006-4314-B360-B3077C9D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2f"/>
            </a:gs>
            <a:gs pos="50000">
              <a:srgbClr val="003366"/>
            </a:gs>
            <a:gs pos="100000">
              <a:srgbClr val="0018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CF92-3D75-4B44-AA60-B93F6048C03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cc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3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Bookman Old Style"/>
                <a:ea typeface="Aharoni"/>
              </a:rPr>
              <a:t>Коррекционная работа с неговорящими детьми раннего возраста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479700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Шведова Т.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араметры общен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imes New Roman"/>
              </a:rPr>
              <a:t>Инициатива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imes New Roman"/>
              </a:rPr>
              <a:t>Отве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нструменты общения: сред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Bookman Old Style"/>
              </a:rPr>
              <a:t>Признаки </a:t>
            </a:r>
            <a:r>
              <a:rPr b="0" lang="ru-RU" sz="4400" spc="-1" strike="noStrike" u="sng">
                <a:solidFill>
                  <a:srgbClr val="ffff00"/>
                </a:solidFill>
                <a:uFillTx/>
                <a:latin typeface="Bookman Old Style"/>
              </a:rPr>
              <a:t>развития</a:t>
            </a:r>
            <a:r>
              <a:rPr b="0" lang="ru-RU" sz="4400" spc="-1" strike="noStrike">
                <a:solidFill>
                  <a:srgbClr val="ffff00"/>
                </a:solidFill>
                <a:latin typeface="Bookman Old Style"/>
              </a:rPr>
              <a:t> общения ребенка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3" name="Содержимое 3" descr=""/>
          <p:cNvPicPr/>
          <p:nvPr/>
        </p:nvPicPr>
        <p:blipFill>
          <a:blip r:embed="rId1"/>
          <a:stretch/>
        </p:blipFill>
        <p:spPr>
          <a:xfrm>
            <a:off x="68904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Bookman Old Style"/>
              </a:rPr>
              <a:t>Признаки нарушения </a:t>
            </a:r>
            <a:r>
              <a:rPr b="0" lang="ru-RU" sz="4400" spc="-1" strike="noStrike" u="sng">
                <a:solidFill>
                  <a:srgbClr val="ffff00"/>
                </a:solidFill>
                <a:uFillTx/>
                <a:latin typeface="Bookman Old Style"/>
              </a:rPr>
              <a:t>развития</a:t>
            </a:r>
            <a:r>
              <a:rPr b="0" lang="ru-RU" sz="4400" spc="-1" strike="noStrike">
                <a:solidFill>
                  <a:srgbClr val="ffff00"/>
                </a:solidFill>
                <a:latin typeface="Bookman Old Style"/>
              </a:rPr>
              <a:t> общения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5" name="Содержимое 3" descr=""/>
          <p:cNvPicPr/>
          <p:nvPr/>
        </p:nvPicPr>
        <p:blipFill>
          <a:blip r:embed="rId1"/>
          <a:stretch/>
        </p:blipFill>
        <p:spPr>
          <a:xfrm>
            <a:off x="68904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Bookman Old Style"/>
              </a:rPr>
              <a:t>Варианты общения в парах «мать-ребенок раннего возраста»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040280" cy="432000"/>
          </a:xfrm>
          <a:prstGeom prst="rect">
            <a:avLst/>
          </a:prstGeom>
          <a:solidFill>
            <a:srgbClr val="ff8840"/>
          </a:solidFill>
          <a:ln w="0">
            <a:noFill/>
          </a:ln>
        </p:spPr>
        <p:txBody>
          <a:bodyPr anchor="b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благоприят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916280"/>
            <a:ext cx="40402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У детей  - признаки развития общения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c2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У матерей – поддержка ребенка в общении, признание его значимым партнером в общении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4720" y="1341360"/>
            <a:ext cx="4041720" cy="432000"/>
          </a:xfrm>
          <a:prstGeom prst="rect">
            <a:avLst/>
          </a:prstGeom>
          <a:solidFill>
            <a:srgbClr val="d55000"/>
          </a:solidFill>
          <a:ln w="0">
            <a:noFill/>
          </a:ln>
        </p:spPr>
        <p:txBody>
          <a:bodyPr anchor="b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еблагоприят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4720" y="1844280"/>
            <a:ext cx="40417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У детей – признаки нарушения развития общения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У матерей – дефициты в поддержке ребенка и признании его равноправным партнером по общению, личностное обесценивание ребенка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нешняя и внутренняя сторона общен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Содержимое 3" descr=""/>
          <p:cNvPicPr/>
          <p:nvPr/>
        </p:nvPicPr>
        <p:blipFill>
          <a:blip r:embed="rId1"/>
          <a:stretch/>
        </p:blipFill>
        <p:spPr>
          <a:xfrm>
            <a:off x="676440" y="1974960"/>
            <a:ext cx="7967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нутренняя сторона общен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4" name="Содержимое 3" descr=""/>
          <p:cNvPicPr/>
          <p:nvPr/>
        </p:nvPicPr>
        <p:blipFill>
          <a:blip r:embed="rId1"/>
          <a:stretch/>
        </p:blipFill>
        <p:spPr>
          <a:xfrm>
            <a:off x="676440" y="1951200"/>
            <a:ext cx="779760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нутренняя сторона общен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6" name="Содержимое 3" descr=""/>
          <p:cNvPicPr/>
          <p:nvPr/>
        </p:nvPicPr>
        <p:blipFill>
          <a:blip r:embed="rId1"/>
          <a:stretch/>
        </p:blipFill>
        <p:spPr>
          <a:xfrm>
            <a:off x="689040" y="1981080"/>
            <a:ext cx="7821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нутренняя сторона общен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8" name="Содержимое 3" descr=""/>
          <p:cNvPicPr/>
          <p:nvPr/>
        </p:nvPicPr>
        <p:blipFill>
          <a:blip r:embed="rId1"/>
          <a:stretch/>
        </p:blipFill>
        <p:spPr>
          <a:xfrm>
            <a:off x="68904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нутренняя сторона общен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0" name="Содержимое 3" descr=""/>
          <p:cNvPicPr/>
          <p:nvPr/>
        </p:nvPicPr>
        <p:blipFill>
          <a:blip r:embed="rId1"/>
          <a:stretch/>
        </p:blipFill>
        <p:spPr>
          <a:xfrm>
            <a:off x="676440" y="1951200"/>
            <a:ext cx="779760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Содержимое 3" descr=""/>
          <p:cNvPicPr/>
          <p:nvPr/>
        </p:nvPicPr>
        <p:blipFill>
          <a:blip r:embed="rId1"/>
          <a:stretch/>
        </p:blipFill>
        <p:spPr>
          <a:xfrm>
            <a:off x="676440" y="1981080"/>
            <a:ext cx="779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ичины отсутствия речи у детей связаны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со здоровьем дет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с изменением института семь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с использованием гаджетов, как способа занять ребен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агрессивная реклама компьютерных развивающих програм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педагогическая неграмотность родителе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Содержимое 3" descr=""/>
          <p:cNvPicPr/>
          <p:nvPr/>
        </p:nvPicPr>
        <p:blipFill>
          <a:blip r:embed="rId1"/>
          <a:stretch/>
        </p:blipFill>
        <p:spPr>
          <a:xfrm>
            <a:off x="676440" y="1981080"/>
            <a:ext cx="779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нутренняя сторона общен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Содержимое 3" descr=""/>
          <p:cNvPicPr/>
          <p:nvPr/>
        </p:nvPicPr>
        <p:blipFill>
          <a:blip r:embed="rId1"/>
          <a:stretch/>
        </p:blipFill>
        <p:spPr>
          <a:xfrm>
            <a:off x="676440" y="1951200"/>
            <a:ext cx="779760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нутренняя сторона общен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8" name="Содержимое 3" descr=""/>
          <p:cNvPicPr/>
          <p:nvPr/>
        </p:nvPicPr>
        <p:blipFill>
          <a:blip r:embed="rId1"/>
          <a:stretch/>
        </p:blipFill>
        <p:spPr>
          <a:xfrm>
            <a:off x="68904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0" name="Содержимое 3" descr=""/>
          <p:cNvPicPr/>
          <p:nvPr/>
        </p:nvPicPr>
        <p:blipFill>
          <a:blip r:embed="rId1"/>
          <a:stretch/>
        </p:blipFill>
        <p:spPr>
          <a:xfrm>
            <a:off x="68904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нутренняя сторона общен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Содержимое 3" descr=""/>
          <p:cNvPicPr/>
          <p:nvPr/>
        </p:nvPicPr>
        <p:blipFill>
          <a:blip r:embed="rId1"/>
          <a:stretch/>
        </p:blipFill>
        <p:spPr>
          <a:xfrm>
            <a:off x="676440" y="1951200"/>
            <a:ext cx="779760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Этапы работы с неговорящим ребенком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держка активности ребенка в общении и игре и организация совместного вним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вместно-разделенные переживания в общении и игр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вместная деятельность, развивающая игра, диалог, обуч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Направления и содержание работы с ребенком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Установление контакта с ребенк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Слуховое внимание и слуховое сосредоточ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Расширение репертуара имеющихся и развитие новых средств общ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 Развитие понимания реч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Направления и содержание работы с ребенком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. Развитие артикуляционных возможностей ребен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. Стимуляция экспрессивной реч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7. Развитие речевого общения в сюжетной игре, в продуктивных видах деятель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8.Личный «Речевой альбом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9. Развитие мелкой мотори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Организация занятий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-2 раза в недел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ремя занятий не меняе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5-90 мину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коло 8 видов занят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сутствие матери на занятии обязатель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66"/>
                </a:solidFill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Особенности развития детей раннего возраста (от 1 до 3 лет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процессы возбуждения преобладают над процессами тормо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внимание 3-5 минут, к 3 годам-15 мину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дети быстро заражаются эмоциями других дет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быстрый темп физического развит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большой объем знаний и ум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азвитие реч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ечественные нор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 год – слова, 1,5 года - фра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рубежные нор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чь после 2-х л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Дифференциация изолированных нарушений речи от: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арушений при патологии слух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Д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истемных нарушений реч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арушения общения с матерью (близким взрослым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Нарушение слух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тодика «гороховых» проб – скрининг слух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нка – 30-40 Д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речка – 50-60 Д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орох –  70-80 Д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оявления РД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рушение способности к установлению эмоционального контак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тереотипность в поведени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ечь не используется в целях коммуникаци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Отсутствие речи при когнитивных нарушениях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иагностика нервно-психического развития ребенка (Фрухт Э.Л., Печора К.Л.,  Пантюхина Г.М.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иагностика Е.А.Стребелево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Нарушения общения с матерью (близким взрослым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Диагностика взаимодействия/общения ребенка и матери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08:52:13Z</dcterms:created>
  <dc:creator>€¬п</dc:creator>
  <dc:description/>
  <dc:language>en-US</dc:language>
  <cp:lastModifiedBy>Kareeva</cp:lastModifiedBy>
  <dcterms:modified xsi:type="dcterms:W3CDTF">2018-10-30T06:23:48Z</dcterms:modified>
  <cp:revision>678</cp:revision>
  <dc:subject/>
  <dc:title>Развитие телесного и эмоционального опыта женщины в период беременности</dc:title>
</cp:coreProperties>
</file>