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7A03-D629-4BB9-9406-950DFD3A6C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98CB-624D-431B-BE22-E3FE17E297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869-513A-44B3-9B20-C5E08459A3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F258-FD5D-4E24-B6C0-6F4E6671F5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90F-9189-43EF-9F4E-8865922D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339-0609-4AD6-8C73-C8D331B8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A36-4FFC-45D4-B2F7-E9282ED8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661-B7C4-4F63-9F62-FD54F9A0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4E97-8227-4E2B-97B5-FB59544B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95E1-838D-421B-BAF0-43BD95EB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5D26-8B69-488F-936D-CE9AFD68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CBA3-C486-412A-8BA0-61E76E6A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2E50-08F1-4A66-9B39-5A8350EC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A735-4301-4A50-8315-50E2CE6B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D384-AD79-4A94-83BD-150C0724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3EB-63ED-4642-9A4E-88F4E9EA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D795-8070-4F03-9325-3808835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8033-94CC-4FA8-94F2-86D69ED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016B-4AAD-4B30-A139-EBBA4DA8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56AD-5695-41BD-9EDB-81A1B5AA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FC31-BA6A-4D2B-BCEA-44C71AB9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2C094-D42C-499A-948E-B4BFF86C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15000-6282-495D-A4C6-E26A5938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E38E2-B01E-4BD2-A19B-AC922DD2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3E00A-FA24-4547-B371-762D869A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0A244-EF92-460E-B369-2B5CBD49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211-758D-4E80-A0B2-42FFBCFD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82842-3DB5-4ED1-8209-ECE4F66E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1C079-EBCC-434A-B889-ADEA7CB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2AC03-AD9D-4309-8306-EDA3E22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2C7B0-A25A-4D8E-A1BF-D61286B0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AAD10-3CC9-4390-A1CA-3FFFCD50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F5178-7808-49C8-B153-60602A05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BCA44-FDA2-47A1-8FBC-8FCFBA1C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75D3D-344F-40FF-973A-8AEAC6E7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F9A6A-A26E-468B-AB6F-664E320D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3001-09C0-4D7B-9A4D-29B6F3C0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AC8-7D1B-4585-A75B-E780E1C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6E92-9187-46D6-9774-C4DB1D87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4BBC-AA02-46CC-ABBB-399F36E7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B7B5-2086-4F40-911B-D7B4F830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34C4-39F1-4784-9F2E-10B14FE8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D893-192B-4400-AABE-AE3AC3F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C1A6F-3475-40F6-9EC4-85053F54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C346F-A5FF-4631-AF6B-82C3465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BC56-7978-4E49-A9FC-97CBAAAD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1FDA-4FB6-404E-A772-839B8589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8E2-02A8-425B-A82A-AA599D38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546-ABFD-4C4F-BFEA-5A740B0D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A81-7AEF-41E3-B2CC-7B334614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F8B-ACF8-4122-84E9-2C6BCB8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CDD-3DD7-4D7D-81E5-E36347CA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C623-BB6C-4694-9877-962E99FDA04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90EA-B0B6-403B-B29D-6860DD0D765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963C-A35A-4D8E-95E6-E234168AC3F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BE6D-6FD1-44C4-9C77-EA752DCA2F8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0001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Логика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Логические операци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-360" y="5748120"/>
            <a:ext cx="90010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Arial"/>
                <a:ea typeface="Arial"/>
              </a:rPr>
              <a:t>Мокеев Валерий Витальевич</a:t>
            </a:r>
            <a:r>
              <a:rPr b="0" lang="ru-RU" sz="1800" spc="-1" strike="noStrike">
                <a:solidFill>
                  <a:srgbClr val="424456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424456"/>
                </a:solidFill>
                <a:latin typeface="Arial"/>
                <a:ea typeface="Arial"/>
              </a:rPr>
              <a:t>преподаватель математик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456"/>
                </a:solidFill>
                <a:latin typeface="Arial"/>
                <a:ea typeface="Arial"/>
              </a:rPr>
              <a:t>МОУ «СОШ№7» г. Новодвинс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Определить верно ли утвержде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8. Клавиатура – это устройство вывода информаци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Стрелка влево 4"/>
          <p:cNvSpPr/>
          <p:nvPr/>
        </p:nvSpPr>
        <p:spPr>
          <a:xfrm>
            <a:off x="7093080" y="580536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Определить верно ли утвержде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9. Акустические колонки – это устройство вывода информаци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Стрелка влево 3"/>
          <p:cNvSpPr/>
          <p:nvPr/>
        </p:nvSpPr>
        <p:spPr>
          <a:xfrm>
            <a:off x="7093080" y="580536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08000" y="692280"/>
            <a:ext cx="9036000" cy="66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Число в двоичной системе записывается с помощью 0 и 1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Информация в памяти компьютера хранится в двоичном вид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В русском языке по цели высказывания предложения бывают только повествовательные и вопросительны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Бит – это основная единица измерения информаци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Монитор – это устройство ввода информ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Процессор – это устройство обработки информ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Жесткий диск – устройство хранения информ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Клавиатура – это устройство вывода информ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3260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Акустические колонки – это устройство вывода информ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 Black"/>
              </a:rPr>
              <a:t>ОПРЕДЕЛЕНИ</a:t>
            </a: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560" y="1913040"/>
            <a:ext cx="871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83a7a"/>
                </a:solidFill>
                <a:latin typeface="Arial"/>
                <a:ea typeface="Arial"/>
              </a:rPr>
              <a:t>Логическое высказывание</a:t>
            </a:r>
            <a:r>
              <a:rPr b="1" lang="en-US" sz="3600" spc="-1" strike="noStrike">
                <a:solidFill>
                  <a:srgbClr val="783a7a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Arial"/>
                <a:ea typeface="Arial"/>
              </a:rPr>
              <a:t>это любое предложение в повествовательной форме,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Arial"/>
                <a:ea typeface="Arial"/>
              </a:rPr>
              <a:t>о котором можно однозначно сказать, истинно оно или ложно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Будут ли высказываниями данные предложения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280"/>
            <a:ext cx="822960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ое сегодня число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ня любит фрукт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+5=1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*2=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8" name="Группа 6"/>
          <p:cNvGrpSpPr/>
          <p:nvPr/>
        </p:nvGrpSpPr>
        <p:grpSpPr>
          <a:xfrm>
            <a:off x="4876920" y="5187960"/>
            <a:ext cx="4066920" cy="1478520"/>
            <a:chOff x="4876920" y="5187960"/>
            <a:chExt cx="4066920" cy="1478520"/>
          </a:xfrm>
        </p:grpSpPr>
        <p:sp>
          <p:nvSpPr>
            <p:cNvPr id="259" name="Скругленный прямоугольник 2"/>
            <p:cNvSpPr/>
            <p:nvPr/>
          </p:nvSpPr>
          <p:spPr>
            <a:xfrm>
              <a:off x="4876920" y="5295600"/>
              <a:ext cx="448920" cy="38556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Скругленный прямоугольник 4"/>
            <p:cNvSpPr/>
            <p:nvPr/>
          </p:nvSpPr>
          <p:spPr>
            <a:xfrm>
              <a:off x="4876920" y="6221520"/>
              <a:ext cx="448920" cy="38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Скругленный прямоугольник 5"/>
            <p:cNvSpPr/>
            <p:nvPr/>
          </p:nvSpPr>
          <p:spPr>
            <a:xfrm>
              <a:off x="4876920" y="5754600"/>
              <a:ext cx="448920" cy="384120"/>
            </a:xfrm>
            <a:prstGeom prst="roundRect">
              <a:avLst>
                <a:gd name="adj" fmla="val 16667"/>
              </a:avLst>
            </a:prstGeom>
            <a:solidFill>
              <a:srgbClr val="d20cba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3"/>
            <p:cNvSpPr/>
            <p:nvPr/>
          </p:nvSpPr>
          <p:spPr>
            <a:xfrm>
              <a:off x="5471280" y="5187960"/>
              <a:ext cx="213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истин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7"/>
            <p:cNvSpPr/>
            <p:nvPr/>
          </p:nvSpPr>
          <p:spPr>
            <a:xfrm>
              <a:off x="5471280" y="6145920"/>
              <a:ext cx="347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Не высказы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8"/>
            <p:cNvSpPr/>
            <p:nvPr/>
          </p:nvSpPr>
          <p:spPr>
            <a:xfrm>
              <a:off x="5471280" y="5646600"/>
              <a:ext cx="213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лож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79280" y="3962520"/>
          <a:ext cx="8785440" cy="268128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733320"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стинное высказ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ожное высказ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 высказ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485640"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487440"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487440"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487440"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56880" r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-66600" y="547560"/>
            <a:ext cx="7283520" cy="29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+2=5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ша вкуснее ябло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горо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вут 3 млн. челове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don is the capital of Great Britai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ртофель содержит крахмал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час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раф летит на север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квадрата 10 сторон и все разны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ртоф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ыкновен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е содержит крахмал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3203640" y="47545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084720" y="47545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ша вкуснее я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6084720" y="5259240"/>
            <a:ext cx="30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т 3 млн.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324000" y="468324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don is the capital of 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334080" y="5835600"/>
            <a:ext cx="280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фель содержит крахм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6156360" y="5762520"/>
            <a:ext cx="137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ча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6156360" y="62676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 летит на сев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3203640" y="511488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вадрата 10 сторон и все раз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3276720" y="5589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3059280" y="5835600"/>
            <a:ext cx="32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фель не содержит крахм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Группа 13"/>
          <p:cNvGrpSpPr/>
          <p:nvPr/>
        </p:nvGrpSpPr>
        <p:grpSpPr>
          <a:xfrm>
            <a:off x="6022800" y="892080"/>
            <a:ext cx="3025800" cy="1284480"/>
            <a:chOff x="6022800" y="892080"/>
            <a:chExt cx="3025800" cy="1284480"/>
          </a:xfrm>
        </p:grpSpPr>
        <p:sp>
          <p:nvSpPr>
            <p:cNvPr id="278" name="Скругленный прямоугольник 15"/>
            <p:cNvSpPr/>
            <p:nvPr/>
          </p:nvSpPr>
          <p:spPr>
            <a:xfrm>
              <a:off x="6022800" y="990360"/>
              <a:ext cx="333360" cy="34776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347760"/>
                <a:gd name="textAreaBottom" fmla="*/ 331560 h 347760"/>
              </a:gdLst>
              <a:ahLst/>
              <a:rect l="textAreaLeft" t="textAreaTop" r="textAreaRight" b="textAreaBottom"/>
              <a:pathLst>
                <a:path w="21600" h="22532">
                  <a:moveTo>
                    <a:pt x="3600" y="0"/>
                  </a:moveTo>
                  <a:arcTo wR="3600" hR="3600" stAng="16200000" swAng="-5400000"/>
                  <a:lnTo>
                    <a:pt x="0" y="18932"/>
                  </a:lnTo>
                  <a:arcTo wR="3600" hR="3600" stAng="10800000" swAng="-5400000"/>
                  <a:lnTo>
                    <a:pt x="18000" y="22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b0f0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Скругленный прямоугольник 16"/>
            <p:cNvSpPr/>
            <p:nvPr/>
          </p:nvSpPr>
          <p:spPr>
            <a:xfrm>
              <a:off x="6022800" y="1828800"/>
              <a:ext cx="333360" cy="34776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347760"/>
                <a:gd name="textAreaBottom" fmla="*/ 331560 h 347760"/>
              </a:gdLst>
              <a:ahLst/>
              <a:rect l="textAreaLeft" t="textAreaTop" r="textAreaRight" b="textAreaBottom"/>
              <a:pathLst>
                <a:path w="21600" h="22532">
                  <a:moveTo>
                    <a:pt x="3600" y="0"/>
                  </a:moveTo>
                  <a:arcTo wR="3600" hR="3600" stAng="16200000" swAng="-5400000"/>
                  <a:lnTo>
                    <a:pt x="0" y="18932"/>
                  </a:lnTo>
                  <a:arcTo wR="3600" hR="3600" stAng="10800000" swAng="-5400000"/>
                  <a:lnTo>
                    <a:pt x="18000" y="22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Скругленный прямоугольник 17"/>
            <p:cNvSpPr/>
            <p:nvPr/>
          </p:nvSpPr>
          <p:spPr>
            <a:xfrm>
              <a:off x="6022800" y="1406520"/>
              <a:ext cx="333360" cy="34776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347760"/>
                <a:gd name="textAreaBottom" fmla="*/ 331560 h 347760"/>
              </a:gdLst>
              <a:ahLst/>
              <a:rect l="textAreaLeft" t="textAreaTop" r="textAreaRight" b="textAreaBottom"/>
              <a:pathLst>
                <a:path w="21600" h="22532">
                  <a:moveTo>
                    <a:pt x="3600" y="0"/>
                  </a:moveTo>
                  <a:arcTo wR="3600" hR="3600" stAng="16200000" swAng="-5400000"/>
                  <a:lnTo>
                    <a:pt x="0" y="18932"/>
                  </a:lnTo>
                  <a:arcTo wR="3600" hR="3600" stAng="10800000" swAng="-5400000"/>
                  <a:lnTo>
                    <a:pt x="18000" y="22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20cba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8"/>
            <p:cNvSpPr/>
            <p:nvPr/>
          </p:nvSpPr>
          <p:spPr>
            <a:xfrm>
              <a:off x="6464880" y="892080"/>
              <a:ext cx="15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ист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9"/>
            <p:cNvSpPr/>
            <p:nvPr/>
          </p:nvSpPr>
          <p:spPr>
            <a:xfrm>
              <a:off x="6464880" y="1760040"/>
              <a:ext cx="258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Не высказы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0"/>
            <p:cNvSpPr/>
            <p:nvPr/>
          </p:nvSpPr>
          <p:spPr>
            <a:xfrm>
              <a:off x="6499800" y="1297080"/>
              <a:ext cx="15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лож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63036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 Black"/>
              </a:rPr>
              <a:t>ОБОЗНАЧ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4105440" cy="86364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 fontScale="90000"/>
          </a:bodyPr>
          <a:p>
            <a:pPr marL="396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Georgia"/>
              </a:rPr>
              <a:t>Истинные высказыв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0" y="1412640"/>
            <a:ext cx="4392720" cy="863640"/>
          </a:xfrm>
          <a:prstGeom prst="rect">
            <a:avLst/>
          </a:prstGeom>
          <a:solidFill>
            <a:srgbClr val="c991cb">
              <a:alpha val="25000"/>
            </a:srgbClr>
          </a:solidFill>
          <a:ln w="12600">
            <a:solidFill>
              <a:srgbClr val="783a7a"/>
            </a:solidFill>
            <a:miter/>
          </a:ln>
        </p:spPr>
        <p:txBody>
          <a:bodyPr anchor="ctr">
            <a:normAutofit fontScale="92000"/>
          </a:bodyPr>
          <a:p>
            <a:pPr marL="406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Georgia"/>
              </a:rPr>
              <a:t>Ложные высказыв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29920" y="24253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ndon is the capit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 Great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t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ртофель содержит крахма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0" y="2495160"/>
            <a:ext cx="439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+2=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ртофел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содержит крахма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0" name="TextBox 11"/>
          <p:cNvSpPr/>
          <p:nvPr/>
        </p:nvSpPr>
        <p:spPr>
          <a:xfrm>
            <a:off x="250920" y="23511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26064"/>
                </a:solidFill>
                <a:latin typeface="Georgia"/>
              </a:rPr>
              <a:t>А:</a:t>
            </a:r>
            <a:r>
              <a:rPr b="0" lang="ru-RU" sz="1800" spc="-1" strike="noStrike">
                <a:solidFill>
                  <a:srgbClr val="326064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2"/>
          <p:cNvSpPr/>
          <p:nvPr/>
        </p:nvSpPr>
        <p:spPr>
          <a:xfrm>
            <a:off x="179280" y="32148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26064"/>
                </a:solidFill>
                <a:latin typeface="Georgia"/>
              </a:rPr>
              <a:t>С:</a:t>
            </a:r>
            <a:r>
              <a:rPr b="0" lang="ru-RU" sz="1800" spc="-1" strike="noStrike">
                <a:solidFill>
                  <a:srgbClr val="326064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4572000" y="24224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83a7a"/>
                </a:solidFill>
                <a:latin typeface="Georgia"/>
              </a:rPr>
              <a:t>В:</a:t>
            </a:r>
            <a:r>
              <a:rPr b="0" lang="ru-RU" sz="1800" spc="-1" strike="noStrike">
                <a:solidFill>
                  <a:srgbClr val="326064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4427640" y="32893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26064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83a7a"/>
                </a:solidFill>
                <a:latin typeface="Georgia"/>
              </a:rPr>
              <a:t>не С:</a:t>
            </a:r>
            <a:r>
              <a:rPr b="0" lang="ru-RU" sz="1800" spc="-1" strike="noStrike">
                <a:solidFill>
                  <a:srgbClr val="326064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2a874"/>
                </a:solidFill>
                <a:latin typeface="Times New Roman"/>
              </a:rPr>
              <a:t>Логические опер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версия (логическое отрицани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4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знач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версия логической переменной истина, ес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нная ложна, и, наоборот, инверсия ложна, если переменная истин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2916360" y="3284640"/>
                <a:ext cx="503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4456"/>
                </a:solidFill>
                <a:latin typeface="Times New Roman"/>
              </a:rPr>
              <a:t>Таблица истинност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47640" y="1600200"/>
          <a:ext cx="5761080" cy="3341520"/>
        </p:xfrm>
        <a:graphic>
          <a:graphicData uri="http://schemas.openxmlformats.org/drawingml/2006/table">
            <a:tbl>
              <a:tblPr/>
              <a:tblGrid>
                <a:gridCol w="2881440"/>
                <a:gridCol w="2879640"/>
              </a:tblGrid>
              <a:tr h="111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5435640" y="1700280"/>
                <a:ext cx="649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2700360" y="1844640"/>
                <a:ext cx="647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Box 2"/>
          <p:cNvSpPr/>
          <p:nvPr/>
        </p:nvSpPr>
        <p:spPr>
          <a:xfrm>
            <a:off x="2716200" y="290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5489640" y="290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2716200" y="3990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5489640" y="3990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02960" y="1555560"/>
            <a:ext cx="4537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тофель – это корнеплод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294080" y="3860640"/>
            <a:ext cx="49579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рковь – это клубнепло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Левая фигурная скобка 6"/>
          <p:cNvSpPr/>
          <p:nvPr/>
        </p:nvSpPr>
        <p:spPr>
          <a:xfrm rot="16200000">
            <a:off x="2019960" y="722880"/>
            <a:ext cx="505080" cy="4043160"/>
          </a:xfrm>
          <a:custGeom>
            <a:avLst/>
            <a:gdLst>
              <a:gd name="textAreaLeft" fmla="*/ 322920 w 505080"/>
              <a:gd name="textAreaRight" fmla="*/ 505440 w 505080"/>
              <a:gd name="textAreaTop" fmla="*/ 12960 h 4043160"/>
              <a:gd name="textAreaBottom" fmla="*/ 4030200 h 40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1908000" y="2955960"/>
                <a:ext cx="505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Правая фигурная скобка 8"/>
          <p:cNvSpPr/>
          <p:nvPr/>
        </p:nvSpPr>
        <p:spPr>
          <a:xfrm rot="5400000">
            <a:off x="6586200" y="2634840"/>
            <a:ext cx="431640" cy="389268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3892680"/>
              <a:gd name="textAreaBottom" fmla="*/ 3881520 h 389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6551640" y="4797360"/>
                <a:ext cx="503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TextBox 10"/>
          <p:cNvSpPr/>
          <p:nvPr/>
        </p:nvSpPr>
        <p:spPr>
          <a:xfrm>
            <a:off x="4149720" y="31766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95280" y="1357200"/>
          <a:ext cx="8424720" cy="48992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63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 u="sng">
                          <a:solidFill>
                            <a:srgbClr val="326064"/>
                          </a:solidFill>
                          <a:uFillTx/>
                          <a:latin typeface="Arial Black"/>
                          <a:hlinkClick r:id="rId1" action="ppaction://hlinksldjump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224043"/>
                      </a:solidFill>
                    </a:lnL>
                    <a:lnR w="18720">
                      <a:solidFill>
                        <a:srgbClr val="224043"/>
                      </a:solidFill>
                    </a:lnR>
                    <a:lnT w="18720">
                      <a:solidFill>
                        <a:srgbClr val="224043"/>
                      </a:solidFill>
                    </a:lnT>
                    <a:lnB w="18720">
                      <a:solidFill>
                        <a:srgbClr val="224043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224043"/>
                      </a:solidFill>
                    </a:lnL>
                    <a:lnR w="18720">
                      <a:solidFill>
                        <a:srgbClr val="224043"/>
                      </a:solidFill>
                    </a:lnR>
                    <a:lnT w="18720">
                      <a:solidFill>
                        <a:srgbClr val="224043"/>
                      </a:solidFill>
                    </a:lnT>
                    <a:lnB w="18720">
                      <a:solidFill>
                        <a:srgbClr val="224043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224043"/>
                      </a:solidFill>
                    </a:lnL>
                    <a:lnR w="18720">
                      <a:solidFill>
                        <a:srgbClr val="224043"/>
                      </a:solidFill>
                    </a:lnR>
                    <a:lnT w="18720">
                      <a:solidFill>
                        <a:srgbClr val="224043"/>
                      </a:solidFill>
                    </a:lnT>
                    <a:lnB w="18720">
                      <a:solidFill>
                        <a:srgbClr val="224043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16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224043"/>
                      </a:solidFill>
                    </a:lnL>
                    <a:lnR w="18720">
                      <a:solidFill>
                        <a:srgbClr val="224043"/>
                      </a:solidFill>
                    </a:lnR>
                    <a:lnT w="18720">
                      <a:solidFill>
                        <a:srgbClr val="224043"/>
                      </a:solidFill>
                    </a:lnT>
                    <a:lnB w="18720">
                      <a:solidFill>
                        <a:srgbClr val="224043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224043"/>
                      </a:solidFill>
                    </a:lnL>
                    <a:lnR w="18720">
                      <a:solidFill>
                        <a:srgbClr val="224043"/>
                      </a:solidFill>
                    </a:lnR>
                    <a:lnT w="18720">
                      <a:solidFill>
                        <a:srgbClr val="224043"/>
                      </a:solidFill>
                    </a:lnT>
                    <a:lnB w="18720">
                      <a:solidFill>
                        <a:srgbClr val="224043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224043"/>
                      </a:solidFill>
                    </a:lnL>
                    <a:lnR w="18720">
                      <a:solidFill>
                        <a:srgbClr val="224043"/>
                      </a:solidFill>
                    </a:lnR>
                    <a:lnT w="18720">
                      <a:solidFill>
                        <a:srgbClr val="224043"/>
                      </a:solidFill>
                    </a:lnT>
                    <a:lnB w="18720">
                      <a:solidFill>
                        <a:srgbClr val="224043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163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224043"/>
                      </a:solidFill>
                    </a:lnL>
                    <a:lnR w="18720">
                      <a:solidFill>
                        <a:srgbClr val="224043"/>
                      </a:solidFill>
                    </a:lnR>
                    <a:lnT w="18720">
                      <a:solidFill>
                        <a:srgbClr val="224043"/>
                      </a:solidFill>
                    </a:lnT>
                    <a:lnB w="18720">
                      <a:solidFill>
                        <a:srgbClr val="224043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224043"/>
                      </a:solidFill>
                    </a:lnL>
                    <a:lnR w="18720">
                      <a:solidFill>
                        <a:srgbClr val="224043"/>
                      </a:solidFill>
                    </a:lnR>
                    <a:lnT w="18720">
                      <a:solidFill>
                        <a:srgbClr val="224043"/>
                      </a:solidFill>
                    </a:lnT>
                    <a:lnB w="18720">
                      <a:solidFill>
                        <a:srgbClr val="224043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224043"/>
                      </a:solidFill>
                    </a:lnL>
                    <a:lnR w="18720">
                      <a:solidFill>
                        <a:srgbClr val="224043"/>
                      </a:solidFill>
                    </a:lnR>
                    <a:lnT w="18720">
                      <a:solidFill>
                        <a:srgbClr val="224043"/>
                      </a:solidFill>
                    </a:lnT>
                    <a:lnB w="18720">
                      <a:solidFill>
                        <a:srgbClr val="224043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  <p:sp>
        <p:nvSpPr>
          <p:cNvPr id="224" name="Стрелка вправо 4"/>
          <p:cNvSpPr/>
          <p:nvPr/>
        </p:nvSpPr>
        <p:spPr>
          <a:xfrm>
            <a:off x="7740720" y="6357960"/>
            <a:ext cx="792000" cy="3603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428760" y="5716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4043"/>
                </a:solidFill>
                <a:latin typeface="Arial Black"/>
              </a:rPr>
              <a:t>ИГРА «КРЕСТИКИ-НОЛ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4456"/>
                </a:solidFill>
                <a:latin typeface="Times New Roman"/>
              </a:rPr>
              <a:t>Конъюнкция</a:t>
            </a:r>
            <a:r>
              <a:rPr b="0" i="1" lang="en-US" sz="3600" spc="-1" strike="noStrike">
                <a:solidFill>
                  <a:srgbClr val="424456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424456"/>
                </a:solidFill>
                <a:latin typeface="Times New Roman"/>
              </a:rPr>
              <a:t>(</a:t>
            </a:r>
            <a:r>
              <a:rPr b="0" i="1" lang="ru-RU" sz="3600" spc="-1" strike="noStrike">
                <a:solidFill>
                  <a:srgbClr val="424456"/>
                </a:solidFill>
                <a:latin typeface="Times New Roman"/>
              </a:rPr>
              <a:t>логическое умножение)  (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i="1" lang="ru-RU" sz="3600" spc="-1" strike="noStrike">
                <a:solidFill>
                  <a:srgbClr val="424456"/>
                </a:solidFill>
                <a:latin typeface="Times New Roman"/>
              </a:rPr>
              <a:t>)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знач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и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а истинно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артофель – это корнеплод </a:t>
            </a: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морковь – это клубнеплод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262584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3059280" y="1628640"/>
                <a:ext cx="100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6"/>
              <p:cNvSpPr txBox="1"/>
              <p:nvPr/>
            </p:nvSpPr>
            <p:spPr>
              <a:xfrm>
                <a:off x="4788000" y="1628640"/>
                <a:ext cx="1199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17" name=""/>
          <p:cNvGraphicFramePr/>
          <p:nvPr/>
        </p:nvGraphicFramePr>
        <p:xfrm>
          <a:off x="1476360" y="2492280"/>
          <a:ext cx="6167520" cy="270036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2055960"/>
              </a:tblGrid>
              <a:tr h="54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Box 7"/>
          <p:cNvSpPr/>
          <p:nvPr/>
        </p:nvSpPr>
        <p:spPr>
          <a:xfrm>
            <a:off x="2195640" y="25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4427640" y="2565360"/>
            <a:ext cx="3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6227640" y="256536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0"/>
          <p:cNvSpPr/>
          <p:nvPr/>
        </p:nvSpPr>
        <p:spPr>
          <a:xfrm>
            <a:off x="2195640" y="3068640"/>
            <a:ext cx="3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1"/>
          <p:cNvSpPr/>
          <p:nvPr/>
        </p:nvSpPr>
        <p:spPr>
          <a:xfrm>
            <a:off x="4427640" y="314172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2"/>
          <p:cNvSpPr/>
          <p:nvPr/>
        </p:nvSpPr>
        <p:spPr>
          <a:xfrm>
            <a:off x="6443640" y="314172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2195640" y="3645000"/>
            <a:ext cx="3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5"/>
          <p:cNvSpPr/>
          <p:nvPr/>
        </p:nvSpPr>
        <p:spPr>
          <a:xfrm>
            <a:off x="6443640" y="364500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6"/>
          <p:cNvSpPr/>
          <p:nvPr/>
        </p:nvSpPr>
        <p:spPr>
          <a:xfrm>
            <a:off x="4427640" y="422100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7"/>
          <p:cNvSpPr/>
          <p:nvPr/>
        </p:nvSpPr>
        <p:spPr>
          <a:xfrm>
            <a:off x="6443640" y="414972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4429800" y="36450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9"/>
          <p:cNvSpPr/>
          <p:nvPr/>
        </p:nvSpPr>
        <p:spPr>
          <a:xfrm>
            <a:off x="2197800" y="41497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2197800" y="4724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1"/>
          <p:cNvSpPr/>
          <p:nvPr/>
        </p:nvSpPr>
        <p:spPr>
          <a:xfrm>
            <a:off x="4429800" y="4724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2"/>
          <p:cNvSpPr/>
          <p:nvPr/>
        </p:nvSpPr>
        <p:spPr>
          <a:xfrm>
            <a:off x="6446160" y="4724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4456"/>
                </a:solidFill>
                <a:latin typeface="Times New Roman"/>
              </a:rPr>
              <a:t>Конъюнкция</a:t>
            </a:r>
            <a:r>
              <a:rPr b="0" i="1" lang="en-US" sz="4000" spc="-1" strike="noStrike">
                <a:solidFill>
                  <a:srgbClr val="424456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424456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424456"/>
                </a:solidFill>
                <a:latin typeface="Times New Roman"/>
              </a:rPr>
              <a:t>логическое умножение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ъюнкция – это логическая операция, ставящая в соответствие каждым двум высказываниям новое высказывание, являющееся истинным тогда и только тогда, когда оба исходных высказывания истинн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-181080" y="620280"/>
            <a:ext cx="48592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тофель – это корнеплод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323960" y="1052640"/>
            <a:ext cx="49561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рковь – это клубнепло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Левая фигурная скобка 6"/>
          <p:cNvSpPr/>
          <p:nvPr/>
        </p:nvSpPr>
        <p:spPr>
          <a:xfrm rot="16200000">
            <a:off x="1809720" y="-423360"/>
            <a:ext cx="504720" cy="4178160"/>
          </a:xfrm>
          <a:custGeom>
            <a:avLst/>
            <a:gdLst>
              <a:gd name="textAreaLeft" fmla="*/ 322560 w 504720"/>
              <a:gd name="textAreaRight" fmla="*/ 505080 w 504720"/>
              <a:gd name="textAreaTop" fmla="*/ 12960 h 4178160"/>
              <a:gd name="textAreaBottom" fmla="*/ 4165200 h 417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1809720" y="1917720"/>
                <a:ext cx="504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Правая фигурная скобка 8"/>
          <p:cNvSpPr/>
          <p:nvPr/>
        </p:nvSpPr>
        <p:spPr>
          <a:xfrm rot="5400000">
            <a:off x="6586200" y="-317520"/>
            <a:ext cx="431640" cy="389268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3892680"/>
              <a:gd name="textAreaBottom" fmla="*/ 3881520 h 389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4"/>
              <p:cNvSpPr txBox="1"/>
              <p:nvPr/>
            </p:nvSpPr>
            <p:spPr>
              <a:xfrm>
                <a:off x="6551640" y="1916280"/>
                <a:ext cx="5032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TextBox 10"/>
          <p:cNvSpPr/>
          <p:nvPr/>
        </p:nvSpPr>
        <p:spPr>
          <a:xfrm>
            <a:off x="3924360" y="166536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4456"/>
                </a:solidFill>
                <a:latin typeface="Times New Roman"/>
              </a:rPr>
              <a:t>Дизъюнкция </a:t>
            </a:r>
            <a:br>
              <a:rPr sz="3600"/>
            </a:br>
            <a:r>
              <a:rPr b="0" i="1" lang="en-US" sz="3600" spc="-1" strike="noStrike">
                <a:solidFill>
                  <a:srgbClr val="424456"/>
                </a:solidFill>
                <a:latin typeface="Times New Roman"/>
              </a:rPr>
              <a:t>(</a:t>
            </a:r>
            <a:r>
              <a:rPr b="0" i="1" lang="ru-RU" sz="3600" spc="-1" strike="noStrike">
                <a:solidFill>
                  <a:srgbClr val="424456"/>
                </a:solidFill>
                <a:latin typeface="Times New Roman"/>
              </a:rPr>
              <a:t>логическое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4456"/>
                </a:solidFill>
                <a:latin typeface="Times New Roman"/>
              </a:rPr>
              <a:t>сложение) (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или</a:t>
            </a:r>
            <a:r>
              <a:rPr b="0" i="1" lang="ru-RU" sz="3600" spc="-1" strike="noStrike">
                <a:solidFill>
                  <a:srgbClr val="42445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знач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и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а истинност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ртофель – это корнеплод 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орковь - клубнеплод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262584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2987640" y="1628640"/>
                <a:ext cx="1008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6"/>
              <p:cNvSpPr txBox="1"/>
              <p:nvPr/>
            </p:nvSpPr>
            <p:spPr>
              <a:xfrm>
                <a:off x="4716360" y="1628640"/>
                <a:ext cx="1030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7" name=""/>
          <p:cNvGraphicFramePr/>
          <p:nvPr/>
        </p:nvGraphicFramePr>
        <p:xfrm>
          <a:off x="1476360" y="2492280"/>
          <a:ext cx="6167520" cy="2700360"/>
        </p:xfrm>
        <a:graphic>
          <a:graphicData uri="http://schemas.openxmlformats.org/drawingml/2006/table">
            <a:tbl>
              <a:tblPr/>
              <a:tblGrid>
                <a:gridCol w="2055960"/>
                <a:gridCol w="2055600"/>
                <a:gridCol w="2055960"/>
              </a:tblGrid>
              <a:tr h="54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TextBox 7"/>
          <p:cNvSpPr/>
          <p:nvPr/>
        </p:nvSpPr>
        <p:spPr>
          <a:xfrm>
            <a:off x="2195640" y="25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4427640" y="256536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6227640" y="256536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2195640" y="3068640"/>
            <a:ext cx="3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4427640" y="314172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6443640" y="314172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195640" y="3645000"/>
            <a:ext cx="3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5"/>
          <p:cNvSpPr/>
          <p:nvPr/>
        </p:nvSpPr>
        <p:spPr>
          <a:xfrm>
            <a:off x="6443640" y="364500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427640" y="422100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7"/>
          <p:cNvSpPr/>
          <p:nvPr/>
        </p:nvSpPr>
        <p:spPr>
          <a:xfrm>
            <a:off x="6443640" y="414972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8"/>
          <p:cNvSpPr/>
          <p:nvPr/>
        </p:nvSpPr>
        <p:spPr>
          <a:xfrm>
            <a:off x="4430160" y="3645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9"/>
          <p:cNvSpPr/>
          <p:nvPr/>
        </p:nvSpPr>
        <p:spPr>
          <a:xfrm>
            <a:off x="2197800" y="4149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0"/>
          <p:cNvSpPr/>
          <p:nvPr/>
        </p:nvSpPr>
        <p:spPr>
          <a:xfrm>
            <a:off x="2197800" y="472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4430160" y="472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2"/>
          <p:cNvSpPr/>
          <p:nvPr/>
        </p:nvSpPr>
        <p:spPr>
          <a:xfrm>
            <a:off x="6446160" y="472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4456"/>
                </a:solidFill>
                <a:latin typeface="Times New Roman"/>
              </a:rPr>
              <a:t>Дизъюнкция </a:t>
            </a:r>
            <a:br>
              <a:rPr sz="4000"/>
            </a:br>
            <a:r>
              <a:rPr b="0" i="1" lang="en-US" sz="4000" spc="-1" strike="noStrike">
                <a:solidFill>
                  <a:srgbClr val="424456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424456"/>
                </a:solidFill>
                <a:latin typeface="Times New Roman"/>
              </a:rPr>
              <a:t>логическое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424456"/>
                </a:solidFill>
                <a:latin typeface="Times New Roman"/>
              </a:rPr>
              <a:t>сложение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изъюнкция – это логическая операция, ставящая в соответствие каждым двум высказываниям новое высказывание, являющееся ложным тогда и только тогда, когда оба исходных высказывания лож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Georgia"/>
              </a:rPr>
              <a:t>Quiz</a:t>
            </a: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 - игра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3"/>
          <p:cNvSpPr/>
          <p:nvPr/>
        </p:nvSpPr>
        <p:spPr>
          <a:xfrm>
            <a:off x="324000" y="907920"/>
            <a:ext cx="86407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4160" indent="-254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становите, какие из следующих предложений являются логическими высказываниями, а какие — н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)Ярославль – это столица «Золотого Коль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)Какая сегодня по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6360" y="2274840"/>
          <a:ext cx="8928360" cy="900000"/>
        </p:xfrm>
        <a:graphic>
          <a:graphicData uri="http://schemas.openxmlformats.org/drawingml/2006/table">
            <a:tbl>
              <a:tblPr/>
              <a:tblGrid>
                <a:gridCol w="1871640"/>
                <a:gridCol w="706680"/>
                <a:gridCol w="704880"/>
                <a:gridCol w="706320"/>
                <a:gridCol w="704880"/>
                <a:gridCol w="706320"/>
                <a:gridCol w="704880"/>
                <a:gridCol w="706680"/>
                <a:gridCol w="704520"/>
                <a:gridCol w="706680"/>
                <a:gridCol w="704880"/>
              </a:tblGrid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ысказы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Box 5"/>
          <p:cNvSpPr/>
          <p:nvPr/>
        </p:nvSpPr>
        <p:spPr>
          <a:xfrm>
            <a:off x="2050920" y="2700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2831400" y="2684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0" y="333360"/>
            <a:ext cx="9036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46240" indent="-246240"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Calibri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ТУР: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олнце есть спутник Зем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+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егодня отличная по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 романе Л.Н. Толстого “Война и мир” 3 432 536 с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анкт-Петербург расположен на Не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е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узыка Баха слишком сл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ж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ервая космическая скорость равна 7.8 км/се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железо — метал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если один угол в треугольнике прямой, то треугольник будет тупоуго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6240" indent="-24624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если сумма квадратов двух сторон треугольника равна квадрату третьей, то он прямоуго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324000" y="620640"/>
            <a:ext cx="86407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Calibri"/>
              </a:rPr>
              <a:t>II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, какие из высказываний истинны, какие — ложн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1)Ярославль – это столица «Золотого Коль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2) Март – не весенний мес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17520" y="2593800"/>
          <a:ext cx="8640720" cy="10544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5080"/>
                <a:gridCol w="863640"/>
                <a:gridCol w="863640"/>
                <a:gridCol w="865080"/>
                <a:gridCol w="863640"/>
                <a:gridCol w="863640"/>
                <a:gridCol w="863640"/>
                <a:gridCol w="86508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TextBox 3"/>
          <p:cNvSpPr/>
          <p:nvPr/>
        </p:nvSpPr>
        <p:spPr>
          <a:xfrm>
            <a:off x="468360" y="31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1352520" y="31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4"/>
          <p:cNvSpPr/>
          <p:nvPr/>
        </p:nvSpPr>
        <p:spPr>
          <a:xfrm>
            <a:off x="611280" y="69228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атурн- спутник Сол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екоторые люди имеют голубые гла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се натуральные числа цел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Число 15 – не прост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Краснодар – столица Казахст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5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5 = 62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морковь содержит карот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8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ервая космическая скорость равна 7.8 км/с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9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Эльбрус — высочайшая горная вершина Европ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1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10&lt;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"/>
          <p:cNvSpPr/>
          <p:nvPr/>
        </p:nvSpPr>
        <p:spPr>
          <a:xfrm>
            <a:off x="676080" y="29844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Calibri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ТУ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Определить верно ли утвержде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2249640"/>
            <a:ext cx="85694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Arial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Arial"/>
              </a:rPr>
              <a:t>Число в двоичной системе записывается с помощью 0 и 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Стрелка влево 3"/>
          <p:cNvSpPr/>
          <p:nvPr/>
        </p:nvSpPr>
        <p:spPr>
          <a:xfrm>
            <a:off x="7093080" y="580536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2"/>
          <p:cNvSpPr/>
          <p:nvPr/>
        </p:nvSpPr>
        <p:spPr>
          <a:xfrm>
            <a:off x="108000" y="620640"/>
            <a:ext cx="89280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Сформулируйте отрицания следующих высказываний и запишите их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имер: Ярославль – это столица «Золотого Коль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50920" y="2276640"/>
          <a:ext cx="8642160" cy="1682640"/>
        </p:xfrm>
        <a:graphic>
          <a:graphicData uri="http://schemas.openxmlformats.org/drawingml/2006/table">
            <a:tbl>
              <a:tblPr/>
              <a:tblGrid>
                <a:gridCol w="3240000"/>
                <a:gridCol w="540216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Первое высказы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торое высказы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TextBox 4"/>
          <p:cNvSpPr/>
          <p:nvPr/>
        </p:nvSpPr>
        <p:spPr>
          <a:xfrm>
            <a:off x="3611520" y="227664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Ярославль –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столица «Золотого Коль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0" y="6102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на контрольной работе каждый ученик писал своей ручк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теннисист Кафельников не проиграл финальную иг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2"/>
          <p:cNvSpPr/>
          <p:nvPr/>
        </p:nvSpPr>
        <p:spPr>
          <a:xfrm>
            <a:off x="250920" y="836640"/>
            <a:ext cx="87138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оставьте конъюнкцию двух высказываний и определите истинность найденного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)Ярославль – это столица «Золотого Коль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) Март – не весенний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79360" y="3298680"/>
          <a:ext cx="8352000" cy="993960"/>
        </p:xfrm>
        <a:graphic>
          <a:graphicData uri="http://schemas.openxmlformats.org/drawingml/2006/table">
            <a:tbl>
              <a:tblPr/>
              <a:tblGrid>
                <a:gridCol w="1951200"/>
                <a:gridCol w="6400800"/>
              </a:tblGrid>
              <a:tr h="993960">
                <a:tc>
                  <a:txBody>
                    <a:bodyPr lIns="68400" rIns="68400" tIns="0" bIns="0" anchor="ctr">
                      <a:noAutofit/>
                    </a:bodyPr>
                    <a:p>
                      <a:pPr marL="225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конъюнк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TextBox 4"/>
          <p:cNvSpPr/>
          <p:nvPr/>
        </p:nvSpPr>
        <p:spPr>
          <a:xfrm>
            <a:off x="2195640" y="3284640"/>
            <a:ext cx="55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Ярославль – это столица «Золотого Кольца» и  Март – не весенний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076720" y="5589720"/>
          <a:ext cx="3745080" cy="107928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9560"/>
              </a:tblGrid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Box 6"/>
          <p:cNvSpPr/>
          <p:nvPr/>
        </p:nvSpPr>
        <p:spPr>
          <a:xfrm>
            <a:off x="5610240" y="6165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6804000" y="616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8028000" y="6165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38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Прямоугольник 2"/>
          <p:cNvSpPr/>
          <p:nvPr/>
        </p:nvSpPr>
        <p:spPr>
          <a:xfrm>
            <a:off x="231840" y="765000"/>
            <a:ext cx="8497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борщ готовится со свекл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картофель – это корнепл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оугольник 2"/>
          <p:cNvSpPr/>
          <p:nvPr/>
        </p:nvSpPr>
        <p:spPr>
          <a:xfrm>
            <a:off x="250920" y="836640"/>
            <a:ext cx="87138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оставьте дизъюнкцию двух высказываний и определите истинность найденного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)Ярославль – это столица «Золотого Коль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) Март – не весенний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79360" y="3298680"/>
          <a:ext cx="8352000" cy="993960"/>
        </p:xfrm>
        <a:graphic>
          <a:graphicData uri="http://schemas.openxmlformats.org/drawingml/2006/table">
            <a:tbl>
              <a:tblPr/>
              <a:tblGrid>
                <a:gridCol w="1951200"/>
                <a:gridCol w="6400800"/>
              </a:tblGrid>
              <a:tr h="993960">
                <a:tc>
                  <a:txBody>
                    <a:bodyPr lIns="68400" rIns="68400" tIns="0" bIns="0" anchor="ctr">
                      <a:noAutofit/>
                    </a:bodyPr>
                    <a:p>
                      <a:pPr marL="225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конъюнк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TextBox 4"/>
          <p:cNvSpPr/>
          <p:nvPr/>
        </p:nvSpPr>
        <p:spPr>
          <a:xfrm>
            <a:off x="2195640" y="3284640"/>
            <a:ext cx="55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Ярославль – это столица «Золотого Кольца» или  Март – не весенний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076720" y="5589720"/>
          <a:ext cx="3745080" cy="107928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9560"/>
              </a:tblGrid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TextBox 6"/>
          <p:cNvSpPr/>
          <p:nvPr/>
        </p:nvSpPr>
        <p:spPr>
          <a:xfrm>
            <a:off x="5610240" y="6165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6804000" y="616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8028000" y="6165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38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Прямоугольник 2"/>
          <p:cNvSpPr/>
          <p:nvPr/>
        </p:nvSpPr>
        <p:spPr>
          <a:xfrm>
            <a:off x="179280" y="692280"/>
            <a:ext cx="8820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котлета при жарении становится меньше в размер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свекла – это корнепл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Ответ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0" y="333360"/>
            <a:ext cx="874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-254160"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Установите, какие из следующих предложений являются логическими высказываниями, а какие — нет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олнце есть спутник Зем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2+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егодня отличная по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 романе Л.Н. Толстого “Война и мир” 3 432 536 с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5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анкт-Петербург расположен на Н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узыка Баха слишком слож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7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ервая космическая скорость равна 7.8 км/с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железо — метал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если один угол в треугольнике прямой, то треугольник будет тупоуголь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4160" indent="-254160" algn="just">
              <a:lnSpc>
                <a:spcPct val="115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если сумма квадратов двух сторон треугольника равна квадрату третьей, то он прямоуго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”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08000" y="5589720"/>
          <a:ext cx="8856720" cy="701640"/>
        </p:xfrm>
        <a:graphic>
          <a:graphicData uri="http://schemas.openxmlformats.org/drawingml/2006/table">
            <a:tbl>
              <a:tblPr/>
              <a:tblGrid>
                <a:gridCol w="2519280"/>
                <a:gridCol w="633600"/>
                <a:gridCol w="634680"/>
                <a:gridCol w="633600"/>
                <a:gridCol w="633240"/>
                <a:gridCol w="633600"/>
                <a:gridCol w="633240"/>
                <a:gridCol w="633600"/>
                <a:gridCol w="635040"/>
                <a:gridCol w="633240"/>
                <a:gridCol w="633600"/>
              </a:tblGrid>
              <a:tr h="350640"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ысказы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4"/>
          <p:cNvSpPr/>
          <p:nvPr/>
        </p:nvSpPr>
        <p:spPr>
          <a:xfrm>
            <a:off x="573120" y="33336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, какие из высказываний истинны, какие — лож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атурн- спутник Солн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которые люди имеют голубые гл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се натуральные числа цел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исло 15 – не прост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раснодар – столица Казахст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5 = 62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орковь содержит каро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8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ервая космическая скорость приближенно равна 7.8 км/се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9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Эльбрус — высочайшая горная вершина Евро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0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0&lt;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36600" y="5595840"/>
          <a:ext cx="8477280" cy="1006560"/>
        </p:xfrm>
        <a:graphic>
          <a:graphicData uri="http://schemas.openxmlformats.org/drawingml/2006/table">
            <a:tbl>
              <a:tblPr/>
              <a:tblGrid>
                <a:gridCol w="847800"/>
                <a:gridCol w="846000"/>
                <a:gridCol w="849240"/>
                <a:gridCol w="847800"/>
                <a:gridCol w="847800"/>
                <a:gridCol w="847800"/>
                <a:gridCol w="846000"/>
                <a:gridCol w="849240"/>
                <a:gridCol w="847800"/>
                <a:gridCol w="847800"/>
              </a:tblGrid>
              <a:tr h="44316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19080" y="772560"/>
            <a:ext cx="9144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формулируйте отрицания следующих высказываний и запишите и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на контрольной работе каждый ученик писал своей руч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теннисист Кафельников не проиграл финальную иг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539640" y="4724280"/>
          <a:ext cx="8280360" cy="1320840"/>
        </p:xfrm>
        <a:graphic>
          <a:graphicData uri="http://schemas.openxmlformats.org/drawingml/2006/table">
            <a:tbl>
              <a:tblPr/>
              <a:tblGrid>
                <a:gridCol w="1933560"/>
                <a:gridCol w="6346800"/>
              </a:tblGrid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Первое высказы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 контрольной работе каждый ученик писал </a:t>
                      </a:r>
                      <a:r>
                        <a:rPr b="0" i="1" lang="ru-RU" sz="16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своей ручк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торое высказы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еннисист Кафельников проиграл финальную игр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Определить верно ли утвержде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2. Информация в памяти компьютера хранится в двоичном виде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Стрелка влево 3"/>
          <p:cNvSpPr/>
          <p:nvPr/>
        </p:nvSpPr>
        <p:spPr>
          <a:xfrm>
            <a:off x="7093080" y="580536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38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250920" y="1197000"/>
            <a:ext cx="84978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оставьте конъюнкцию двух высказываний и определите истинность найденного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борщ готовится со свекл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картофель – это корнепл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блица истин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68360" y="4581360"/>
          <a:ext cx="8351640" cy="630360"/>
        </p:xfrm>
        <a:graphic>
          <a:graphicData uri="http://schemas.openxmlformats.org/drawingml/2006/table">
            <a:tbl>
              <a:tblPr/>
              <a:tblGrid>
                <a:gridCol w="1950840"/>
                <a:gridCol w="6400800"/>
              </a:tblGrid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ъюнк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щ готовится со свеклой 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ртофель – это корнепл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2987640" y="5373720"/>
          <a:ext cx="3745080" cy="107964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9560"/>
              </a:tblGrid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5651640" y="5373720"/>
                <a:ext cx="865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38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3" name="Прямоугольник 2"/>
          <p:cNvSpPr/>
          <p:nvPr/>
        </p:nvSpPr>
        <p:spPr>
          <a:xfrm>
            <a:off x="324000" y="1197000"/>
            <a:ext cx="8820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У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оставьте дизъюнкцию двух высказываний и определите истинность найденного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котлета при жарении становится меньше в разме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свекла – это корнепл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блица истин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68360" y="4076640"/>
          <a:ext cx="8351640" cy="630360"/>
        </p:xfrm>
        <a:graphic>
          <a:graphicData uri="http://schemas.openxmlformats.org/drawingml/2006/table">
            <a:tbl>
              <a:tblPr/>
              <a:tblGrid>
                <a:gridCol w="1949400"/>
                <a:gridCol w="6402240"/>
              </a:tblGrid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изъюнк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лета при жарении становится меньше в размерах 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Л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векла – это корнепл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2987640" y="5157720"/>
          <a:ext cx="3745080" cy="107964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9560"/>
              </a:tblGrid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5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6" name="Object 7"/>
              <p:cNvSpPr txBox="1"/>
              <p:nvPr/>
            </p:nvSpPr>
            <p:spPr>
              <a:xfrm>
                <a:off x="5651640" y="5157720"/>
                <a:ext cx="858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заполнить таблицу истинности (импликация, эквивалентность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выполнить задание с карточе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Определить верно ли утвержде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2249640"/>
            <a:ext cx="9396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3. В русском языке по цели высказывания предложения бывают только повествовательные и вопросительны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Стрелка влево 3"/>
          <p:cNvSpPr/>
          <p:nvPr/>
        </p:nvSpPr>
        <p:spPr>
          <a:xfrm>
            <a:off x="7093080" y="580536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Определить верно ли утвержде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4. Бит – это основная единица измерения информаци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Стрелка влево 4"/>
          <p:cNvSpPr/>
          <p:nvPr/>
        </p:nvSpPr>
        <p:spPr>
          <a:xfrm>
            <a:off x="7093080" y="580536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Определить верно ли утвержде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5. Монитор – это устройство ввода информаци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Стрелка влево 3"/>
          <p:cNvSpPr/>
          <p:nvPr/>
        </p:nvSpPr>
        <p:spPr>
          <a:xfrm>
            <a:off x="7093080" y="580536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Определить верно ли утвержде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6. Процессор – это устройство обработки информаци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Стрелка влево 3"/>
          <p:cNvSpPr/>
          <p:nvPr/>
        </p:nvSpPr>
        <p:spPr>
          <a:xfrm>
            <a:off x="7093080" y="580536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 Black"/>
              </a:rPr>
              <a:t>Определить верно ли утвержде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7. Жесткий диск – устройство хранения информаци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Стрелка влево 3"/>
          <p:cNvSpPr/>
          <p:nvPr/>
        </p:nvSpPr>
        <p:spPr>
          <a:xfrm>
            <a:off x="7093080" y="580536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06:12:43Z</dcterms:created>
  <dc:creator>Преподватель</dc:creator>
  <dc:description/>
  <dc:language>en-US</dc:language>
  <cp:lastModifiedBy>Пользователь Windows</cp:lastModifiedBy>
  <dcterms:modified xsi:type="dcterms:W3CDTF">2023-09-16T06:44:13Z</dcterms:modified>
  <cp:revision>38</cp:revision>
  <dc:subject/>
  <dc:title>Логика Высказывания.  Логические операции</dc:title>
</cp:coreProperties>
</file>