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34773B-F592-4037-87C4-D808CADA2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1600" cy="3730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725000"/>
            <a:ext cx="5486040" cy="447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0"/>
          </p:nvPr>
        </p:nvSpPr>
        <p:spPr>
          <a:xfrm>
            <a:off x="3884760" y="9448200"/>
            <a:ext cx="29714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EFC296-F17A-46D4-90FC-13715745B07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DF9-FB08-46B9-8706-A651A48C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DA0-5FB0-4BF9-819C-7514DB2C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DD0-7D57-4808-ABE8-AB26808D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743-619B-4931-8170-4F8DBF8A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45941-498C-4CF9-88EE-7841CEC4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99FFE-6905-4703-B425-59D24DBD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E8E35-ED6D-417F-B2EE-F275A510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1712C-29EE-42A1-ADDC-D2AC42B1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56911-4A6B-4053-A8BC-7E334A7B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9FF88-5E72-44BE-8BF8-B871C14E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A0D70-4BD8-4129-98D5-C4459E85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52A-EFF9-47FE-A174-F0AD4DB7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63EF2-0053-491D-BB49-E40AF1DD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5B909-2808-4BC9-AC45-43B81C7D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12E6C-8F6D-4865-B38D-75C957BB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6DF9D-532F-40AE-A7E8-03A9389A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ABCD5-F24E-4F00-B05A-0FA90A5D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64C-564E-426B-BFF0-25C1FCD3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4F7-A42B-4FCE-A0F8-B13D2A7E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B1E-8928-4A7B-8406-7375ABFF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2ED-4BBC-40B6-901B-0390BA79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EE1-3ED0-424A-B41C-78ED7328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60B-83DF-4C75-B26D-7D28826D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42E-0FC1-4DAB-B555-D920FC4A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f9a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2599AA5-838E-4016-B445-F6D14B8A7BE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f9a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>
            <a:noFill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52FE09A-C890-4F86-A1DF-A2FA5509AE4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1640" y="2349000"/>
            <a:ext cx="667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100" spc="-1" strike="noStrike" cap="small">
                <a:solidFill>
                  <a:srgbClr val="ff0000"/>
                </a:solidFill>
                <a:latin typeface="Century Schoolbook"/>
              </a:rPr>
              <a:t>ПРОЕКТ </a:t>
            </a:r>
            <a:br>
              <a:rPr sz="3100"/>
            </a:br>
            <a:r>
              <a:rPr b="1" i="1" lang="ru-RU" sz="3100" spc="-1" strike="noStrike" cap="small">
                <a:solidFill>
                  <a:srgbClr val="ff0000"/>
                </a:solidFill>
                <a:latin typeface="Century Schoolbook"/>
              </a:rPr>
              <a:t>«Улица, транспорт, дорога »</a:t>
            </a:r>
            <a:br>
              <a:rPr sz="3100"/>
            </a:br>
            <a:br>
              <a:rPr sz="3100"/>
            </a:br>
            <a:r>
              <a:rPr b="1" i="1" lang="ru-RU" sz="2700" spc="-1" strike="noStrike" cap="small">
                <a:solidFill>
                  <a:srgbClr val="002060"/>
                </a:solidFill>
                <a:latin typeface="Century Schoolbook"/>
              </a:rPr>
              <a:t>подготовительная  группа</a:t>
            </a:r>
            <a:br>
              <a:rPr sz="2700"/>
            </a:br>
            <a:endParaRPr b="0" lang="ru-RU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57120" y="260640"/>
            <a:ext cx="84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Муниципальное бюджетное дошкольное образовательное учреждение  «Детский сад № 59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User2011\Desktop\fonar21.png"/>
          <p:cNvPicPr/>
          <p:nvPr/>
        </p:nvPicPr>
        <p:blipFill>
          <a:blip r:embed="rId1"/>
          <a:stretch/>
        </p:blipFill>
        <p:spPr>
          <a:xfrm>
            <a:off x="2915640" y="4581000"/>
            <a:ext cx="1818720" cy="18601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4743000" y="5612400"/>
            <a:ext cx="379152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entury Schoolbook"/>
              </a:rPr>
              <a:t>Составила: Панфил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c00000"/>
                </a:solidFill>
                <a:latin typeface="Century Schoolbook"/>
              </a:rPr>
              <a:t>Елена Викторовна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Century Schoolbook"/>
              </a:rPr>
              <a:t>                       </a:t>
            </a:r>
            <a:br>
              <a:rPr sz="4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2"/>
          <a:stretch/>
        </p:blipFill>
        <p:spPr>
          <a:xfrm>
            <a:off x="4735080" y="903600"/>
            <a:ext cx="3799440" cy="15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46712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7030a0"/>
                </a:solidFill>
                <a:latin typeface="Century Schoolbook"/>
              </a:rPr>
              <a:t>Организован в группе </a:t>
            </a:r>
            <a:br>
              <a:rPr sz="3000"/>
            </a:br>
            <a:r>
              <a:rPr b="1" lang="ru-RU" sz="3000" spc="-1" strike="noStrike" cap="small">
                <a:solidFill>
                  <a:srgbClr val="7030a0"/>
                </a:solidFill>
                <a:latin typeface="Century Schoolbook"/>
              </a:rPr>
              <a:t>мини – музей.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6" name="Рисунок 2" descr=""/>
          <p:cNvPicPr/>
          <p:nvPr/>
        </p:nvPicPr>
        <p:blipFill>
          <a:blip r:embed="rId1"/>
          <a:stretch/>
        </p:blipFill>
        <p:spPr>
          <a:xfrm>
            <a:off x="1259640" y="2004840"/>
            <a:ext cx="6240240" cy="468000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ff0000"/>
                </a:solidFill>
                <a:latin typeface="Century Schoolbook"/>
              </a:rPr>
              <a:t>Изучали считалки и физкультминутки по теме: «Дорожного движения»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8" name="Рисунок 6" descr=""/>
          <p:cNvPicPr/>
          <p:nvPr/>
        </p:nvPicPr>
        <p:blipFill>
          <a:blip r:embed="rId1"/>
          <a:stretch/>
        </p:blipFill>
        <p:spPr>
          <a:xfrm>
            <a:off x="4788000" y="1736640"/>
            <a:ext cx="4131360" cy="3528000"/>
          </a:xfrm>
          <a:prstGeom prst="rect">
            <a:avLst/>
          </a:prstGeom>
          <a:ln cap="sq" w="88900">
            <a:solidFill>
              <a:srgbClr val="ffc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9" name="Рисунок 8" descr=""/>
          <p:cNvPicPr/>
          <p:nvPr/>
        </p:nvPicPr>
        <p:blipFill>
          <a:blip r:embed="rId2"/>
          <a:stretch/>
        </p:blipFill>
        <p:spPr>
          <a:xfrm>
            <a:off x="323640" y="1736640"/>
            <a:ext cx="4302720" cy="3534120"/>
          </a:xfrm>
          <a:prstGeom prst="rect">
            <a:avLst/>
          </a:prstGeom>
          <a:ln cap="sq" w="88900">
            <a:solidFill>
              <a:srgbClr val="cc0099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5440" y="620640"/>
            <a:ext cx="43200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000066"/>
                </a:solidFill>
                <a:latin typeface="Century Schoolbook"/>
              </a:rPr>
              <a:t>Своими руками сделали автобусы и светофоры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4547880" y="3789000"/>
            <a:ext cx="4176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Рисовали рисунки к конкурсу и заняли призовые м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4710240" y="569520"/>
            <a:ext cx="3851640" cy="2888640"/>
          </a:xfrm>
          <a:prstGeom prst="rect">
            <a:avLst/>
          </a:prstGeom>
          <a:ln cap="sq" w="88900">
            <a:solidFill>
              <a:srgbClr val="ff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53" name="Объект 6" descr=""/>
          <p:cNvPicPr/>
          <p:nvPr/>
        </p:nvPicPr>
        <p:blipFill>
          <a:blip r:embed="rId2"/>
          <a:stretch/>
        </p:blipFill>
        <p:spPr>
          <a:xfrm>
            <a:off x="467640" y="3450240"/>
            <a:ext cx="3866040" cy="2899440"/>
          </a:xfrm>
          <a:prstGeom prst="rect">
            <a:avLst/>
          </a:prstGeom>
          <a:ln cap="sq" w="88900">
            <a:solidFill>
              <a:srgbClr val="ffff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151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ff0000"/>
                </a:solidFill>
                <a:latin typeface="Century Schoolbook"/>
              </a:rPr>
              <a:t>Интересно прошла викторина – конкурс на «Лучшего знатока правил дорожного движения».</a:t>
            </a: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5" name="Рисунок 2" descr=""/>
          <p:cNvPicPr/>
          <p:nvPr/>
        </p:nvPicPr>
        <p:blipFill>
          <a:blip r:embed="rId1"/>
          <a:stretch/>
        </p:blipFill>
        <p:spPr>
          <a:xfrm>
            <a:off x="490320" y="1579320"/>
            <a:ext cx="3587400" cy="2690640"/>
          </a:xfrm>
          <a:prstGeom prst="rect">
            <a:avLst/>
          </a:prstGeom>
          <a:ln cap="sq" w="88900">
            <a:solidFill>
              <a:srgbClr val="00b05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56" name="Рисунок 5" descr=""/>
          <p:cNvPicPr/>
          <p:nvPr/>
        </p:nvPicPr>
        <p:blipFill>
          <a:blip r:embed="rId2"/>
          <a:stretch/>
        </p:blipFill>
        <p:spPr>
          <a:xfrm>
            <a:off x="4514760" y="3429000"/>
            <a:ext cx="3744000" cy="2808000"/>
          </a:xfrm>
          <a:prstGeom prst="rect">
            <a:avLst/>
          </a:prstGeom>
          <a:ln cap="sq" w="88900">
            <a:solidFill>
              <a:srgbClr val="0070c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1720" y="289800"/>
            <a:ext cx="7467120" cy="5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rgbClr val="ff0000"/>
                </a:solidFill>
                <a:latin typeface="Century Schoolbook"/>
              </a:rPr>
              <a:t>Для родителей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3640" y="912960"/>
            <a:ext cx="7241040" cy="55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Оформлен родительский уголок.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Буклеты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Консультации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Папка – передвижка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Стенгазета «Играя изучаем»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000" spc="-1" strike="noStrike">
                <a:solidFill>
                  <a:srgbClr val="7030a0"/>
                </a:solidFill>
                <a:latin typeface="Century Schoolbook"/>
              </a:rPr>
              <a:t>Родительское собрание на тему : «Дорожная азбука в жизни детей»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9" name="Picture 2" descr="C:\Users\User2011\Desktop\сад фото\DSC02908.JPG"/>
          <p:cNvPicPr/>
          <p:nvPr/>
        </p:nvPicPr>
        <p:blipFill>
          <a:blip r:embed="rId1"/>
          <a:stretch/>
        </p:blipFill>
        <p:spPr>
          <a:xfrm>
            <a:off x="891720" y="4199400"/>
            <a:ext cx="3115800" cy="2243880"/>
          </a:xfrm>
          <a:prstGeom prst="rect">
            <a:avLst/>
          </a:prstGeom>
          <a:ln w="38100">
            <a:solidFill>
              <a:srgbClr val="ffc000"/>
            </a:solidFill>
            <a:round/>
          </a:ln>
        </p:spPr>
      </p:pic>
      <p:pic>
        <p:nvPicPr>
          <p:cNvPr id="160" name="Picture 3" descr="C:\Users\User2011\Desktop\сад фото\DSC02914.JPG"/>
          <p:cNvPicPr/>
          <p:nvPr/>
        </p:nvPicPr>
        <p:blipFill>
          <a:blip r:embed="rId2"/>
          <a:srcRect l="-20" t="0" r="0" b="0"/>
          <a:stretch/>
        </p:blipFill>
        <p:spPr>
          <a:xfrm>
            <a:off x="4506480" y="3501000"/>
            <a:ext cx="3600000" cy="2147400"/>
          </a:xfrm>
          <a:prstGeom prst="rect">
            <a:avLst/>
          </a:prstGeom>
          <a:ln w="38100">
            <a:solidFill>
              <a:srgbClr val="fe8637">
                <a:lumMod val="7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3640" y="116640"/>
            <a:ext cx="74671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ff0000"/>
                </a:solidFill>
                <a:latin typeface="Century Schoolbook"/>
              </a:rPr>
              <a:t>Для педагогов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7640" y="76752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Методические разработки по теме проек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Подбор наглядного материал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Подбор художественной литературы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Итогом проекта: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Стал конкурс на «Лучшего знатока правил дорожного движения».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746712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Продукты проекта: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678600"/>
            <a:ext cx="7467120" cy="60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700" spc="-1" strike="noStrike">
                <a:solidFill>
                  <a:schemeClr val="accent2">
                    <a:lumMod val="50000"/>
                  </a:schemeClr>
                </a:solidFill>
                <a:latin typeface="Century Schoolbook"/>
              </a:rPr>
              <a:t>Для детей: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продуктивная деятельность на темы: «Улица», «Транспорт», «Дорога»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наблюдение за транспортом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заучивание стихов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отгадывание загадок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рассматривание иллюстраций по ПДД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чтение художественной литературы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игровая деятельность: а) сюжетно ролевая игра «Путешествие на автобусе», «Дорожное движение», «Постовой на улице».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Б) дидактические игры: «Собери машину», «Что запрещено, а что разрешено», «Будь внимательным», «Какой нужен знак».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В) подвижные игры: «Зажги светофор», «Красный и зелёный»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создание ситуаций с помощью моделей.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700" spc="-1" strike="noStrike">
                <a:solidFill>
                  <a:schemeClr val="accent2">
                    <a:lumMod val="50000"/>
                  </a:schemeClr>
                </a:solidFill>
                <a:latin typeface="Century Schoolbook"/>
              </a:rPr>
              <a:t>Для педагогов: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(методические разработки по теме проекта;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подбор наглядного материала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подбор художественной литературы).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700" spc="-1" strike="noStrike">
                <a:solidFill>
                  <a:schemeClr val="accent2">
                    <a:lumMod val="50000"/>
                  </a:schemeClr>
                </a:solidFill>
                <a:latin typeface="Century Schoolbook"/>
              </a:rPr>
              <a:t>Для родителей: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проведение консультаций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анкетирование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оформление уголка по ПДД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оформление папок – передвижек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родительское собрание тема: «дорожная азбука в жизни детей»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памятки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выставка художественных работ, поделок, выполненных вместе с детьми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303480" indent="-303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фотогазета</a:t>
            </a:r>
            <a:endParaRPr b="0" lang="ru-RU" sz="3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78644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 cap="small">
                <a:solidFill>
                  <a:srgbClr val="575f6d"/>
                </a:solidFill>
                <a:latin typeface="Century Schoolbook"/>
              </a:rPr>
              <a:t>    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51640" y="620640"/>
            <a:ext cx="8320680" cy="44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Продолжительность: среднеср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Тип проекта: информационно – познавательно игр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Участники проекта: дети, воспитатели и 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7467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 cap="small">
                <a:solidFill>
                  <a:srgbClr val="ff0000"/>
                </a:solidFill>
                <a:latin typeface="Century Schoolbook"/>
              </a:rPr>
              <a:t>Проблема значимая для детей, на решение которой направлен проект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7640" y="1025280"/>
            <a:ext cx="7467120" cy="30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66"/>
                </a:solidFill>
                <a:latin typeface="Century Schoolbook"/>
              </a:rPr>
              <a:t>Проект посвящён необходимости учить детей безопасному поведению на улицах, дорогах и в транспорте. Воспитание дисциплинированного внимательного, собранного, ответственного, уверенного пешехода. Выработать привычку правильно ходить по улице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5" name="Picture 3" descr="C:\Documents and Settings\User\Мои документы 1\пдд\пдд10.jpg"/>
          <p:cNvPicPr/>
          <p:nvPr/>
        </p:nvPicPr>
        <p:blipFill>
          <a:blip r:embed="rId1"/>
          <a:stretch/>
        </p:blipFill>
        <p:spPr>
          <a:xfrm>
            <a:off x="4284000" y="4280400"/>
            <a:ext cx="2785680" cy="2018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ttp://im4-tub-ru.yandex.net/i?id=274225816-55-72"/>
          <p:cNvPicPr/>
          <p:nvPr/>
        </p:nvPicPr>
        <p:blipFill>
          <a:blip r:embed="rId2"/>
          <a:stretch/>
        </p:blipFill>
        <p:spPr>
          <a:xfrm>
            <a:off x="1475640" y="386100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5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rgbClr val="c00000"/>
                </a:solidFill>
                <a:latin typeface="Century Schoolbook"/>
              </a:rPr>
              <a:t>цели: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3905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Для детей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: </a:t>
            </a:r>
            <a:r>
              <a:rPr b="0" lang="ru-RU" sz="2400" spc="-1" strike="noStrike">
                <a:solidFill>
                  <a:srgbClr val="0d0d0d"/>
                </a:solidFill>
                <a:latin typeface="Century Schoolbook"/>
              </a:rPr>
              <a:t>познакомить детей с  видами транспорта, пешеходными переходами их названиям «наземный», «подземный», «зебра»; развивать пространственную ориентировку; рассмотреть и закрепить знания о дорожных знаках, об обязанностях пешехода; научить понимать, что обозначают дорожные знаки, выявить знания о работе светофора, о назначении всех его сигналов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Для педагогов: </a:t>
            </a:r>
            <a:r>
              <a:rPr b="0" lang="ru-RU" sz="2400" spc="-1" strike="noStrike">
                <a:solidFill>
                  <a:srgbClr val="0d0d0d"/>
                </a:solidFill>
                <a:latin typeface="Century Schoolbook"/>
              </a:rPr>
              <a:t>совершенствования уровня профессионального мастерства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Для родителей: </a:t>
            </a:r>
            <a:r>
              <a:rPr b="0" lang="ru-RU" sz="2400" spc="-1" strike="noStrike">
                <a:solidFill>
                  <a:srgbClr val="0d0d0d"/>
                </a:solidFill>
                <a:latin typeface="Century Schoolbook"/>
              </a:rPr>
              <a:t>повысить знания родителей по вопросам ПДД; привлечение родителей к участию в профилактической работе по предупреждению детского травматизма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chemeClr val="accent3"/>
                </a:solidFill>
                <a:latin typeface="Century Schoolbook"/>
              </a:rPr>
              <a:t>Работа с детьми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4800" y="1196640"/>
            <a:ext cx="80722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равила движения,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entury Schoolbook"/>
              </a:rPr>
              <a:t>Все без исключени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entury Schoolbook"/>
              </a:rPr>
              <a:t>Наша дружная команд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5533f"/>
                </a:solidFill>
                <a:latin typeface="Century Schoolbook"/>
              </a:rPr>
              <a:t>Знает без сомнения!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1"/>
          <a:stretch/>
        </p:blipFill>
        <p:spPr>
          <a:xfrm>
            <a:off x="1979640" y="3069000"/>
            <a:ext cx="4752000" cy="3551400"/>
          </a:xfrm>
          <a:prstGeom prst="rect">
            <a:avLst/>
          </a:prstGeom>
          <a:ln cap="sq" w="88900">
            <a:solidFill>
              <a:srgbClr val="ffc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000" spc="-1" strike="noStrike" cap="small">
                <a:solidFill>
                  <a:srgbClr val="c00000"/>
                </a:solidFill>
                <a:latin typeface="Century Schoolbook"/>
              </a:rPr>
              <a:t>Перейти дорогу как?</a:t>
            </a:r>
            <a:br>
              <a:rPr sz="2000"/>
            </a:br>
            <a:r>
              <a:rPr b="1" i="1" lang="ru-RU" sz="2000" spc="-1" strike="noStrike" cap="small">
                <a:solidFill>
                  <a:srgbClr val="c00000"/>
                </a:solidFill>
                <a:latin typeface="Century Schoolbook"/>
              </a:rPr>
              <a:t>Знает каждый из ребят.</a:t>
            </a:r>
            <a:br>
              <a:rPr sz="2000"/>
            </a:br>
            <a:r>
              <a:rPr b="1" i="1" lang="ru-RU" sz="2000" spc="-1" strike="noStrike" cap="small">
                <a:solidFill>
                  <a:srgbClr val="c00000"/>
                </a:solidFill>
                <a:latin typeface="Century Schoolbook"/>
              </a:rPr>
              <a:t>путь открыт – зелёный свет,</a:t>
            </a:r>
            <a:br>
              <a:rPr sz="2000"/>
            </a:br>
            <a:r>
              <a:rPr b="1" i="1" lang="ru-RU" sz="2000" spc="-1" strike="noStrike" cap="small">
                <a:solidFill>
                  <a:srgbClr val="c00000"/>
                </a:solidFill>
                <a:latin typeface="Century Schoolbook"/>
              </a:rPr>
              <a:t>Ну, а красный хода нет!</a:t>
            </a:r>
            <a:br>
              <a:rPr sz="2000"/>
            </a:br>
            <a:r>
              <a:rPr b="1" i="1" lang="ru-RU" sz="2000" spc="-1" strike="noStrike" cap="small">
                <a:solidFill>
                  <a:srgbClr val="c00000"/>
                </a:solidFill>
                <a:latin typeface="Century Schoolbook"/>
              </a:rPr>
              <a:t>Жезл вверх идти нам можно,</a:t>
            </a:r>
            <a:br>
              <a:rPr sz="2000"/>
            </a:br>
            <a:r>
              <a:rPr b="1" i="1" lang="ru-RU" sz="2000" spc="-1" strike="noStrike" cap="small">
                <a:solidFill>
                  <a:srgbClr val="c00000"/>
                </a:solidFill>
                <a:latin typeface="Century Schoolbook"/>
              </a:rPr>
              <a:t>Только, чур, быть осторожным!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3" name="Рисунок 2" descr=""/>
          <p:cNvPicPr/>
          <p:nvPr/>
        </p:nvPicPr>
        <p:blipFill>
          <a:blip r:embed="rId1"/>
          <a:stretch/>
        </p:blipFill>
        <p:spPr>
          <a:xfrm>
            <a:off x="4644000" y="2421000"/>
            <a:ext cx="4186800" cy="3132000"/>
          </a:xfrm>
          <a:prstGeom prst="rect">
            <a:avLst/>
          </a:prstGeom>
          <a:ln cap="sq" w="88900">
            <a:solidFill>
              <a:srgbClr val="0070c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4" name="Объект 5" descr=""/>
          <p:cNvPicPr/>
          <p:nvPr/>
        </p:nvPicPr>
        <p:blipFill>
          <a:blip r:embed="rId2"/>
          <a:stretch/>
        </p:blipFill>
        <p:spPr>
          <a:xfrm>
            <a:off x="179640" y="2421000"/>
            <a:ext cx="4201920" cy="3143520"/>
          </a:xfrm>
          <a:prstGeom prst="rect">
            <a:avLst/>
          </a:prstGeom>
          <a:ln cap="sq" w="88900">
            <a:solidFill>
              <a:srgbClr val="00b05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0800" y="555120"/>
            <a:ext cx="7385040" cy="19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small">
                <a:solidFill>
                  <a:srgbClr val="ff0000"/>
                </a:solidFill>
                <a:latin typeface="Century Schoolbook"/>
              </a:rPr>
              <a:t>Дети с удовольствием играют в игры: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6" name="Picture 2" descr="C:\Users\User2011\Desktop\сад фото\DSC02953.JPG"/>
          <p:cNvPicPr/>
          <p:nvPr/>
        </p:nvPicPr>
        <p:blipFill>
          <a:blip r:embed="rId1"/>
          <a:stretch/>
        </p:blipFill>
        <p:spPr>
          <a:xfrm>
            <a:off x="4833720" y="2518920"/>
            <a:ext cx="3611520" cy="2708640"/>
          </a:xfrm>
          <a:prstGeom prst="rect">
            <a:avLst/>
          </a:prstGeom>
          <a:ln w="57150">
            <a:solidFill>
              <a:srgbClr val="cc0099"/>
            </a:solidFill>
            <a:round/>
          </a:ln>
        </p:spPr>
      </p:pic>
      <p:sp>
        <p:nvSpPr>
          <p:cNvPr id="137" name="Прямоугольник 2"/>
          <p:cNvSpPr/>
          <p:nvPr/>
        </p:nvSpPr>
        <p:spPr>
          <a:xfrm>
            <a:off x="431640" y="3900600"/>
            <a:ext cx="39621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«Собери дорожный знак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4428000" y="5589360"/>
            <a:ext cx="4571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«Поставь нужный знак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Объект 7" descr=""/>
          <p:cNvPicPr/>
          <p:nvPr/>
        </p:nvPicPr>
        <p:blipFill>
          <a:blip r:embed="rId2"/>
          <a:stretch/>
        </p:blipFill>
        <p:spPr>
          <a:xfrm>
            <a:off x="251640" y="1844280"/>
            <a:ext cx="4222440" cy="2376000"/>
          </a:xfrm>
          <a:prstGeom prst="rect">
            <a:avLst/>
          </a:prstGeom>
          <a:ln cap="sq" w="88900">
            <a:solidFill>
              <a:srgbClr val="ffff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376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ff0000"/>
                </a:solidFill>
                <a:latin typeface="Century Schoolbook"/>
              </a:rPr>
              <a:t>Рассматривают книжки – самоделки, которые сделали вместе со своими родителями!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1" name="Рисунок 2" descr=""/>
          <p:cNvPicPr/>
          <p:nvPr/>
        </p:nvPicPr>
        <p:blipFill>
          <a:blip r:embed="rId1"/>
          <a:stretch/>
        </p:blipFill>
        <p:spPr>
          <a:xfrm>
            <a:off x="4572000" y="3177000"/>
            <a:ext cx="4380120" cy="3285000"/>
          </a:xfrm>
          <a:prstGeom prst="rect">
            <a:avLst/>
          </a:prstGeom>
          <a:ln cap="sq" w="88900">
            <a:solidFill>
              <a:srgbClr val="cc0099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2" name="Рисунок 5" descr=""/>
          <p:cNvPicPr/>
          <p:nvPr/>
        </p:nvPicPr>
        <p:blipFill>
          <a:blip r:embed="rId2"/>
          <a:stretch/>
        </p:blipFill>
        <p:spPr>
          <a:xfrm>
            <a:off x="179640" y="1480320"/>
            <a:ext cx="3960000" cy="4099680"/>
          </a:xfrm>
          <a:prstGeom prst="rect">
            <a:avLst/>
          </a:prstGeom>
          <a:ln cap="sq" w="88900">
            <a:solidFill>
              <a:srgbClr val="ffff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260640"/>
            <a:ext cx="74156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small">
                <a:solidFill>
                  <a:srgbClr val="ff0000"/>
                </a:solidFill>
                <a:latin typeface="Century Schoolbook"/>
              </a:rPr>
              <a:t>Играют в сюжетные игры</a:t>
            </a: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2448720" y="1184760"/>
            <a:ext cx="4029480" cy="5373000"/>
          </a:xfrm>
          <a:prstGeom prst="rect">
            <a:avLst/>
          </a:prstGeom>
          <a:ln cap="sq" w="88900">
            <a:solidFill>
              <a:srgbClr val="ffc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2129</TotalTime>
  <Application>LibreOffice/7.4.7.2$Linux_X86_64 LibreOffice_project/40$Build-2</Application>
  <AppVersion>15.0000</AppVersion>
  <Words>587</Words>
  <Paragraphs>70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20:05:47Z</dcterms:created>
  <dc:creator>User</dc:creator>
  <dc:description/>
  <dc:language>en-US</dc:language>
  <cp:lastModifiedBy>Владимир Остапченко</cp:lastModifiedBy>
  <dcterms:modified xsi:type="dcterms:W3CDTF">2023-09-15T13:28:39Z</dcterms:modified>
  <cp:revision>101</cp:revision>
  <dc:subject/>
  <dc:title>ПРОЕКТ   «Дорога в школьную страну нужна тебе, мне и ему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6</vt:r8>
  </property>
</Properties>
</file>