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29.wmf" ContentType="image/x-wmf"/>
  <Override PartName="/ppt/media/image31.png" ContentType="image/pn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3.jpeg" ContentType="image/jpeg"/>
  <Override PartName="/ppt/media/image10.gif" ContentType="image/gif"/>
  <Override PartName="/ppt/media/image47.gif" ContentType="image/gif"/>
  <Override PartName="/ppt/media/image9.jpeg" ContentType="image/jpeg"/>
  <Override PartName="/ppt/media/image11.jpeg" ContentType="image/jpeg"/>
  <Override PartName="/ppt/media/image2.jpeg" ContentType="image/jpeg"/>
  <Override PartName="/ppt/media/image36.jpeg" ContentType="image/jpeg"/>
  <Override PartName="/ppt/media/image30.wmf" ContentType="image/x-wmf"/>
  <Override PartName="/ppt/media/image33.jpeg" ContentType="image/jpeg"/>
  <Override PartName="/ppt/media/image6.jpeg" ContentType="image/jpeg"/>
  <Override PartName="/ppt/media/image37.jpeg" ContentType="image/jpeg"/>
  <Override PartName="/ppt/media/image28.wmf" ContentType="image/x-wmf"/>
  <Override PartName="/ppt/media/image32.jpeg" ContentType="image/jpeg"/>
  <Override PartName="/ppt/media/image38.jpeg" ContentType="image/jpeg"/>
  <Override PartName="/ppt/media/image45.png" ContentType="image/png"/>
  <Override PartName="/ppt/media/image44.jpeg" ContentType="image/jpeg"/>
  <Override PartName="/ppt/media/image46.png" ContentType="image/pn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5.png" ContentType="image/png"/>
  <Override PartName="/ppt/media/image43.jpeg" ContentType="image/jpeg"/>
  <Override PartName="/ppt/media/image12.jpeg" ContentType="image/jpeg"/>
  <Override PartName="/ppt/media/image4.png" ContentType="image/pn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9ECE1-F8FC-4A6D-9AAD-FDD6BF558F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10370-4493-40A8-9547-A49FAFB6DD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021B4-E853-453F-8049-31B950FB1B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FC337-AF60-4C6B-B390-D86DB48AA4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8BD9A-FE5F-4015-9F8A-BCDBA4A5F5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0AB3C-37E5-4A0F-B14A-412885553F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FF3A5-47C5-4350-ABD3-865E77B4E1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BF939-6B45-43B9-B2E8-23631868D2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1835F-85B8-44F7-86E4-BCBF0A7E49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B282E-0044-40A9-BAC0-5921364BE5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AF515-FCD6-4F29-8DE5-0A951C0F0F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1618B-8B9C-4315-A44C-098C764992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36D01-397C-4758-A0ED-7DC1035F70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A9BD6-288D-42CA-8614-8A5B4CC0B3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26C2E-3AA1-45C6-A785-546A9FE354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AB6A4-6DCB-428C-AB45-006F7A7359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5E986-78D2-4095-845D-502D20A960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91682-394D-42BF-9453-C842D37E77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F938B-2B36-4B63-B6B2-F53C7E9923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5D6F7-F80A-4A2D-B1C8-4CB0CCC044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A429E-6202-4255-A655-F424F44E0B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6B662-444B-4A04-B84B-E7CFFD50D2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B4B0A-B047-4133-BB0C-25142B6BED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F0489-AF24-4E13-BF80-A3B00713C9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101AA-3BB2-4BB3-A7A1-4B5D962050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85029-7120-4729-9B69-891773AF4B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B6611-31CD-4967-A419-6D38B6DFCC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C3135-CC1F-46E9-978F-74E858C4BF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E6A3B-8B0B-4C13-BD3A-7132A2346F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520B2-8D84-4CE8-911F-8861A6A5D2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CD643-F983-4B60-AB6E-D4A3A231DA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74CBF-8C3C-4871-B119-3CA2261A42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7566D-5E20-4E6B-BC96-4AA58BED6E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6979-B4DF-4034-AE89-D13D636AD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9536-C033-4919-81B7-C55DB868D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8F1F-81CF-4A20-8456-11D3675DD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99D4-6366-498B-B3B2-35CE3B756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DF20-C68D-42AC-8F32-4852C7759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06BD-1F1F-4071-86A2-D79C00C1E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4D7E-96CF-4490-BD64-515481455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0378-2A24-490F-804F-0F4BC883E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B9A6-2C19-4C69-B883-81A589FCD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FC66-4E20-463D-856B-661FD64E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FEBC-8282-433A-92D7-6B84C00F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FF0D-25DE-4870-8AF3-6F0109CF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ff99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CC7CF-2DE5-4015-8EBE-1DA4D09708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69608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Коррекционные приемы формирования правильной реч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развитие тонкой моторики рук, пальчиковая гимнастика, крупная моторика"/>
          <p:cNvPicPr/>
          <p:nvPr/>
        </p:nvPicPr>
        <p:blipFill>
          <a:blip r:embed="rId1"/>
          <a:stretch/>
        </p:blipFill>
        <p:spPr>
          <a:xfrm>
            <a:off x="3657600" y="4038480"/>
            <a:ext cx="2514600" cy="1722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os15"/>
          <p:cNvPicPr/>
          <p:nvPr/>
        </p:nvPicPr>
        <p:blipFill>
          <a:blip r:embed="rId2"/>
          <a:stretch/>
        </p:blipFill>
        <p:spPr>
          <a:xfrm>
            <a:off x="152280" y="4572000"/>
            <a:ext cx="2286000" cy="2073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112"/>
          <p:cNvPicPr/>
          <p:nvPr/>
        </p:nvPicPr>
        <p:blipFill>
          <a:blip r:embed="rId3"/>
          <a:stretch/>
        </p:blipFill>
        <p:spPr>
          <a:xfrm>
            <a:off x="7848720" y="228600"/>
            <a:ext cx="990360" cy="965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112"/>
          <p:cNvPicPr/>
          <p:nvPr/>
        </p:nvPicPr>
        <p:blipFill>
          <a:blip r:embed="rId4"/>
          <a:stretch/>
        </p:blipFill>
        <p:spPr>
          <a:xfrm>
            <a:off x="228600" y="228600"/>
            <a:ext cx="990720" cy="965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image027"/>
          <p:cNvPicPr/>
          <p:nvPr/>
        </p:nvPicPr>
        <p:blipFill>
          <a:blip r:embed="rId5"/>
          <a:stretch/>
        </p:blipFill>
        <p:spPr>
          <a:xfrm>
            <a:off x="7162920" y="3505320"/>
            <a:ext cx="18288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Игр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S6301017"/>
          <p:cNvPicPr/>
          <p:nvPr/>
        </p:nvPicPr>
        <p:blipFill>
          <a:blip r:embed="rId1"/>
          <a:srcRect l="17858" t="7874" r="10709" b="20741"/>
          <a:stretch/>
        </p:blipFill>
        <p:spPr>
          <a:xfrm>
            <a:off x="304920" y="1828800"/>
            <a:ext cx="3657600" cy="2241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S6301013"/>
          <p:cNvPicPr/>
          <p:nvPr/>
        </p:nvPicPr>
        <p:blipFill>
          <a:blip r:embed="rId2"/>
          <a:srcRect l="0" t="0" r="2290" b="6746"/>
          <a:stretch/>
        </p:blipFill>
        <p:spPr>
          <a:xfrm>
            <a:off x="4724280" y="1752480"/>
            <a:ext cx="3886200" cy="2278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S6301008"/>
          <p:cNvPicPr/>
          <p:nvPr/>
        </p:nvPicPr>
        <p:blipFill>
          <a:blip r:embed="rId3"/>
          <a:srcRect l="7213" t="0" r="5890" b="17897"/>
          <a:stretch/>
        </p:blipFill>
        <p:spPr>
          <a:xfrm>
            <a:off x="685800" y="4800600"/>
            <a:ext cx="3352680" cy="180972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7"/>
          <p:cNvSpPr/>
          <p:nvPr/>
        </p:nvSpPr>
        <p:spPr>
          <a:xfrm>
            <a:off x="992520" y="1219320"/>
            <a:ext cx="22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еребираем круп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3983400" y="1219320"/>
            <a:ext cx="515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гладим платочки для мамы и для до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1298520" y="4343400"/>
            <a:ext cx="188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делай так ж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0" descr="S6301010"/>
          <p:cNvPicPr/>
          <p:nvPr/>
        </p:nvPicPr>
        <p:blipFill>
          <a:blip r:embed="rId4"/>
          <a:stretch/>
        </p:blipFill>
        <p:spPr>
          <a:xfrm>
            <a:off x="5181480" y="4419720"/>
            <a:ext cx="2698920" cy="23256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1"/>
          <p:cNvSpPr/>
          <p:nvPr/>
        </p:nvSpPr>
        <p:spPr>
          <a:xfrm>
            <a:off x="5486400" y="40384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абота с бисе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Графические упражне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2438280" cy="2176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2"/>
          <a:stretch/>
        </p:blipFill>
        <p:spPr>
          <a:xfrm>
            <a:off x="4495680" y="1295280"/>
            <a:ext cx="3963960" cy="2146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"/>
          <p:cNvPicPr/>
          <p:nvPr/>
        </p:nvPicPr>
        <p:blipFill>
          <a:blip r:embed="rId3"/>
          <a:stretch/>
        </p:blipFill>
        <p:spPr>
          <a:xfrm>
            <a:off x="685800" y="4191120"/>
            <a:ext cx="2303640" cy="19526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9"/>
          <p:cNvSpPr/>
          <p:nvPr/>
        </p:nvSpPr>
        <p:spPr>
          <a:xfrm>
            <a:off x="1068840" y="6273720"/>
            <a:ext cx="126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Штрихов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0" descr=""/>
          <p:cNvPicPr/>
          <p:nvPr/>
        </p:nvPicPr>
        <p:blipFill>
          <a:blip r:embed="rId4"/>
          <a:stretch/>
        </p:blipFill>
        <p:spPr>
          <a:xfrm>
            <a:off x="4800600" y="4114800"/>
            <a:ext cx="3538440" cy="21049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1"/>
          <p:cNvSpPr/>
          <p:nvPr/>
        </p:nvSpPr>
        <p:spPr>
          <a:xfrm>
            <a:off x="5337360" y="6248520"/>
            <a:ext cx="266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бведи рисунок по точк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304920" y="3352680"/>
            <a:ext cx="3200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чертить карандашом путь между двумя извилистыми линиями, не касаясь 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4952880" y="3124080"/>
            <a:ext cx="3810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бвести какой-то рисунок, но не по контурной линии, а рядом с ней – с внутренней стороны или с наруж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епка из пластил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стегивание и расстегивание пуговиц, шнуровка ботинок, плетение косичек из разноцветных шнур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исование пальцами при помощи красок. Этот процесс рисования воздействует на эмоциональное состояние, дыхательную функция и психику, развивает речь. Сколько восторга и пользы от такого рисования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гры с пальчиками или пальчиковая гимнаст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резывание ножницами и составление из различных вырезанных фигур компози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личные штриховки, раскрашивать и обводить трафареты, шабл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шивание, вяз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тать по очереди каждым пальцем камешки, шарики, мелкие бусин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Расслабляющий самомассаж кистей и пальцев рук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давливать сильно сжатыми четырьмя пальцами одной руки на основание большого пальца, середину ладони, основание пальцев другой руки. Затем положение рук измени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стирать ладонями шестигранный карандаш с постепенным увеличением усил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стирать ладони движениями вверх-вниз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оковые поверхности сцепленных пальце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минать, затем растирать каждый палец вдоль, затем попере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лать круговые движения положенным между ладонями грецким орехом, постепенно увеличивая нажим и темп. Можно выполнять упражнение с двумя грецкими орехами, перекатывая один через другой, одной рукой, затем друго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давливать не заточенным карандашом на болевые точки ладони, затем вращать карандаш вправо, вле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2. Учимся правильно дыша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Органы дыхания наряду с основной биологической функцией газообмена, осуществляю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 голосообразовательную;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 артикуляторную функ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Дыхание влияет 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вукопроизношени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ртикуляцию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азвитие голос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rabbit"/>
          <p:cNvPicPr/>
          <p:nvPr/>
        </p:nvPicPr>
        <p:blipFill>
          <a:blip r:embed="rId1"/>
          <a:stretch/>
        </p:blipFill>
        <p:spPr>
          <a:xfrm>
            <a:off x="6553080" y="3352680"/>
            <a:ext cx="239580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Упражнения, направленные на координацию ротового и носового дых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дох и выдох нос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дох носом, выдох ртом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дох ртом, выдох носом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дох и выдох рт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«Хомячок»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- пошмыгать носом, рот закры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Упражнения для длительного выдо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пражнение «Согреть руки» - выдох со звуком х-х-х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пражнение «Остудить воду» - выдох со звуком ф-ф-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пражнение «Бабочка» - сдувать бабочку на ниточке с цвет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пражнение «Лодочки» - дуть на лодочку из пенопла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пражнение «Футбол» - дуть через соломинку на горошину, стараясь попасть в воро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Упражнения развивающие направленную воздушную струю, и укрепляют язычные мыш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«Фокус»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- язык чашечкой, сдувать ватку с нос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«Забей гол»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- плавный выдох, губы в улыбке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- плавный выдох, язык лопаткой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- язык лопаткой, выдох толчк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3. Артикуляционная гимнасти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то совокупность специальных упражнений, направленных на укрепление мышц артикуляционного аппарата, развитие силы, подвижности и дифференцированности движений органов, участвующих в речевом процес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Артикуляционная гимнастика необходима дл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точност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дифференцированност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чёткост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лавност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устойчивости артикуляционных движе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-360" y="609120"/>
            <a:ext cx="883908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Успешность коррекционно-воспита-тельной работы по преодолению речевого дефекта предполагает активное участие в нём родителей. Совместная работа логопеда с родителями – неотъемлемая часть всего педагогического процесс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7162920" y="4648320"/>
            <a:ext cx="1752480" cy="191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развитие тонкой моторики рук, пальчиковая гимнастика, крупная моторика"/>
          <p:cNvPicPr/>
          <p:nvPr/>
        </p:nvPicPr>
        <p:blipFill>
          <a:blip r:embed="rId2"/>
          <a:stretch/>
        </p:blipFill>
        <p:spPr>
          <a:xfrm>
            <a:off x="457200" y="4724280"/>
            <a:ext cx="198108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Упражнения для мышц язы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вкусное варенье 1"/>
          <p:cNvPicPr/>
          <p:nvPr/>
        </p:nvPicPr>
        <p:blipFill>
          <a:blip r:embed="rId1"/>
          <a:stretch/>
        </p:blipFill>
        <p:spPr>
          <a:xfrm rot="20655000">
            <a:off x="990360" y="1676160"/>
            <a:ext cx="2157120" cy="2209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варенье"/>
          <p:cNvPicPr/>
          <p:nvPr/>
        </p:nvPicPr>
        <p:blipFill>
          <a:blip r:embed="rId2"/>
          <a:stretch/>
        </p:blipFill>
        <p:spPr>
          <a:xfrm>
            <a:off x="5105520" y="1600200"/>
            <a:ext cx="3195360" cy="424512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6"/>
          <p:cNvSpPr/>
          <p:nvPr/>
        </p:nvSpPr>
        <p:spPr>
          <a:xfrm>
            <a:off x="1219320" y="495288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х и вкусное варень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аль, осталось на губ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зычок я подни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остатки оближ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слон"/>
          <p:cNvPicPr/>
          <p:nvPr/>
        </p:nvPicPr>
        <p:blipFill>
          <a:blip r:embed="rId1"/>
          <a:stretch/>
        </p:blipFill>
        <p:spPr>
          <a:xfrm rot="20560200">
            <a:off x="837720" y="1219320"/>
            <a:ext cx="2363760" cy="2295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"/>
          <p:cNvPicPr/>
          <p:nvPr/>
        </p:nvPicPr>
        <p:blipFill>
          <a:blip r:embed="rId2"/>
          <a:stretch/>
        </p:blipFill>
        <p:spPr>
          <a:xfrm>
            <a:off x="4876920" y="990720"/>
            <a:ext cx="3789360" cy="450684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6"/>
          <p:cNvSpPr/>
          <p:nvPr/>
        </p:nvSpPr>
        <p:spPr>
          <a:xfrm>
            <a:off x="990720" y="4648320"/>
            <a:ext cx="304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убы хоботком тян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ражаю я сло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же если я устан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х тянуть не переста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04_Чашечка"/>
          <p:cNvPicPr/>
          <p:nvPr/>
        </p:nvPicPr>
        <p:blipFill>
          <a:blip r:embed="rId1"/>
          <a:stretch/>
        </p:blipFill>
        <p:spPr>
          <a:xfrm>
            <a:off x="380880" y="228600"/>
            <a:ext cx="8229600" cy="1960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07_Маляр"/>
          <p:cNvPicPr/>
          <p:nvPr/>
        </p:nvPicPr>
        <p:blipFill>
          <a:blip r:embed="rId2"/>
          <a:stretch/>
        </p:blipFill>
        <p:spPr>
          <a:xfrm>
            <a:off x="304920" y="2286000"/>
            <a:ext cx="8424720" cy="19828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08_Грибочек"/>
          <p:cNvPicPr/>
          <p:nvPr/>
        </p:nvPicPr>
        <p:blipFill>
          <a:blip r:embed="rId3"/>
          <a:stretch/>
        </p:blipFill>
        <p:spPr>
          <a:xfrm>
            <a:off x="468360" y="4503600"/>
            <a:ext cx="81360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11_Лошадку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1862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12_ПароходГудит"/>
          <p:cNvPicPr/>
          <p:nvPr/>
        </p:nvPicPr>
        <p:blipFill>
          <a:blip r:embed="rId2"/>
          <a:stretch/>
        </p:blipFill>
        <p:spPr>
          <a:xfrm>
            <a:off x="457200" y="2438280"/>
            <a:ext cx="8209080" cy="1854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15_Орешки"/>
          <p:cNvPicPr/>
          <p:nvPr/>
        </p:nvPicPr>
        <p:blipFill>
          <a:blip r:embed="rId3"/>
          <a:stretch/>
        </p:blipFill>
        <p:spPr>
          <a:xfrm>
            <a:off x="324000" y="4653000"/>
            <a:ext cx="842472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21_Гармошка"/>
          <p:cNvPicPr/>
          <p:nvPr/>
        </p:nvPicPr>
        <p:blipFill>
          <a:blip r:embed="rId1"/>
          <a:stretch/>
        </p:blipFill>
        <p:spPr>
          <a:xfrm>
            <a:off x="380880" y="533520"/>
            <a:ext cx="8229600" cy="18032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22_Барабанщик"/>
          <p:cNvPicPr/>
          <p:nvPr/>
        </p:nvPicPr>
        <p:blipFill>
          <a:blip r:embed="rId2"/>
          <a:stretch/>
        </p:blipFill>
        <p:spPr>
          <a:xfrm>
            <a:off x="380880" y="2590920"/>
            <a:ext cx="8496360" cy="18334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24_ЗагнатьМячВВорота"/>
          <p:cNvPicPr/>
          <p:nvPr/>
        </p:nvPicPr>
        <p:blipFill>
          <a:blip r:embed="rId3"/>
          <a:stretch/>
        </p:blipFill>
        <p:spPr>
          <a:xfrm>
            <a:off x="457200" y="4648320"/>
            <a:ext cx="845820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4. Массаж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вокупность приемов механического, дозированного воздействия в виде трения, давления, вибрации, проводимых непосредственно на поверхности тела человека, как руками, так и специальными аппаратами через воздушную, водную или другую сре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Для самомассажа мышц 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головы и ше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Я хороший» - поставить ладони обеих рук на голове ближе ко лбу, соединить пальцы в центре, провести ладонями по волосам, опускаясь вниз через уши и боковую поверхность или к плечам (движения медленные, поглаживани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Наденем шапочку» - исходное положение (и.п.) рук то же, двигать ладони вниз к ушам, затем по передней боковой части к подбород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Для лицевой мускулатур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Рисуем дорожки» - двигать пальцами от середины лба к виск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Рисуем елочки» - двигать пальцами ото лба к виск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Пальцевый душ» - легко постукивать пальцами по лб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Глазки спят» - закрыть глаза и легко прикрыть пальцами веки, удерживать 3-5 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Нарисуем усы» - двигать указательным и средним пальцами от середины верхней губы к углам р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Веселый клоун» - двигать указательным и средними пальцами от середины нижней губы к углам рта, затем вверх к скуловой к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Испечем блинчики» - похлопать ладошками по щек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Умыли личико» - легкие поглаживающие движения ладонями обеих рук от середины лба вниз по щекам к подбород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Для мышц язы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Непослушный язычок» - пошлепать губами язык, произнося «пя-пя-пя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Покусывание» - легко покусывать язык, высовывая и убирая его наза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Поглаживание языка губами» - просунуть язык как можно дальше сквозь узкую щель между губами, затем расслабить его так, чтобы боковые края языка касались углов р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Массаж биологически активных з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Наступили холод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-да-д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ступили хол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Потереть ладонями друг о друг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-да-д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вратилась в лед в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Провести большими пальцами рук по шее сверху вниз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у-ду-д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кользнулась я на ль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Указательными пальцами помассировать крылья нос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у-ду-д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на лыжах ид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Растереть ладонями уш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ы-ды-д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снегу есть сле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«Растереть» лоб движениями в стороны от середины лб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Направления формирования правильной речи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развитие ручной умелости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учимся правильно дышать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артикуляционная гимнастика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массаж и самомассаж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school_clipart_boy_writting"/>
          <p:cNvPicPr/>
          <p:nvPr/>
        </p:nvPicPr>
        <p:blipFill>
          <a:blip r:embed="rId1"/>
          <a:stretch/>
        </p:blipFill>
        <p:spPr>
          <a:xfrm>
            <a:off x="6781680" y="4952880"/>
            <a:ext cx="2133720" cy="17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Точечный масса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3540240" cy="4525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"/>
          <p:cNvPicPr/>
          <p:nvPr/>
        </p:nvPicPr>
        <p:blipFill>
          <a:blip r:embed="rId2"/>
          <a:stretch/>
        </p:blipFill>
        <p:spPr>
          <a:xfrm>
            <a:off x="4800600" y="1066680"/>
            <a:ext cx="3835440" cy="43434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6"/>
          <p:cNvSpPr/>
          <p:nvPr/>
        </p:nvSpPr>
        <p:spPr>
          <a:xfrm>
            <a:off x="838080" y="571500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чечный массаж при артикуляционных нарушен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5181480" y="5562720"/>
            <a:ext cx="381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чечный массаж, применяющийся для коррекции забывчивости, рассея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Основными задачами взаимодействия с родителями являются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ведение целенаправленной и систематической работы по речевому развитию детей, необходимой коррекции, предусматривающей обучение взрослых общению с детьми в игровой форме, фиксированию речевых и неречевых реакций, анализу характера взаимодейств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здание в ОУ и семье условий, благоприятных для общего и речевого развития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WordArt 4"/>
          <p:cNvSpPr txBox="1"/>
          <p:nvPr/>
        </p:nvSpPr>
        <p:spPr>
          <a:xfrm>
            <a:off x="457200" y="457200"/>
            <a:ext cx="723888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ЖЕЛАЮ УДАЧИ!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6" name="Picture 5" descr="sl5"/>
          <p:cNvPicPr/>
          <p:nvPr/>
        </p:nvPicPr>
        <p:blipFill>
          <a:blip r:embed="rId1"/>
          <a:stretch/>
        </p:blipFill>
        <p:spPr>
          <a:xfrm>
            <a:off x="5410080" y="3657600"/>
            <a:ext cx="29340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1. Развиваем пальчики —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стимулируем речевое развит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чёные пришли к выводу, что формирование устной речи ребёнка начинается тогда, когда движение пальцев рук достигают достаточной точ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DSC02953"/>
          <p:cNvPicPr/>
          <p:nvPr/>
        </p:nvPicPr>
        <p:blipFill>
          <a:blip r:embed="rId1"/>
          <a:stretch/>
        </p:blipFill>
        <p:spPr>
          <a:xfrm>
            <a:off x="3352680" y="3809880"/>
            <a:ext cx="373392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Значение мелкой моторики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азвитие статической координ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азвитие динамической координ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азвитие двигательной памя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вышение работоспособности коры головного мозг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дготовка руки к пись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P1020950"/>
          <p:cNvPicPr/>
          <p:nvPr/>
        </p:nvPicPr>
        <p:blipFill>
          <a:blip r:embed="rId1"/>
          <a:stretch/>
        </p:blipFill>
        <p:spPr>
          <a:xfrm>
            <a:off x="5715000" y="441972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fetch"/>
          <p:cNvPicPr/>
          <p:nvPr/>
        </p:nvPicPr>
        <p:blipFill>
          <a:blip r:embed="rId2"/>
          <a:stretch/>
        </p:blipFill>
        <p:spPr>
          <a:xfrm>
            <a:off x="609480" y="4572000"/>
            <a:ext cx="213372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Упражнения с предметам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File0001"/>
          <p:cNvPicPr/>
          <p:nvPr/>
        </p:nvPicPr>
        <p:blipFill>
          <a:blip r:embed="rId1"/>
          <a:stretch/>
        </p:blipFill>
        <p:spPr>
          <a:xfrm>
            <a:off x="1066680" y="1371600"/>
            <a:ext cx="1838520" cy="1990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File0002"/>
          <p:cNvPicPr/>
          <p:nvPr/>
        </p:nvPicPr>
        <p:blipFill>
          <a:blip r:embed="rId2"/>
          <a:stretch/>
        </p:blipFill>
        <p:spPr>
          <a:xfrm>
            <a:off x="5410080" y="1371600"/>
            <a:ext cx="2590920" cy="1739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File0004"/>
          <p:cNvPicPr/>
          <p:nvPr/>
        </p:nvPicPr>
        <p:blipFill>
          <a:blip r:embed="rId3"/>
          <a:stretch/>
        </p:blipFill>
        <p:spPr>
          <a:xfrm>
            <a:off x="914400" y="3886200"/>
            <a:ext cx="1830240" cy="1981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File0003"/>
          <p:cNvPicPr/>
          <p:nvPr/>
        </p:nvPicPr>
        <p:blipFill>
          <a:blip r:embed="rId4"/>
          <a:stretch/>
        </p:blipFill>
        <p:spPr>
          <a:xfrm>
            <a:off x="4952880" y="4057560"/>
            <a:ext cx="3353040" cy="145908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0"/>
          <p:cNvSpPr/>
          <p:nvPr/>
        </p:nvSpPr>
        <p:spPr>
          <a:xfrm>
            <a:off x="383040" y="3352680"/>
            <a:ext cx="32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анёный каранда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1"/>
          <p:cNvSpPr/>
          <p:nvPr/>
        </p:nvSpPr>
        <p:spPr>
          <a:xfrm>
            <a:off x="4956840" y="3276720"/>
            <a:ext cx="33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тушка из-под ни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2"/>
          <p:cNvSpPr/>
          <p:nvPr/>
        </p:nvSpPr>
        <p:spPr>
          <a:xfrm>
            <a:off x="152280" y="5867280"/>
            <a:ext cx="403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льевые разноцвет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щеп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3"/>
          <p:cNvSpPr/>
          <p:nvPr/>
        </p:nvSpPr>
        <p:spPr>
          <a:xfrm>
            <a:off x="4800600" y="579132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огопедическая щётка «Ежи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87631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Работа с конструктором, мозайко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DSC00758"/>
          <p:cNvPicPr/>
          <p:nvPr/>
        </p:nvPicPr>
        <p:blipFill>
          <a:blip r:embed="rId1"/>
          <a:stretch/>
        </p:blipFill>
        <p:spPr>
          <a:xfrm>
            <a:off x="304920" y="129528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DSC00587"/>
          <p:cNvPicPr/>
          <p:nvPr/>
        </p:nvPicPr>
        <p:blipFill>
          <a:blip r:embed="rId2"/>
          <a:stretch/>
        </p:blipFill>
        <p:spPr>
          <a:xfrm>
            <a:off x="4724280" y="1066680"/>
            <a:ext cx="4114800" cy="3086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DSC02945"/>
          <p:cNvPicPr/>
          <p:nvPr/>
        </p:nvPicPr>
        <p:blipFill>
          <a:blip r:embed="rId3"/>
          <a:stretch/>
        </p:blipFill>
        <p:spPr>
          <a:xfrm>
            <a:off x="2895480" y="4191120"/>
            <a:ext cx="33530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Теневой теат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File0007"/>
          <p:cNvPicPr/>
          <p:nvPr/>
        </p:nvPicPr>
        <p:blipFill>
          <a:blip r:embed="rId1"/>
          <a:stretch/>
        </p:blipFill>
        <p:spPr>
          <a:xfrm>
            <a:off x="685800" y="1447920"/>
            <a:ext cx="2590920" cy="2533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File0005"/>
          <p:cNvPicPr/>
          <p:nvPr/>
        </p:nvPicPr>
        <p:blipFill>
          <a:blip r:embed="rId2"/>
          <a:stretch/>
        </p:blipFill>
        <p:spPr>
          <a:xfrm>
            <a:off x="3657600" y="2743200"/>
            <a:ext cx="1919160" cy="2897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File0006"/>
          <p:cNvPicPr/>
          <p:nvPr/>
        </p:nvPicPr>
        <p:blipFill>
          <a:blip r:embed="rId3"/>
          <a:stretch/>
        </p:blipFill>
        <p:spPr>
          <a:xfrm>
            <a:off x="6019920" y="1676520"/>
            <a:ext cx="2666880" cy="25556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7"/>
          <p:cNvSpPr/>
          <p:nvPr/>
        </p:nvSpPr>
        <p:spPr>
          <a:xfrm>
            <a:off x="533520" y="4267080"/>
            <a:ext cx="2514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Times New Roman"/>
              </a:rPr>
              <a:t>Ко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3581280" y="5715000"/>
            <a:ext cx="198144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Times New Roman"/>
              </a:rPr>
              <a:t>Зайч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6019920" y="4876920"/>
            <a:ext cx="2590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Times New Roman"/>
              </a:rPr>
              <a:t>Птич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Monotype Corsiva"/>
              </a:rPr>
              <a:t>Расскажи стихи рукам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File0008"/>
          <p:cNvPicPr/>
          <p:nvPr/>
        </p:nvPicPr>
        <p:blipFill>
          <a:blip r:embed="rId1"/>
          <a:stretch/>
        </p:blipFill>
        <p:spPr>
          <a:xfrm>
            <a:off x="304920" y="1523880"/>
            <a:ext cx="3657600" cy="2752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File0009"/>
          <p:cNvPicPr/>
          <p:nvPr/>
        </p:nvPicPr>
        <p:blipFill>
          <a:blip r:embed="rId2"/>
          <a:stretch/>
        </p:blipFill>
        <p:spPr>
          <a:xfrm>
            <a:off x="4495680" y="1523880"/>
            <a:ext cx="4038840" cy="27496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6"/>
          <p:cNvSpPr/>
          <p:nvPr/>
        </p:nvSpPr>
        <p:spPr>
          <a:xfrm>
            <a:off x="2743200" y="472428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На поляне дом сто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Ну а к дому путь закр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Мы ворота открывае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В этот домик приглаша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23-09-12T16:06:07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