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581-E87A-42F1-BE14-4168DF85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0FB1-CFB4-43E9-B6D0-935FAC5C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945-C576-4321-A1A9-46450192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A164-C10E-4B36-9EED-A459A4E2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247-BA28-44D5-8D00-DB3033CF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7CC-8642-4282-86D0-DF878326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F2F6-D676-4B31-90F0-5C2ECB7A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969-1E24-4BBA-AF6A-19A59B35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AE4-D6F3-4D60-9C5E-CBE42259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45B-2BA3-4361-8582-18B0B2F2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6DF-2162-42B6-8931-AAC6F18B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C28-5A7E-446B-B624-065BC101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3132-E265-4CDE-893F-E443C70FC5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14440" y="571320"/>
            <a:ext cx="542916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Bookman Old Style"/>
              </a:rPr>
              <a:t>Ваш ребёнок идёт в школу</a:t>
            </a:r>
            <a:endParaRPr b="0" lang="en-US" sz="4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285720" y="3643200"/>
            <a:ext cx="54291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Советы и рекомендации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родителям будущих первоклассников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572320" cy="550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ажен не объем знаний ребенка, а качество знаний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же сейчас постарайтесь очень постепенно режим дня вашего малыша соотнести с режимом дня школьника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ребёнок умел слышать учителя, обращайте внимание, как он понимает ваши словесные инструкции и требования, которые должны быть чёткими, доброжелательными, немногословными, спокойным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угайте ребёнка будущими трудностями в школе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д школой и во время учёбы проверяйте зрение и слух ребёнка.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одготовка к письму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учку ребёнок должен брать правильно и разогретыми пальцами. Раскраски замените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обведением по трафарету и штриховкой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 Линия должна быть направлена сверху вниз, справа налево, а если она кривая, то против часовой стрелки. Расстояние между линиями 0,5 см - это основной принцип нашего письменного алфавита. Запомните, дети также устают от этих занятий, как и от чте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одготовка к математик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спешность в этом предмете зависит от освоения и умения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двигаться в трёхмерном пространстве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оэтому помогите ребёнку свободно владеть такими понятиями: "вверх-вниз", "вправо-влево", "прямо, по кругу, наискосок", "больше-меньше", "старше-моложе", "горизонтально-вертикально" и т.д.,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объединять предметы в группы по одному признаку, сравнивать, владеть счётом в пределах 10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85840" y="-286200"/>
            <a:ext cx="8572320" cy="571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ЗАПОМНИТ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и подготовке к школе вы должны оставаться для вашего ребёнка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любящим и понимающим родителем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и не брать на себя роль учителя!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ебёнок охотно делает только то, что у него получается, поэтому он не может быть ленивы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старайтесь достижения ребёнка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е сравнивать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ни со своими, ни с достижениями старшего брата, ни одноклассников (не озвучивайте это при ребёнке, даже если они в его пользу!)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аша любовь и терпение будут служить гарантом уверенного продвижения в учёбе для вашего малыша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3840" y="2500200"/>
            <a:ext cx="8643960" cy="314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1 класс ребёнок должен зна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нать свое имя и фамилию, адрес, имена членов семь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нать времена года, названия месяцев, дней недели, уметь различать цвет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пересчитывать группы предметов в пределах 10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увеличивать или уменьшать группу предметов на заданное количество (решение задач с группами предметов),уравнивать множество предметов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сравнивать группы предметов -   больше, меньше или равн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объединять предметы в группы: мебель, транспорт, одежда, обувь, растения, животные и т. д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3840" y="2500200"/>
            <a:ext cx="8643960" cy="314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1 класс ребёнок должен знать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находить в группе предметов лишни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из группы «Одежда» убрать цветок).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высказывать свое мнение, построив законченное предлож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меть элементарные представления об 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ружающем мире:о профессиях, о предметах живой и неживой природы, о правилах поведения в общественных места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меть пространственные представления: право-лев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верх-вниз, под, над, из-за, из-под чего-либо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культурно общаться с другими детьм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лушать старших и выполнять их распоряжения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Placeholder 2" descr="111111.jpg"/>
          <p:cNvPicPr/>
          <p:nvPr/>
        </p:nvPicPr>
        <p:blipFill>
          <a:blip r:embed="rId1"/>
          <a:stretch/>
        </p:blipFill>
        <p:spPr>
          <a:xfrm>
            <a:off x="4340160" y="2011320"/>
            <a:ext cx="2408400" cy="2427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3419640" y="765000"/>
            <a:ext cx="5146560" cy="3929400"/>
          </a:xfrm>
          <a:prstGeom prst="rect">
            <a:avLst/>
          </a:prstGeom>
          <a:ln w="0">
            <a:noFill/>
          </a:ln>
        </p:spPr>
      </p:pic>
      <p:sp>
        <p:nvSpPr>
          <p:cNvPr id="292" name="TextBox 3"/>
          <p:cNvSpPr/>
          <p:nvPr/>
        </p:nvSpPr>
        <p:spPr>
          <a:xfrm>
            <a:off x="3203640" y="5157720"/>
            <a:ext cx="568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Желаем успехов Вам и вашим детя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643120" y="5076360"/>
            <a:ext cx="485784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6" name="Прямоугольник 4"/>
          <p:cNvSpPr/>
          <p:nvPr/>
        </p:nvSpPr>
        <p:spPr>
          <a:xfrm>
            <a:off x="714240" y="428760"/>
            <a:ext cx="80010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53735"/>
                </a:solidFill>
                <a:latin typeface="Bookman Old Style"/>
              </a:rPr>
              <a:t>Критерии готовности к школе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физичес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нравствен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психологическ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мыслитель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Физическая готовнос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гласно санитарно-эпидемиологическим правилам СанПин 2.42.1178-02 «Гигиенические требования к условиям обучения в общеобразовательных  учреждениях»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В первые классы школ принимаются дети седьмого или восьмого года жизн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о усмотрению родителей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а основании заключения психолого-медико-педагогической комиссии о готовности ребенка к обучению.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Обязательным условием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для приема в школу детей седьмого года жизни является достижение ими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к 1 сентября возраста  не менее шести с половиной лет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Обучение детей, не достигших шести с половиной лет к началу учебного года, проводится в  условиях детского сад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8143920" cy="528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Нравственная готовность: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ние строить отношения с учителем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ние общаться со сверстниками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жливость, сдержанность, послушани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тношение к себе (отсутствие заниженной самооценки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ельзя сравнивать достижения своего ребенка с достижениями других детей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ельзя принуждать ребенка работать на «оценку»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адо чаще хвалить своих детей, даже за малейшие успехи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8143920" cy="62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сихологическая готовность:</a:t>
            </a:r>
            <a:br>
              <a:rPr sz="2800"/>
            </a:br>
            <a:r>
              <a:rPr b="0" lang="ru-RU" sz="28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8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твердое желание учиться, получать зна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онимание важности и необходимости уче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роявление выраженного интереса к получению новых знани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умение слушать учителя и выполнять его задания (отнюдь не всегда интересные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умение общаться со сверстниками и взрослы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ребенок легко вступает в контакт, не агрессивен, умеет находить выход из проблемных ситуаций общения, признает авторитет взрослых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определенный уровень развития мышления, памяти, внимания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4240" y="-286200"/>
            <a:ext cx="8143920" cy="657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Развитие школьно-значимых                              психологических функций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азвитие мелких мышц рук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рука развита хорошо, ребенок уверенно владеет карандашом, ножницами);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пространственная организация, координация движений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умение правильно определять выше - ниже, вперед - назад, слева - справа);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координация в системе глаз - рука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ребенок может правильно перенести в тетрадь простейший графический образ - узор, фигуру - зрительно воспринимаемый на расстоянии (например, из книг);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5840" y="128556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Развитие школьно-значимых                              психологических функций:</a:t>
            </a:r>
            <a:br>
              <a:rPr sz="2800"/>
            </a:br>
            <a:r>
              <a:rPr b="0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азвитие логического мышления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способность находить сходства и различия разных предметов при сравнении, умение правильно объединять предметы в группы по общим существенным признакам);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азвитие произвольного внимания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способность удерживать внимание на выполняемой работе в течение 15-20 минут);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азвитие произвольной памят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способность к опосредованному запоминанию: связывать запоминаемый материал с конкретным символом /слово - картинка либо слово - ситуация/)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5840" y="128556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Мыслительная готовнос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иболее важные показатели — это развитие мышления и реч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чень полезно учить ребенка строить несложные рассуждения, выводы, используя слова:«потому, что»; «если, то»; «поэтому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ите ребят задавать вопросы. Это очень полезно. Мышление всегда начинается с вопроса. Нельзя заставить мысль работать, если просто сказать «подумай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ечь является основой, на которой строится учебный процесс. Особенно важно владение монологической речью. Для ребенка это пересказ. После чтения задайте ребенку несколько вопросов по содержанию, попросите пересказать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собое внимание обратите на ориентировку в пространстве. Правильно ли ваш ребенок понимает и употребляет в речи предлоги и понятия: выше, ниже, на, над, под, снизу, сверху, между, перед., за, спереди от…, сзади от…, ближе, дальше, лево, право, левее, правее, ближе всего к…, дальше всего    от… и т.д. </a:t>
            </a: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572320" cy="642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ажен не объем знаний ребенка, а качество знаний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ажно учить не читать, а развивать речь. Не учить писать, а создавать условия для развития мелкой моторики рук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полноценного развития дошкольнику необходимо общаться со сверстниками, взрослыми, играть в развивающие игры слушать чтение книг, рисовать, лепить, фантазировать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м больше ребенок будет причастен к подготовке к школе, обсуждению будущего, чем больше он будет знать о школе, о новой жизни, тем легче ему будет личностно в нее включиться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9:19:14Z</dcterms:created>
  <dc:creator>сергей</dc:creator>
  <dc:description>Корпорация Майкрософт</dc:description>
  <cp:keywords>Фотоальбом</cp:keywords>
  <dc:language>en-US</dc:language>
  <cp:lastModifiedBy>1</cp:lastModifiedBy>
  <dcterms:modified xsi:type="dcterms:W3CDTF">2021-02-24T07:15:42Z</dcterms:modified>
  <cp:revision>17</cp:revision>
  <dc:subject>Фотоальбом</dc:subject>
  <dc:title>Ваш ребёнок идёт в школ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54091049</vt:lpwstr>
  </property>
</Properties>
</file>