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FD6-371B-47E5-8BC9-3B4B625A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C94-528D-4925-BCD7-85780A18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E0E-EA53-4354-95AF-16442C00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5B0-EF5A-453E-A983-9F4B9800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E261-E66F-49EC-8980-43AE164F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E735-4194-41CB-A02E-644AFEE2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578F-BF33-4CB1-8742-50225C6E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DDE3-D1E9-4A08-8520-3314E095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A272-26AE-4EAF-8879-395A897D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4765-6982-4117-BEA7-A7D50FEE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DF9A-33F0-49F3-A09D-5D590AD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556-21FD-4B49-AF2F-03C837C6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7BED-EE5B-4988-9A98-363258B9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95F8-8AD1-41F4-8D61-B020005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FC56-6A00-48A5-AB90-7932C287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A72B-A8FF-41F9-821E-7DB2B594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97DC-6482-48DF-A376-4023003A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327-A084-4CA8-AF05-F2BE02BB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8B8-7EA1-4970-AA67-8DAA2F85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801-94E6-4F02-A010-9C6A2C2D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6D9-B7CF-4FE7-95AB-03C945BD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B47-77BB-449A-8E1D-D3401EE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8C8-5BFD-4AFC-9807-4E06A0A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31C-3C1F-4C69-85DA-AC1AA9AD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1DD-F72E-4585-80B9-5B0BEB5EB9D6}" type="slidenum">
              <a:rPr b="0" lang="uk-U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1D4-3A47-437A-A6A6-AF5FDCAB6CB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 flipV="1" rot="10800000">
            <a:off x="0" y="10278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ОБРАЗОВАТЕЛЬНЫЙ  ПРОЕК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4000680" y="1928880"/>
            <a:ext cx="44290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Кудряшо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Елена Виталиевн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учитель  начальных 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МОУ «Моркинская средня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общеобразовательная  школа №6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Рисунок 4" descr="Кудряшова.jpg"/>
          <p:cNvPicPr/>
          <p:nvPr/>
        </p:nvPicPr>
        <p:blipFill>
          <a:blip r:embed="rId1"/>
          <a:stretch/>
        </p:blipFill>
        <p:spPr>
          <a:xfrm>
            <a:off x="571680" y="1857240"/>
            <a:ext cx="2612880" cy="3703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426960" y="1428840"/>
          <a:ext cx="871704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428840"/>
                    <a:ext cx="871704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Русский 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3" descr=""/>
          <p:cNvPicPr/>
          <p:nvPr/>
        </p:nvPicPr>
        <p:blipFill>
          <a:blip r:embed="rId1"/>
          <a:stretch/>
        </p:blipFill>
        <p:spPr>
          <a:xfrm>
            <a:off x="571680" y="1285920"/>
            <a:ext cx="8342280" cy="407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0" y="5774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Литературное чт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Мате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2"/>
          <p:cNvGraphicFramePr/>
          <p:nvPr/>
        </p:nvGraphicFramePr>
        <p:xfrm>
          <a:off x="285840" y="1571760"/>
          <a:ext cx="84582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571760"/>
                    <a:ext cx="84582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75016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Заключительный  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571680" y="128592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труктивный анализ полученных результатов внедрения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714240" y="1643040"/>
            <a:ext cx="64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ст положительной мотивации на уроках с применением ИК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вышение уровня использования наглядности на урок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вышение производительности учебно-воспитатель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ачественное изменение взаимоотношений между участниками учебно-воспитатель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ст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ктивизация деятельности учащихся на уро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Диаграмма 3"/>
          <p:cNvGraphicFramePr/>
          <p:nvPr/>
        </p:nvGraphicFramePr>
        <p:xfrm>
          <a:off x="285840" y="714240"/>
          <a:ext cx="664344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6643440" cy="457200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2" descr=""/>
          <p:cNvPicPr/>
          <p:nvPr/>
        </p:nvPicPr>
        <p:blipFill>
          <a:blip r:embed="rId1"/>
          <a:stretch/>
        </p:blipFill>
        <p:spPr>
          <a:xfrm>
            <a:off x="1859040" y="1390680"/>
            <a:ext cx="472428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071720"/>
            <a:ext cx="8186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ИКТ, как средство повышения качества образования в начальной школ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images.asia.ru/img/alibaba/photo/51690853/Computer.jpg"/>
          <p:cNvPicPr/>
          <p:nvPr/>
        </p:nvPicPr>
        <p:blipFill>
          <a:blip r:embed="rId1"/>
          <a:stretch/>
        </p:blipFill>
        <p:spPr>
          <a:xfrm>
            <a:off x="571680" y="2571840"/>
            <a:ext cx="3217680" cy="2036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285720" y="2214720"/>
            <a:ext cx="507204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Скажи мне, и я забуду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Покажи мне, - я смогу запомнить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Позволь мне это сделать самому,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и это станет моим навсегда"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Calibri"/>
              </a:rPr>
              <a:t>Древняя мудр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5280" y="69228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Актуальность</a:t>
            </a:r>
            <a:r>
              <a:rPr b="0" lang="uk-UA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14200" y="128592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в традиционную схему «учитель – ученик – учебник» вводится новое звено – компьютер, а в школьное сознание – компьютерное обучение. Использование компьютерных технологий – это необходимость, диктуемая сегодняшним уровнем развития образования. Современному обществу нужен человек, который может успешно жить и полноценно трудиться, который способен самостоятельно сделать выбор, принять нестандартное решени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5712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85880" y="1500120"/>
            <a:ext cx="757224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Цель:   Исследование современных педагогических технологий как  средства повышения качества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7416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Объект  исследования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468360" y="155736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цесс обучения младших школьников с использованием информационно – коммуникационных технолог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324000" y="32446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Предмет  исследования 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оугольник 4"/>
          <p:cNvSpPr/>
          <p:nvPr/>
        </p:nvSpPr>
        <p:spPr>
          <a:xfrm flipV="1" rot="10800000">
            <a:off x="499680" y="357192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 - коммуникацио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хнологии в процессе обучения младших школь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6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Гипотеза 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39640" y="1500120"/>
            <a:ext cx="8280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ользование ИКТ позволит сформировать эффективное и качественное обучение при соблюдении ряда педагогических условий и технических требований к образовательным программным средствам ИК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Этапы реализаци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хема 3" descr=""/>
          <p:cNvPicPr/>
          <p:nvPr/>
        </p:nvPicPr>
        <p:blipFill>
          <a:blip r:embed="rId1"/>
          <a:stretch/>
        </p:blipFill>
        <p:spPr>
          <a:xfrm>
            <a:off x="1554120" y="1822320"/>
            <a:ext cx="6132600" cy="412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хема 2" descr=""/>
          <p:cNvPicPr/>
          <p:nvPr/>
        </p:nvPicPr>
        <p:blipFill>
          <a:blip r:embed="rId1"/>
          <a:stretch/>
        </p:blipFill>
        <p:spPr>
          <a:xfrm>
            <a:off x="695160" y="1560600"/>
            <a:ext cx="7826400" cy="481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Calibri"/>
              </a:rPr>
              <a:t>Основной  этап реализации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RekrNfzVEIg.jpg"/>
          <p:cNvPicPr/>
          <p:nvPr/>
        </p:nvPicPr>
        <p:blipFill>
          <a:blip r:embed="rId1"/>
          <a:stretch/>
        </p:blipFill>
        <p:spPr>
          <a:xfrm>
            <a:off x="214200" y="2714760"/>
            <a:ext cx="4249800" cy="28321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8"/>
          <p:cNvSpPr/>
          <p:nvPr/>
        </p:nvSpPr>
        <p:spPr>
          <a:xfrm>
            <a:off x="357120" y="17859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екта в учебно-воспитательном процесс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5000760" y="18572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жуточная диагностика результатов внедрения про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Стрелка вниз 13"/>
          <p:cNvSpPr/>
          <p:nvPr/>
        </p:nvSpPr>
        <p:spPr>
          <a:xfrm>
            <a:off x="1928880" y="1071720"/>
            <a:ext cx="642960" cy="8571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трелка вниз 14"/>
          <p:cNvSpPr/>
          <p:nvPr/>
        </p:nvSpPr>
        <p:spPr>
          <a:xfrm>
            <a:off x="5857920" y="1143000"/>
            <a:ext cx="642960" cy="8571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15:41:23Z</dcterms:created>
  <dc:creator>Toshiba</dc:creator>
  <dc:description/>
  <dc:language>en-US</dc:language>
  <cp:lastModifiedBy>asus</cp:lastModifiedBy>
  <dcterms:modified xsi:type="dcterms:W3CDTF">2022-03-03T19:04:45Z</dcterms:modified>
  <cp:revision>72</cp:revision>
  <dc:subject/>
  <dc:title>ИСПОЛЬЗОВАНИЕ ИКТ НА УРОКАХ В НАЧАЛЬНОЙ ШКОЛЕ</dc:title>
</cp:coreProperties>
</file>