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1F0-756D-4E59-B224-5C9C06CC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4A0-DE0B-491A-94BE-DDD58FB7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D15-479A-4011-8AAA-6E473699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75C-B1DE-452B-AB26-8ACB840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026F-CD26-4892-BD44-5C9BA8A9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E426-D956-4BA7-8F1E-FE99E70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2AA9-534D-4587-A715-CCB94AAA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653-DA48-48AC-9AA6-C1D4229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250-A0F7-4F26-B586-ABFD4600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D57-CD83-47BF-9049-25317C3A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C30-2FCE-439B-81D3-69C9A46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57B-D774-4CA8-BA55-B29A71F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9223-77B6-47B4-9566-0FC29E2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5F8-E6F9-46A2-951F-3FDBE43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5224-E2D6-4C25-8FA2-946956D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BAD9-5419-4A67-A1C9-2B6DB5B3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3AA1-D3DD-4154-BA8F-ECF3596F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41B-D51F-4D84-8200-6EBA939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262-892A-46AD-B309-1492599B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A44-26FD-41C0-9DFF-DA18537E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1E-B4EB-4EBB-AF8D-F9ED77B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6EB-1556-4C0E-8C2C-8FD165F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28C-B505-4883-8191-EF51A3B5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9E6-92A0-4AC4-BBD5-531A5ED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E841-679D-41A0-883E-E7012F7DB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33B-5659-4761-B9D9-EE188B3F2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463800">
            <a:off x="1041120" y="1993680"/>
            <a:ext cx="72007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аренный ребен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Потребность во внимании взрослых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силу природной любознательности  и стремления к познанию одаренные дети нередко монополизируют внимание педагогов, родителей, окружающих. Таким образом возникают трения в отношениях с другими детьми, которых раздражает жажда такого вни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. Нетерпимост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даренные дети нередко с недостаточной терпимостью относятся к сверстникам, стоящим ниже в интеллектуальном развитии. Они могут отталкивать окружающих своими замечаниями, выражать презрение или нетерп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Основные принципы отбора педагогов для работы с одаренными детьм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ых принципах отражены все основные моменты выбора педагога для одаренного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едагог является определяющим фактором в системе обучения одаренны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 педагогам, работающим с одаренными детьми, предъявляются повышенные треб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Не все способны работать с одаренными детьми младшего возраста, поэтому администрация должна своевременно выявлять педагогов , которые не смогут или не хотят работать с малолетними даров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озитивная Я-концепция — одна из важнейших характеристик педагога , работающего с одаренными деть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007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Профессиональная компетенция педагога, обучающего одаренных детей, основывается на его специальной теоретической подготовке, тесно увязанной с опытом практическ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Педагоги должны уметь работать с детьми, обладающими разными способностями и особен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Педагоги одаренных детей должны разбираться в специальных программах и учитывать опыт других педагогов при совершенствовании своих программ. Они должны знать концептуальные модели педагог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Педагогу необходимо быть всесторонне развитым; эффективно использовать выделяемые на нужды  обучения средства и  ресур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Правильный выбор учебного материала также характеризует уровень воспита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Педагог должен уметь правильно оценивать успехи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Убедить окружающих в необходимости оказывать содействие в развитии специальных программ для одаренных  довольно трудно, поэтому воспитатель должен защищать интересы последних  и находить сторо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 Велики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дети с острым умом и любознательные, но дикие и упрямые. Таких обычно ненавидят в школах и почти всегда считают безнадежными; между тем из них обыкновенно выходят великие люди, если только воспитать их надлежащим образ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н Амос Каме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а Велики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чие нации исчисляется числом ее гениев и той честью, которая она им оказы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Эмер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дарен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аренность — это системное, развивающееся в течение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аренный ребенок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блемы одаренных дет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Неприязнь  к  школ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Такое отношение часто появляется от  того, что программа скучна и неинтересна. Нарушения в поведении одаренных детей могут появляться при несоответствии  учебного плана их способност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Игровые интере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Одаренным детям нравятся сложные игры и не интересны те, которыми увлекаются их сверстники средних способностей. Вследствие этого одаренный ребенок оказывается в изоляции, уходит в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. Комфорт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даренные дети, отвергая стандартные требования, не склонны, таким образом, к конформизму, особенно если эти стандарты идут в разрез с их интересами или кажутся им бессмысленны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Погружение в философские проблем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аренные  дети задумываются над такими явлениями, как смерть, загробная жизнь, религиозные верования и философские проблемы в гораздо большей степени, чемосталь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007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Несоответствие между физическим, интеллектуальным и социальным развитие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аренные дети часто предпочитают общаться и играть с детьми старшего возраста. По этой причине им порой трудно стать лидерами, так как они уступают последним в физическом развит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Стремление к совершенству (перфекцион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Одаренным детям характерна внутренняя потребность совершенства. Они не успокаиваются, не достигнув высокого уровня. Свойство это проявляется очень ра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Ощущение неудовлетворенност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и дети критически относятся к собственным достижениям, часто испытывают неудовлетворенность, отсюда — ощущение неадекватности и низка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Нереалистические ц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Одаренные дети часто ставят перед собой завышенные  цели. Не имея возможности достичь их, они начинают переживать. С другой стороны, стремление к совершенству и есть та сила, которая приводит их к высоким достиже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0074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. Сверхчувстви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скольку одаренные дети более восприимчивы к сенсорным стимулам и лучше понимают отношения и связи, они склонны критически относиться не только к себе, но и к окружающим. Одаренный ребенок более уязвим, он часто воспринимает слова или невербальные сигналы как проявления неприятия себя окружающими. В результате такой ребенок нередко считается гиперактивным и отвлекающимся, поскольку реагирует на разного рода раздражители и стиму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8:42:15Z</dcterms:created>
  <dc:creator>User</dc:creator>
  <dc:description/>
  <dc:language>en-US</dc:language>
  <cp:lastModifiedBy>user</cp:lastModifiedBy>
  <dcterms:modified xsi:type="dcterms:W3CDTF">2009-02-17T19:19:22Z</dcterms:modified>
  <cp:revision>6</cp:revision>
  <dc:subject/>
  <dc:title>Слайд 1</dc:title>
</cp:coreProperties>
</file>