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A23-5E5E-4353-A1D2-F047A0F4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CD0-0E7D-44FD-B950-E78B72FF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09A-1D10-463C-B19C-CD8CA392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B1D-48FF-4235-8BB5-7402E8AE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A87-C515-496E-A41A-73620D5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1B6-323B-40AC-ACC0-73C10DD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98C-EC8E-4D6B-8F73-33C24D9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7EE-B600-444C-AA0C-7FACD36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F30-EFD1-4E98-AE8D-104ACB26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010-27CB-4D6A-968F-77BC7D4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940-1BDB-484F-B5B0-B854282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58C-0A07-4BA7-A809-8CFC638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5cd"/>
            </a:gs>
            <a:gs pos="50000">
              <a:srgbClr val="fbcc05"/>
            </a:gs>
            <a:gs pos="100000">
              <a:srgbClr val="fef5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1389-8C50-4A02-9AAD-E6C61ADD3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Philip_Metropolitan_of_Moscow_(icon).jpg&amp;filetimestamp=2009022005314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278670536_oprichniki"/>
          <p:cNvPicPr/>
          <p:nvPr/>
        </p:nvPicPr>
        <p:blipFill>
          <a:blip r:embed="rId1"/>
          <a:stretch/>
        </p:blipFill>
        <p:spPr>
          <a:xfrm>
            <a:off x="0" y="0"/>
            <a:ext cx="9140760" cy="5983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700360" y="6021360"/>
            <a:ext cx="4248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причнина</a:t>
            </a:r>
            <a:endParaRPr b="1" lang="en-US" sz="72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11280" y="620280"/>
            <a:ext cx="475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ыло создано опричное войско - личная гвардия Ива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около 5 тыс.чел), готовая к выполнению любых приказаний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причники принимали даже прибывающих на службу иностранцев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 гвардия расправлялась со всеми неугодными царю, грабила и убивала население, обогащалась люб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tudy-9102-oprichnik600"/>
          <p:cNvPicPr/>
          <p:nvPr/>
        </p:nvPicPr>
        <p:blipFill>
          <a:blip r:embed="rId1"/>
          <a:stretch/>
        </p:blipFill>
        <p:spPr>
          <a:xfrm>
            <a:off x="179280" y="620640"/>
            <a:ext cx="4259520" cy="52531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395280" y="6021360"/>
            <a:ext cx="381636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ричник Ивана Грозного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692280"/>
            <a:ext cx="8497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ые казни и беззаконие воцарившиеся в стране вызывали недовольство большинства населения.     В 1566 г. на Земском соборе царю была подана челобитная об отмене опричнины. Все недовольные опричниной были казнены, а их имущество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шло царю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итрополит Афанасий в знак протеста против опричнины сложил с себя сан. Новый митрополит Филипп решительно выступил против опричнины. Его неоднократно унижали и избивали,  позже сослали в тверской монастырь и лишили сана,              где опричник Малюта Скуратов его задушил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95280" y="5157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11280" y="5373720"/>
            <a:ext cx="316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0" name="Picture 7" descr="Митрополит Филипп 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5680" y="642960"/>
            <a:ext cx="4003560" cy="580536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2627280" y="6461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трополит Филипп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5280" y="551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аясь своего двоюродного брата Владимира Старицкого, Иван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иказал опричникам отравить его и всех членов его семьи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5280" y="5157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5373720"/>
            <a:ext cx="316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300720" y="2781360"/>
            <a:ext cx="2592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люта Скуратов и Митрополит Филипп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7" name="Picture 11" descr="File:Nikolaj Wassiljewitsch Newrew - Philip II, Metropolitan of Moscow and Malyuta Skuratov.jpg"/>
          <p:cNvPicPr/>
          <p:nvPr/>
        </p:nvPicPr>
        <p:blipFill>
          <a:blip r:embed="rId1"/>
          <a:stretch/>
        </p:blipFill>
        <p:spPr>
          <a:xfrm>
            <a:off x="324000" y="692280"/>
            <a:ext cx="5976720" cy="46814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3789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декабре 1569 г. опричное войско во главе с царем выступило в поход 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овгород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По пути были разорены и разграблены многие города.                            В Новгороде всех вызывавших подозрение царя, опричники жестоко избивали и топили в реке Волхов. Массовые казни в Новгороде продолжались почти 2 месяца. Все имущество убитых переходило  к царю и оприч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79280" y="530064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Picture 12" descr="13"/>
          <p:cNvPicPr/>
          <p:nvPr/>
        </p:nvPicPr>
        <p:blipFill>
          <a:blip r:embed="rId1"/>
          <a:stretch/>
        </p:blipFill>
        <p:spPr>
          <a:xfrm>
            <a:off x="2484360" y="692280"/>
            <a:ext cx="4681440" cy="315108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5084640"/>
            <a:ext cx="8713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72 г. Девлет-Гирей предпринял новый поход                на Москву. Объединенное войско опричнины                      и земщины под командованием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ихаила Воротынск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азгромило врага у деревни Молод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9280" y="530064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5" name="Picture 6" descr="b_2307_i_076"/>
          <p:cNvPicPr/>
          <p:nvPr/>
        </p:nvPicPr>
        <p:blipFill>
          <a:blip r:embed="rId1"/>
          <a:stretch/>
        </p:blipFill>
        <p:spPr>
          <a:xfrm>
            <a:off x="539640" y="765000"/>
            <a:ext cx="3905280" cy="4104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96" name="Rectangle 7"/>
          <p:cNvSpPr/>
          <p:nvPr/>
        </p:nvSpPr>
        <p:spPr>
          <a:xfrm>
            <a:off x="4284720" y="765000"/>
            <a:ext cx="46083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71 г. опричное войско пропустило к Москве войска крымского хана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евлет-Гире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                            Москва была захвачена, разграблена и сожжена.                              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00720" y="3716280"/>
            <a:ext cx="259236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вану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вручают трофеи, захваченные в битве при Молоди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595008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казни продолжались. Теперь по приказу Ивана Грозного уничтожались оприч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79280" y="530064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437000"/>
            <a:ext cx="86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годы опричнины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добился резкого усиления своей власти. 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572 г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ичнина была отменена, царь под страхом смерти запретил произносить это слово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Picture 9" descr="6422"/>
          <p:cNvPicPr/>
          <p:nvPr/>
        </p:nvPicPr>
        <p:blipFill>
          <a:blip r:embed="rId1"/>
          <a:stretch/>
        </p:blipFill>
        <p:spPr>
          <a:xfrm>
            <a:off x="1979640" y="674640"/>
            <a:ext cx="5364000" cy="370836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тоги царствования Иван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3933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результате опричнины, продолжительной ливонской войны, постоянных набегов со стороны Крымского ханства страна пришла в запуст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еление городов уменьшилось, многие деревни перестали существовать. Многие бояре и дворяне бежали в Литву и Польшу. Спасаясь от произвола властей и помещиков, податей крестьяне бежали    на юг и за Урал, где становились каз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юрьев день"/>
          <p:cNvPicPr/>
          <p:nvPr/>
        </p:nvPicPr>
        <p:blipFill>
          <a:blip r:embed="rId1"/>
          <a:stretch/>
        </p:blipFill>
        <p:spPr>
          <a:xfrm>
            <a:off x="2700360" y="765000"/>
            <a:ext cx="4319640" cy="313236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тоги царствования Иван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5280" y="4437000"/>
            <a:ext cx="8353440" cy="2288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крепления крестьян на земле в 1581 г. Иван Грозный ввел </a:t>
            </a:r>
            <a:r>
              <a:rPr b="1" i="1" lang="ru-RU" sz="2400" spc="-1" strike="noStrike">
                <a:solidFill>
                  <a:srgbClr val="ca1002"/>
                </a:solidFill>
                <a:latin typeface="Arial"/>
              </a:rPr>
              <a:t>«заповедные лета»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 некоторые годы запрещались уходы крестьян от помещиков. Введение заповедных лет еще больше закабаляло крестьян, вело к формированию                    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РЕПОСТНОГО ПРА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Picture 8" descr="37962-original"/>
          <p:cNvPicPr/>
          <p:nvPr/>
        </p:nvPicPr>
        <p:blipFill>
          <a:blip r:embed="rId1"/>
          <a:stretch/>
        </p:blipFill>
        <p:spPr>
          <a:xfrm>
            <a:off x="2268360" y="692280"/>
            <a:ext cx="4896000" cy="36320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тоги царствования Иван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5950080"/>
            <a:ext cx="856908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81 г. во время приступа ярости Иван Грозный  избил сы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ва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торый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280_1"/>
          <p:cNvPicPr/>
          <p:nvPr/>
        </p:nvPicPr>
        <p:blipFill>
          <a:blip r:embed="rId1"/>
          <a:stretch/>
        </p:blipFill>
        <p:spPr>
          <a:xfrm>
            <a:off x="1476360" y="836640"/>
            <a:ext cx="6408720" cy="49100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тоги царствования Иван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5589360"/>
            <a:ext cx="864216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ca1002"/>
                </a:solidFill>
                <a:latin typeface="Arial"/>
              </a:rPr>
              <a:t>1584 г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ван Грозный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р, оставив разоренную страну неподготовленному к правлению, болезненному и набожному сыну </a:t>
            </a:r>
            <a:r>
              <a:rPr b="1" lang="ru-RU" sz="2400" spc="-1" strike="noStrike">
                <a:solidFill>
                  <a:srgbClr val="ca1002"/>
                </a:solidFill>
                <a:latin typeface="Arial"/>
              </a:rPr>
              <a:t>Федору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Иван Грозный"/>
          <p:cNvPicPr/>
          <p:nvPr/>
        </p:nvPicPr>
        <p:blipFill>
          <a:blip r:embed="rId1"/>
          <a:stretch/>
        </p:blipFill>
        <p:spPr>
          <a:xfrm>
            <a:off x="324000" y="836640"/>
            <a:ext cx="3240000" cy="453708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pic>
        <p:nvPicPr>
          <p:cNvPr id="115" name="Picture 7" descr="федор иванович"/>
          <p:cNvPicPr/>
          <p:nvPr/>
        </p:nvPicPr>
        <p:blipFill>
          <a:blip r:embed="rId2"/>
          <a:stretch/>
        </p:blipFill>
        <p:spPr>
          <a:xfrm>
            <a:off x="5508720" y="836640"/>
            <a:ext cx="3265560" cy="453708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116" name="Line 8"/>
          <p:cNvSpPr/>
          <p:nvPr/>
        </p:nvSpPr>
        <p:spPr>
          <a:xfrm>
            <a:off x="3564000" y="3500280"/>
            <a:ext cx="180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635280" y="3500280"/>
            <a:ext cx="180036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851280" y="2852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584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зрыв Ивана с Избранной ра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права царя с приближ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ановление опричн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тоги царствования Ивана Гроз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6 век"/>
          <p:cNvPicPr/>
          <p:nvPr/>
        </p:nvPicPr>
        <p:blipFill>
          <a:blip r:embed="rId1"/>
          <a:stretch/>
        </p:blipFill>
        <p:spPr>
          <a:xfrm>
            <a:off x="3492360" y="3213000"/>
            <a:ext cx="2641680" cy="3429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500720" y="981000"/>
            <a:ext cx="4392360" cy="3297960"/>
          </a:xfrm>
          <a:prstGeom prst="rect">
            <a:avLst/>
          </a:prstGeom>
          <a:noFill/>
          <a:ln w="47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25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Ответить на вопросы в конце параграфа (устно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Знать термины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Повторить параграфы 23-25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Picture 7" descr="%D1%81%D1%82%D1%80%D0%B5%D0%BB%D1%8C%D1%86%D1%8B"/>
          <p:cNvPicPr/>
          <p:nvPr/>
        </p:nvPicPr>
        <p:blipFill>
          <a:blip r:embed="rId1"/>
          <a:stretch/>
        </p:blipFill>
        <p:spPr>
          <a:xfrm>
            <a:off x="250920" y="981000"/>
            <a:ext cx="4186080" cy="56167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Разрыв Ивана с Избранной ра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4005000"/>
            <a:ext cx="8964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бояре и члены Избранной рады считали планы Ива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ыйти к Балтийскому морю преждевременными, а Россию неподготовленной               к большой войне. Эти настроения заставили Ива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йти на перемирие с Ливонским орденом в 1559 г. Начавшиеся после прекращения перемирия поражения царь приписывал изменникам в своем окру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00003"/>
          <p:cNvPicPr/>
          <p:nvPr/>
        </p:nvPicPr>
        <p:blipFill>
          <a:blip r:embed="rId1"/>
          <a:stretch/>
        </p:blipFill>
        <p:spPr>
          <a:xfrm>
            <a:off x="1979640" y="765000"/>
            <a:ext cx="5545080" cy="32576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Разрыв Ивана с Избранной ра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53 г. Иван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заболел и потребовал присягнуть его новорожденному сыну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Дмитри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Многие из приближенных уклонились от этого, симпатизируя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ладимиру Старицкому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После выздоровления Иван стал подозрительным и жесто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ost-221-1269113658"/>
          <p:cNvPicPr/>
          <p:nvPr/>
        </p:nvPicPr>
        <p:blipFill>
          <a:blip r:embed="rId1"/>
          <a:stretch/>
        </p:blipFill>
        <p:spPr>
          <a:xfrm>
            <a:off x="1979640" y="765000"/>
            <a:ext cx="5184720" cy="406116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Разрыв Ивана с Избранной ра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5280" y="907560"/>
            <a:ext cx="482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конца 50-х гг. между  Ивано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Избранной радой начинают нарастать противоречия – царя тяготит необходимость считаться с их мнением. Окончательный разрыв происходит после смерти   в 1560 г. первой жены Ивана –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астасии Захарьино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                             Многие в окружении царя считали, что царицу извели чарами Сильвестр                         и Адаш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Рисунок3"/>
          <p:cNvPicPr/>
          <p:nvPr/>
        </p:nvPicPr>
        <p:blipFill>
          <a:blip r:embed="rId1"/>
          <a:stretch/>
        </p:blipFill>
        <p:spPr>
          <a:xfrm>
            <a:off x="250920" y="907920"/>
            <a:ext cx="3516120" cy="496908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274680" y="5932440"/>
            <a:ext cx="3493800" cy="916920"/>
          </a:xfrm>
          <a:prstGeom prst="rect">
            <a:avLst/>
          </a:prstGeom>
          <a:noFill/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И.Грозный кается на Лобном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месте после смерти жены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Анастасии. Миниатюра 16 в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Расправа царя с приближе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0" y="1052280"/>
            <a:ext cx="52563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ванный в Москве земский собор отправил Адашева в тюрьму, где он вскоре умер,               а Сильвестр был сослан на Соловки, где вскоре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63 г. умер митрополит Макарий, сдерживавший царя. Новый митрополит Афанасий встал на сторону недовольного боя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564 г. опасаясь расправы, бежал в Литву князь Андрей Курбский – герой взятия Каз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Иван Грозный выслушивает письмо от Андрея Курбского"/>
          <p:cNvPicPr/>
          <p:nvPr/>
        </p:nvPicPr>
        <p:blipFill>
          <a:blip r:embed="rId1"/>
          <a:stretch/>
        </p:blipFill>
        <p:spPr>
          <a:xfrm>
            <a:off x="179280" y="981000"/>
            <a:ext cx="3441960" cy="3888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95280" y="4941720"/>
            <a:ext cx="302580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ван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выслушивает письмо от Курбского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Расправа царя с приближе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4436640"/>
            <a:ext cx="864216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беды в Ливонской войне сменились поражениями. Царь обвинял бояр и воевод в предательстве. Начались казни. Иван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ешил окончательно уничтожить самостоятельность бояр и стать единым правителем – самодержцем.                </a:t>
            </a:r>
            <a:r>
              <a:rPr b="1" i="1" lang="ru-RU" sz="2400" spc="-1" strike="noStrike">
                <a:solidFill>
                  <a:srgbClr val="ca1002"/>
                </a:solidFill>
                <a:latin typeface="Arial"/>
              </a:rPr>
              <a:t>Теперь это означало неограниченную власть царя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84720" y="278136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сковский застенок. А.Васнецов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Picture 7" descr="glrx-499710083"/>
          <p:cNvPicPr/>
          <p:nvPr/>
        </p:nvPicPr>
        <p:blipFill>
          <a:blip r:embed="rId1"/>
          <a:stretch/>
        </p:blipFill>
        <p:spPr>
          <a:xfrm>
            <a:off x="1835280" y="836640"/>
            <a:ext cx="4248000" cy="36576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становл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24000" y="765000"/>
            <a:ext cx="5040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декабре 1564 г. Иван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месте со всем двором и казной уехал из Москвы в Александровскую слободу. Оттуда он направил                         2 грамоты к митрополиту                и к на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loboda"/>
          <p:cNvPicPr/>
          <p:nvPr/>
        </p:nvPicPr>
        <p:blipFill>
          <a:blip r:embed="rId1"/>
          <a:stretch/>
        </p:blipFill>
        <p:spPr>
          <a:xfrm>
            <a:off x="179280" y="765000"/>
            <a:ext cx="3961080" cy="273528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324000" y="3500280"/>
            <a:ext cx="360036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ександровская слобода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79280" y="407664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осланиях говорилось, что бояре и князья предали его, разворовывают казну и страну, а на народ он зла не держит. Собравшийся толпами народ просил царя вернуться и впредь наказывать всех кого он сочтет нужным любыми методами. Бояре также подтвердили право царя казнить или миловать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Введение оприч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ыла введена система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«опричнины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от слова «опричь»- кро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я территория страны была поделена на две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ИЧНИНА       и      ЗЕМ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ичнина поступала под полное управление царя – там создавалась своя боярская дума, свое войско, приказы. Все бояре и дворяне владевшие землями на этой территории и не вошедшие в число опричников выселялись, имущество их поступало в распоряжение царя. В опричнину входили наиболее богатые и стратегически важные районы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территории Земщины царь управлял с помощью старой боярской думы и старых прик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prichnina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656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8:45:41Z</dcterms:created>
  <dc:creator>Нафор Маточ</dc:creator>
  <dc:description/>
  <dc:language>en-US</dc:language>
  <cp:lastModifiedBy>Администратор</cp:lastModifiedBy>
  <dcterms:modified xsi:type="dcterms:W3CDTF">2023-08-07T16:16:40Z</dcterms:modified>
  <cp:revision>164</cp:revision>
  <dc:subject/>
  <dc:title>Опричнина</dc:title>
</cp:coreProperties>
</file>