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38F-2F15-4DA0-A645-D643EAE1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442-26CD-45BA-A5BA-9F23CA9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2B9-8FA6-455D-8CF5-D72CB980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CBC-5233-4FD8-8A1F-F1C8DA37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1D9-A136-4C84-AEE0-C780534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AE3-B92F-4878-9A0B-E62245B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60C-6806-458F-ABE8-750F0627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88B-0000-4127-931F-D9FCAEA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F79-2360-4D80-A7C8-0C8F841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4D5-0DEF-4F59-8CFF-0AF9A61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F26-B1D3-4216-A77B-3EFCADD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9AC-E88D-4262-9351-6DDA24C3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240D-BF95-429A-B37F-E61DB25C9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5.ru/files/vr2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autowp.ru/pictures/mercedes-benz/slr/autowp.ru_mercedes-benz_slr_mclaren_roadster_us-spec_4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hyperlink" Target="http://img15.nnm.ru/d/c/6/4/f/49572a2935512f7a82bd44e633f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a5.ru/files/vr2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kazan.ru/wp-content/uploads/2010/07/IMG_9443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00px-Wolfsburg_VW-Werk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755640" y="836640"/>
            <a:ext cx="777708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ыночные отношения </a:t>
            </a:r>
            <a:endParaRPr b="1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</a:t>
            </a:r>
            <a:endParaRPr b="1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ономике</a:t>
            </a:r>
            <a:endParaRPr b="1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Конкуренция и монопо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692280"/>
            <a:ext cx="85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курен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с лат. столкновение) – свободное соперничество между производителями товаров                  и услуг за получение большего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артинка 4 из 138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989000"/>
            <a:ext cx="1908000" cy="28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86" name="Picture 6" descr="%CC-412---"/>
          <p:cNvPicPr/>
          <p:nvPr/>
        </p:nvPicPr>
        <p:blipFill>
          <a:blip r:embed="rId3"/>
          <a:stretch/>
        </p:blipFill>
        <p:spPr>
          <a:xfrm>
            <a:off x="179280" y="4292640"/>
            <a:ext cx="3529080" cy="2100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Picture 7" descr="Mercedes-Benz SLR McLaren Roadster US-spec (R199) '2008–н.в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292640"/>
            <a:ext cx="3070440" cy="230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" name="Line 8"/>
          <p:cNvSpPr/>
          <p:nvPr/>
        </p:nvSpPr>
        <p:spPr>
          <a:xfrm flipV="1">
            <a:off x="2268360" y="3357360"/>
            <a:ext cx="1366920" cy="718920"/>
          </a:xfrm>
          <a:prstGeom prst="line">
            <a:avLst/>
          </a:prstGeom>
          <a:ln w="73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 flipV="1">
            <a:off x="5867280" y="3357720"/>
            <a:ext cx="1656000" cy="79200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0_12629_f8c7424d_XL"/>
          <p:cNvPicPr/>
          <p:nvPr/>
        </p:nvPicPr>
        <p:blipFill>
          <a:blip r:embed="rId6"/>
          <a:stretch/>
        </p:blipFill>
        <p:spPr>
          <a:xfrm>
            <a:off x="6516720" y="2060640"/>
            <a:ext cx="2381040" cy="142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1" name="Line 11"/>
          <p:cNvSpPr/>
          <p:nvPr/>
        </p:nvSpPr>
        <p:spPr>
          <a:xfrm flipH="1">
            <a:off x="5795640" y="2781360"/>
            <a:ext cx="647640" cy="0"/>
          </a:xfrm>
          <a:prstGeom prst="line">
            <a:avLst/>
          </a:prstGeom>
          <a:ln w="47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Картинка 3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1916280"/>
            <a:ext cx="2737080" cy="1869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3" name="Line 14"/>
          <p:cNvSpPr/>
          <p:nvPr/>
        </p:nvSpPr>
        <p:spPr>
          <a:xfrm>
            <a:off x="2987640" y="2852640"/>
            <a:ext cx="720720" cy="0"/>
          </a:xfrm>
          <a:prstGeom prst="line">
            <a:avLst/>
          </a:prstGeom>
          <a:ln w="47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79280" y="3573360"/>
            <a:ext cx="8785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ршенная конкуренция – ситуация, когда на рынке присутствует большое количество продавцов и покупателей и никто не может диктовать свои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Конкуренция и монопо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0920" y="692280"/>
            <a:ext cx="8569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совершенная конкуренция – ситуация, когда на рынке появля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нополист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диктующий свои условия другим участника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4 из 138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989000"/>
            <a:ext cx="1908000" cy="28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98" name="Picture 5" descr="%CC-412---"/>
          <p:cNvPicPr/>
          <p:nvPr/>
        </p:nvPicPr>
        <p:blipFill>
          <a:blip r:embed="rId3"/>
          <a:stretch/>
        </p:blipFill>
        <p:spPr>
          <a:xfrm>
            <a:off x="179280" y="4508640"/>
            <a:ext cx="3529080" cy="2100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99" name="Picture 6" descr="Mercedes-Benz SLR McLaren Roadster US-spec (R199) '2008–н.в."/>
          <p:cNvPicPr/>
          <p:nvPr/>
        </p:nvPicPr>
        <p:blipFill>
          <a:blip r:embed="rId4"/>
          <a:stretch/>
        </p:blipFill>
        <p:spPr>
          <a:xfrm>
            <a:off x="5867280" y="4292640"/>
            <a:ext cx="3070440" cy="23018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00" name="Line 7"/>
          <p:cNvSpPr/>
          <p:nvPr/>
        </p:nvSpPr>
        <p:spPr>
          <a:xfrm flipV="1">
            <a:off x="2268360" y="3644640"/>
            <a:ext cx="1366920" cy="718920"/>
          </a:xfrm>
          <a:prstGeom prst="line">
            <a:avLst/>
          </a:prstGeom>
          <a:ln w="73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 flipV="1">
            <a:off x="5867280" y="3357720"/>
            <a:ext cx="1656000" cy="79200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0_12629_f8c7424d_XL"/>
          <p:cNvPicPr/>
          <p:nvPr/>
        </p:nvPicPr>
        <p:blipFill>
          <a:blip r:embed="rId5"/>
          <a:stretch/>
        </p:blipFill>
        <p:spPr>
          <a:xfrm>
            <a:off x="6516720" y="2021040"/>
            <a:ext cx="2448000" cy="14684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03" name="Line 10"/>
          <p:cNvSpPr/>
          <p:nvPr/>
        </p:nvSpPr>
        <p:spPr>
          <a:xfrm flipH="1">
            <a:off x="5795640" y="2781360"/>
            <a:ext cx="647640" cy="0"/>
          </a:xfrm>
          <a:prstGeom prst="line">
            <a:avLst/>
          </a:prstGeom>
          <a:ln w="47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2987640" y="2852640"/>
            <a:ext cx="720720" cy="0"/>
          </a:xfrm>
          <a:prstGeom prst="line">
            <a:avLst/>
          </a:prstGeom>
          <a:ln w="47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250920" y="4076640"/>
            <a:ext cx="3889440" cy="259236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5364000" y="3860640"/>
            <a:ext cx="3600720" cy="273708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7020000" y="1700280"/>
            <a:ext cx="1368360" cy="208908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7308360" y="1628640"/>
            <a:ext cx="1079640" cy="223200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Картинка 35 из 64000"/>
          <p:cNvPicPr/>
          <p:nvPr/>
        </p:nvPicPr>
        <p:blipFill>
          <a:blip r:embed="rId6"/>
          <a:stretch/>
        </p:blipFill>
        <p:spPr>
          <a:xfrm>
            <a:off x="179280" y="1916280"/>
            <a:ext cx="2737080" cy="18698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Современный ры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овременных развитых странах существует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МЕШАННА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экономика, в которой одновременно действую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ыночный механиз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осударственное регулирова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2565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ременная рыночная экономика в настоящее время уже не является хаотичной. Продукция производится по заранее заключенным контрактам (как правил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Картинка 3 из 1885"/>
          <p:cNvPicPr/>
          <p:nvPr/>
        </p:nvPicPr>
        <p:blipFill>
          <a:blip r:embed="rId1"/>
          <a:stretch/>
        </p:blipFill>
        <p:spPr>
          <a:xfrm>
            <a:off x="684360" y="4184640"/>
            <a:ext cx="3743280" cy="2673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14" name="Picture 9" descr="Картинка 7 из 1009"/>
          <p:cNvPicPr/>
          <p:nvPr/>
        </p:nvPicPr>
        <p:blipFill>
          <a:blip r:embed="rId2"/>
          <a:stretch/>
        </p:blipFill>
        <p:spPr>
          <a:xfrm>
            <a:off x="4859280" y="4168800"/>
            <a:ext cx="3587760" cy="2689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Становление рыночной экономики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tmp8ED-67g"/>
          <p:cNvPicPr/>
          <p:nvPr/>
        </p:nvPicPr>
        <p:blipFill>
          <a:blip r:embed="rId1"/>
          <a:stretch/>
        </p:blipFill>
        <p:spPr>
          <a:xfrm>
            <a:off x="250920" y="1268280"/>
            <a:ext cx="3014640" cy="538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7" name="Text Box 6"/>
          <p:cNvSpPr/>
          <p:nvPr/>
        </p:nvSpPr>
        <p:spPr>
          <a:xfrm>
            <a:off x="3419640" y="1341360"/>
            <a:ext cx="511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дминистративная экономика после краха социализма начинает меняться на рыночную (1992 г.) Руководство экономикой страны из единого центра постепенно заменяется рыночными механизмами управления эконом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Становление рыночной экономики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79280" y="1197000"/>
            <a:ext cx="8640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знаки становления рыночной экономики в Ро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явление коммерческих банков, товарных бирж, рынка ценных бумаг, валютного ры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зникновение и рост частного сектора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квидирован дефицит товаров и услуг, предложение превысило спрос – конкур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ыночные отношения были ИНСТИТУЦИОНАЛИЗИРОВАННЫ (закреплены законодат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284720" y="1341360"/>
            <a:ext cx="0" cy="4967280"/>
          </a:xfrm>
          <a:prstGeom prst="line">
            <a:avLst/>
          </a:prstGeom>
          <a:ln w="250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692360" y="3716280"/>
            <a:ext cx="5327640" cy="0"/>
          </a:xfrm>
          <a:prstGeom prst="line">
            <a:avLst/>
          </a:prstGeom>
          <a:ln w="250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572000" y="5516640"/>
            <a:ext cx="216072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Ю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Становление рыночной экономики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79280" y="1341360"/>
            <a:ext cx="864072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начительное снижение покупательского спроса                  в результате падения уровня до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результате приватизации экономическая власть оказалась в руках 5-6%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ватизация не сопровождалась модерниз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нижение уровня жизни основной массы населения, появление безработицы, усиление социального расслоения, рост преступ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835280" y="5445000"/>
            <a:ext cx="5327640" cy="0"/>
          </a:xfrm>
          <a:prstGeom prst="line">
            <a:avLst/>
          </a:prstGeom>
          <a:ln w="250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788000" y="5805360"/>
            <a:ext cx="2376360" cy="642600"/>
          </a:xfrm>
          <a:prstGeom prst="rect">
            <a:avLst/>
          </a:prstGeom>
          <a:solidFill>
            <a:srgbClr val="ffff99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 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зучить  параграф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i?id=8356491c48b50609882d61ce91f12412-l&amp;n=13"/>
          <p:cNvPicPr/>
          <p:nvPr/>
        </p:nvPicPr>
        <p:blipFill>
          <a:blip r:embed="rId1"/>
          <a:stretch/>
        </p:blipFill>
        <p:spPr>
          <a:xfrm>
            <a:off x="757080" y="2492280"/>
            <a:ext cx="7629840" cy="396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896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ЛАН 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оль рынка в экономическ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ыночная структура и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куренция и монопо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временны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ановление рыночной экономики                 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?id=cd0b673ef0f05dc929d39a39847e90b4-l&amp;n=13"/>
          <p:cNvPicPr/>
          <p:nvPr/>
        </p:nvPicPr>
        <p:blipFill>
          <a:blip r:embed="rId1"/>
          <a:stretch/>
        </p:blipFill>
        <p:spPr>
          <a:xfrm>
            <a:off x="2556000" y="3932280"/>
            <a:ext cx="4211640" cy="2808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Традиционная эконо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ие товары и услуги для кого и каким образом производить, решается на основе трад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i?id=3a8956b9535cfd195585c55c1004ecd4-l&amp;n=13"/>
          <p:cNvPicPr/>
          <p:nvPr/>
        </p:nvPicPr>
        <p:blipFill>
          <a:blip r:embed="rId1"/>
          <a:stretch/>
        </p:blipFill>
        <p:spPr>
          <a:xfrm>
            <a:off x="900000" y="836640"/>
            <a:ext cx="7310520" cy="5118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омандная эконо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48360" y="836640"/>
            <a:ext cx="399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се решения                     по вопросам производства                      и распределения принимаются центральными (государственными) орг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сталин 01"/>
          <p:cNvPicPr/>
          <p:nvPr/>
        </p:nvPicPr>
        <p:blipFill>
          <a:blip r:embed="rId1"/>
          <a:stretch/>
        </p:blipFill>
        <p:spPr>
          <a:xfrm>
            <a:off x="179280" y="836640"/>
            <a:ext cx="4826160" cy="354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" name="Picture 6" descr="фидель"/>
          <p:cNvPicPr/>
          <p:nvPr/>
        </p:nvPicPr>
        <p:blipFill>
          <a:blip r:embed="rId2"/>
          <a:stretch/>
        </p:blipFill>
        <p:spPr>
          <a:xfrm>
            <a:off x="6588000" y="4503600"/>
            <a:ext cx="2354400" cy="2354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3" name="Picture 7" descr="Mao_Zedong_portrait"/>
          <p:cNvPicPr/>
          <p:nvPr/>
        </p:nvPicPr>
        <p:blipFill>
          <a:blip r:embed="rId3"/>
          <a:stretch/>
        </p:blipFill>
        <p:spPr>
          <a:xfrm>
            <a:off x="4643280" y="4508640"/>
            <a:ext cx="1775160" cy="2349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1332000" y="5589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ССР, КНР, КУБА, СЕВ.КОРЕЯ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Рыночная эконо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00720" y="90792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просы что, для кого                   и как производить решаются самостоятельно производителем, ориентирующимся                        на соотношения спроса              и предложения на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конв форда"/>
          <p:cNvPicPr/>
          <p:nvPr/>
        </p:nvPicPr>
        <p:blipFill>
          <a:blip r:embed="rId1"/>
          <a:stretch/>
        </p:blipFill>
        <p:spPr>
          <a:xfrm>
            <a:off x="179280" y="836640"/>
            <a:ext cx="4140360" cy="344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8" name="Picture 7" descr="Адам Смит"/>
          <p:cNvPicPr/>
          <p:nvPr/>
        </p:nvPicPr>
        <p:blipFill>
          <a:blip r:embed="rId2"/>
          <a:stretch/>
        </p:blipFill>
        <p:spPr>
          <a:xfrm>
            <a:off x="6943680" y="3789360"/>
            <a:ext cx="1949400" cy="2908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1258920" y="4869000"/>
            <a:ext cx="5543640" cy="174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дам Смит – один из основоположников современной экономической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НЕВИДИМАЯ РУКА РЫ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ль рынка в эконом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ЫНОК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совокупность условий, благодаря которым покупатели и продавцы товара (услуги) вступают в контакт друг с другом с целью покупки или продажи этого товара (услуг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Картинка 5 из 35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659480"/>
            <a:ext cx="3311280" cy="21985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63" name="Text Box 8"/>
          <p:cNvSpPr/>
          <p:nvPr/>
        </p:nvSpPr>
        <p:spPr>
          <a:xfrm>
            <a:off x="611280" y="256536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ов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любая вещь, которая участвует в свободном обмене на другие вещи, продукт труда, способный удовлетворить человеческую потребность и специально произведённый                          для обм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0_12629_f8c7424d_XL"/>
          <p:cNvPicPr/>
          <p:nvPr/>
        </p:nvPicPr>
        <p:blipFill>
          <a:blip r:embed="rId3"/>
          <a:stretch/>
        </p:blipFill>
        <p:spPr>
          <a:xfrm>
            <a:off x="4643280" y="4654440"/>
            <a:ext cx="3672000" cy="220356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ль рынка в эконом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1727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2ffe2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ПРОС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желание купить конкретный товар или услугу по конкретной цене в определенный период времени, подкрепляемое готовностью оплатить покуп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2637000"/>
            <a:ext cx="8064720" cy="2234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ecffff"/>
              </a:gs>
              <a:gs pos="100000">
                <a:srgbClr val="ccffff"/>
              </a:gs>
            </a:gsLst>
            <a:lin ang="5400000"/>
          </a:gra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Индивидуальный спрос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спрос одного лица или по отдельным това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овокупнный спрос</a:t>
            </a: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рос на всех рынках данного товара или на все производимые и продаваемые тов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39640" y="765000"/>
            <a:ext cx="8064720" cy="59148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50000">
                <a:srgbClr val="ffff99"/>
              </a:gs>
              <a:gs pos="100000">
                <a:srgbClr val="ffffea"/>
              </a:gs>
            </a:gsLst>
            <a:lin ang="5400000"/>
          </a:gradFill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КОН 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чина спроса находится в обратной зависимости от изменения цены единиц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971640" y="3357360"/>
            <a:ext cx="3671640" cy="259236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1116000" y="3141720"/>
            <a:ext cx="3311640" cy="295128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716360" y="3789360"/>
            <a:ext cx="36720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на единицы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572000" y="5084640"/>
            <a:ext cx="36720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прос на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ль рынка в эконом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1726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2ffe2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желание производителя произвести и предложить к продаже на рынке свои товары по конкретным ценам из ряда возможных цен в течении определе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9640" y="2492280"/>
            <a:ext cx="806472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ec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ложение зависит от изменения затрат производителя на оплату аренды помещений, сырья, выплаты заработной платы и налогов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деньги 2"/>
          <p:cNvPicPr/>
          <p:nvPr/>
        </p:nvPicPr>
        <p:blipFill>
          <a:blip r:embed="rId1"/>
          <a:stretch/>
        </p:blipFill>
        <p:spPr>
          <a:xfrm>
            <a:off x="2556000" y="3724200"/>
            <a:ext cx="4176720" cy="3133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ль рынка в эконом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1052640"/>
            <a:ext cx="8064360" cy="54882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50000">
                <a:srgbClr val="ffff99"/>
              </a:gs>
              <a:gs pos="100000">
                <a:srgbClr val="ffffea"/>
              </a:gs>
            </a:gsLst>
            <a:lin ang="5400000"/>
          </a:gradFill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КОН 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 возрастает с увеличением цены и падает при ее сн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116000" y="3141720"/>
            <a:ext cx="3311640" cy="2951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332000" y="3141720"/>
            <a:ext cx="3024000" cy="194292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572000" y="4365720"/>
            <a:ext cx="36720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на единицы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572000" y="5084640"/>
            <a:ext cx="36720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ложение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07:14Z</dcterms:created>
  <dc:creator>Нафор Маточ</dc:creator>
  <dc:description/>
  <dc:language>en-US</dc:language>
  <cp:lastModifiedBy>Администратор</cp:lastModifiedBy>
  <dcterms:modified xsi:type="dcterms:W3CDTF">2023-08-05T18:06:58Z</dcterms:modified>
  <cp:revision>149</cp:revision>
  <dc:subject/>
  <dc:title>Рыночные отношения в экономике</dc:title>
</cp:coreProperties>
</file>