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A5F-91DD-46B0-9B0A-62A4D89B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4F0-2637-4199-ADC4-60AF1BAB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C02-8B1D-4469-8D89-5E6121D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991-ABF2-4C95-9A15-CA02A05A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257-3ECF-4F97-8257-5BFE5D3F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7DA-B6E2-48C0-B4A5-F69826F8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0FB-0452-44E6-AFDC-B28FC38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029-8750-4B9C-BF2B-0B3DD73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27-AE99-496B-B0C9-35ECFBA9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9E6-695B-45D2-AFDF-9EB1A2F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4FB-8F90-4CC3-A327-8114F17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DA7-3E4E-4990-98BA-D247B0B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efc"/>
            </a:gs>
            <a:gs pos="50000">
              <a:srgbClr val="def8fe"/>
            </a:gs>
            <a:gs pos="100000">
              <a:srgbClr val="b2e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3D9-5659-4900-AC2F-E4C29426E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ной шар и шарики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8600" y="609480"/>
            <a:ext cx="85345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Экономический рост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и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звитие</a:t>
            </a:r>
            <a:endParaRPr b="1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Экстенсивный и интенсивный р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10670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жный фактор интенсивного роста – повышение квалификации рабо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80880" y="2666880"/>
            <a:ext cx="8305920" cy="10670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жный фактор интенсивного роста – рациональное распределе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80880" y="3962520"/>
            <a:ext cx="8305920" cy="190476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жный фактор интенсивного роста – экономия на масштабе (крупное предприятие работает эффективнее, чем группа мелки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Экономическое развит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се страны мира по уровню развития принято делить н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звитые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траны с переходной эконом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азвивающиеся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657600" y="3962520"/>
            <a:ext cx="274320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щиеся страны:                                       «Порочный круг бед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age012"/>
          <p:cNvPicPr/>
          <p:nvPr/>
        </p:nvPicPr>
        <p:blipFill>
          <a:blip r:embed="rId1"/>
          <a:stretch/>
        </p:blipFill>
        <p:spPr>
          <a:xfrm>
            <a:off x="6561000" y="3429000"/>
            <a:ext cx="2264040" cy="3238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3" name="Picture 6" descr="solnceVozdyxIvoda"/>
          <p:cNvPicPr/>
          <p:nvPr/>
        </p:nvPicPr>
        <p:blipFill>
          <a:blip r:embed="rId2"/>
          <a:stretch/>
        </p:blipFill>
        <p:spPr>
          <a:xfrm>
            <a:off x="457200" y="3962520"/>
            <a:ext cx="3048120" cy="203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Экономическое развит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514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кономическое развитие – это кардинальные изменения в хозяйственной жизни страны, преобразования                                 в структуре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i?id=4bb9a5f7a97b29a62f2ce86b6f817d6a-l&amp;n=13"/>
          <p:cNvPicPr/>
          <p:nvPr/>
        </p:nvPicPr>
        <p:blipFill>
          <a:blip r:embed="rId1"/>
          <a:stretch/>
        </p:blipFill>
        <p:spPr>
          <a:xfrm>
            <a:off x="1600200" y="2895480"/>
            <a:ext cx="6629400" cy="3821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Picture 11" descr="i?id=17497236d81874fdce07bee42b523950-l&amp;n=13"/>
          <p:cNvPicPr/>
          <p:nvPr/>
        </p:nvPicPr>
        <p:blipFill>
          <a:blip r:embed="rId2"/>
          <a:stretch/>
        </p:blipFill>
        <p:spPr>
          <a:xfrm>
            <a:off x="2057400" y="2895480"/>
            <a:ext cx="5715000" cy="379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Экономический ци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ttach"/>
          <p:cNvPicPr/>
          <p:nvPr/>
        </p:nvPicPr>
        <p:blipFill>
          <a:blip r:embed="rId1"/>
          <a:stretch/>
        </p:blipFill>
        <p:spPr>
          <a:xfrm>
            <a:off x="304920" y="3505320"/>
            <a:ext cx="1904760" cy="2689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0" name="Text Box 5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КА РАЗВИВАЕТСЯ ЦИКЛИЧНО.                      Резкое падение производства называют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ЭКОНОМИЧЕСКИМ КРИЗИСОМ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4920" y="2133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экономический кризис произошел в Англии  в 1825 г., кризис 1857 г. затронул все ведущие страны мира (первый мировой экономический криз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38280" y="35053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еизбежность экономических кризисов при капитализме была научно доказана еще К.Марк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депрессия 04"/>
          <p:cNvPicPr/>
          <p:nvPr/>
        </p:nvPicPr>
        <p:blipFill>
          <a:blip r:embed="rId2"/>
          <a:stretch/>
        </p:blipFill>
        <p:spPr>
          <a:xfrm>
            <a:off x="6553080" y="4419720"/>
            <a:ext cx="2044800" cy="226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Экономический ци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685800" y="2057400"/>
            <a:ext cx="1905120" cy="2286000"/>
          </a:xfrm>
          <a:prstGeom prst="line">
            <a:avLst/>
          </a:prstGeom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590920" y="2133720"/>
            <a:ext cx="380880" cy="152388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971800" y="3657600"/>
            <a:ext cx="1447920" cy="0"/>
          </a:xfrm>
          <a:prstGeom prst="line">
            <a:avLst/>
          </a:prstGeom>
          <a:ln w="73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4419720" y="3047760"/>
            <a:ext cx="1371600" cy="609480"/>
          </a:xfrm>
          <a:prstGeom prst="line">
            <a:avLst/>
          </a:prstGeom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5791320" y="1219320"/>
            <a:ext cx="1523880" cy="1828800"/>
          </a:xfrm>
          <a:prstGeom prst="line">
            <a:avLst/>
          </a:prstGeom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457200" y="2057400"/>
            <a:ext cx="6248520" cy="76320"/>
          </a:xfrm>
          <a:prstGeom prst="line">
            <a:avLst/>
          </a:prstGeom>
          <a:ln w="475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6781680" y="2057400"/>
            <a:ext cx="1752840" cy="0"/>
          </a:xfrm>
          <a:prstGeom prst="line">
            <a:avLst/>
          </a:prstGeom>
          <a:ln w="475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057400" y="4495680"/>
            <a:ext cx="380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590920" y="4495680"/>
            <a:ext cx="380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352680" y="4495680"/>
            <a:ext cx="38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281952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V="1">
            <a:off x="3581280" y="373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V="1">
            <a:off x="495288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457200" y="54864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подъем     2. Экономический спад (рец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прессия                             4. Ож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Начало нов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7315200" y="1219320"/>
            <a:ext cx="228600" cy="236196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>
            <a:off x="7543800" y="3581280"/>
            <a:ext cx="990720" cy="0"/>
          </a:xfrm>
          <a:prstGeom prst="line">
            <a:avLst/>
          </a:prstGeom>
          <a:ln w="73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 flipV="1">
            <a:off x="8534520" y="3200400"/>
            <a:ext cx="152280" cy="380880"/>
          </a:xfrm>
          <a:prstGeom prst="line">
            <a:avLst/>
          </a:prstGeom>
          <a:ln w="73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 flipH="1">
            <a:off x="380520" y="4343400"/>
            <a:ext cx="304920" cy="0"/>
          </a:xfrm>
          <a:prstGeom prst="line">
            <a:avLst/>
          </a:prstGeom>
          <a:ln w="73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6629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6629400" y="4876920"/>
            <a:ext cx="380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Экономический ци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880" y="609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пнейший мировой экономический кризис ХХ века 1929-1933 гг. – ВЕЛИКАЯ ДЕПРЕ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Рисунок9"/>
          <p:cNvPicPr/>
          <p:nvPr/>
        </p:nvPicPr>
        <p:blipFill>
          <a:blip r:embed="rId1"/>
          <a:stretch/>
        </p:blipFill>
        <p:spPr>
          <a:xfrm>
            <a:off x="228600" y="1371600"/>
            <a:ext cx="3011400" cy="45766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0" name="Text Box 8"/>
          <p:cNvSpPr/>
          <p:nvPr/>
        </p:nvSpPr>
        <p:spPr>
          <a:xfrm>
            <a:off x="716040" y="5981760"/>
            <a:ext cx="1976040" cy="824040"/>
          </a:xfrm>
          <a:prstGeom prst="rect">
            <a:avLst/>
          </a:prstGeom>
          <a:solidFill>
            <a:srgbClr val="fdeda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.Белл - «Ко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мпан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ргует ябло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Рисунок2"/>
          <p:cNvPicPr/>
          <p:nvPr/>
        </p:nvPicPr>
        <p:blipFill>
          <a:blip r:embed="rId2"/>
          <a:stretch/>
        </p:blipFill>
        <p:spPr>
          <a:xfrm>
            <a:off x="6781680" y="4781520"/>
            <a:ext cx="2133720" cy="2076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2" name="Text Box 10"/>
          <p:cNvSpPr/>
          <p:nvPr/>
        </p:nvSpPr>
        <p:spPr>
          <a:xfrm>
            <a:off x="5067360" y="5318280"/>
            <a:ext cx="1698480" cy="1310760"/>
          </a:xfrm>
          <a:prstGeom prst="rect">
            <a:avLst/>
          </a:prstGeom>
          <a:solidFill>
            <a:srgbClr val="fdeda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нкн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50 млрд.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00 млн. ма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Рисунок10"/>
          <p:cNvPicPr/>
          <p:nvPr/>
        </p:nvPicPr>
        <p:blipFill>
          <a:blip r:embed="rId3"/>
          <a:stretch/>
        </p:blipFill>
        <p:spPr>
          <a:xfrm>
            <a:off x="3352680" y="1366920"/>
            <a:ext cx="4876920" cy="33354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7828200" y="2971800"/>
            <a:ext cx="1301040" cy="580680"/>
          </a:xfrm>
          <a:prstGeom prst="rect">
            <a:avLst/>
          </a:prstGeom>
          <a:solidFill>
            <a:srgbClr val="fdeda9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изис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ью-Йор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28600" y="1676520"/>
            <a:ext cx="8610480" cy="265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дение производства в США продолжалось  4 года подряд, реальный ВВП упал на 40%, доход на душу населения снизился на 30%, каждый четвертый американец потерял работу, многие разорились и пополнили ряды бедняков и ни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мелочь в руке"/>
          <p:cNvPicPr/>
          <p:nvPr/>
        </p:nvPicPr>
        <p:blipFill>
          <a:blip r:embed="rId1"/>
          <a:stretch/>
        </p:blipFill>
        <p:spPr>
          <a:xfrm>
            <a:off x="2286000" y="838080"/>
            <a:ext cx="4791240" cy="571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Изучить параграф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Знать объяснение основных тер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Ответить на вопросы в конце параграфа (у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онятие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акторы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кстенсивный и интенсивный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коном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кономический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?id=61b2a44ca75241c787f7ec128c00a48e-l&amp;n=13"/>
          <p:cNvPicPr/>
          <p:nvPr/>
        </p:nvPicPr>
        <p:blipFill>
          <a:blip r:embed="rId1"/>
          <a:stretch/>
        </p:blipFill>
        <p:spPr>
          <a:xfrm>
            <a:off x="2286000" y="3505320"/>
            <a:ext cx="4724280" cy="319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Понятие экономическ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80880" y="8380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й рост – одна из основных целей любого государства и важнейший критерий прогресса экономики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2209680"/>
            <a:ext cx="8458200" cy="11912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ческий рост  - долговременное увеличение реального ВВП как в абсолютных значениях,                   так и в расчете на каждого ж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37339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АЖН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лько РЕАЛЬНЫЙ  В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считывать на ДУШУ 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ОЛГОС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posledstviya-myasnoy-industrii2"/>
          <p:cNvPicPr/>
          <p:nvPr/>
        </p:nvPicPr>
        <p:blipFill>
          <a:blip r:embed="rId1"/>
          <a:stretch/>
        </p:blipFill>
        <p:spPr>
          <a:xfrm>
            <a:off x="6705720" y="3581280"/>
            <a:ext cx="2095560" cy="3057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Понятие экономического рос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990720"/>
            <a:ext cx="8382240" cy="82548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й рост измеряется среднегодовыми темпами прироста ВВП, выраженными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0880" y="1981080"/>
            <a:ext cx="8305920" cy="26845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имер расч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еальный ВВП за данный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инус Реальный ВВП за предыдущий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ленный на реальный ВВП предыдуще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множить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80880" y="4876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м больше реальный ВВП страны тем меньше прирост. (парадокс? ПОРАЗМЫШЛЯЙТЕ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457200" y="57913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реднем прирост ВВП развитых стран 2-3%,                                         а развивающихся 5-7 (и даже 10%). Означает ли это,                                 что развивающиеся скоро догонят и перегонят разви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2. Экономика и уровень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692280"/>
            <a:ext cx="838188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П некоторых стран 2018 г. (в млн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57360"/>
          <a:ext cx="4475160" cy="4568760"/>
        </p:xfrm>
        <a:graphic>
          <a:graphicData uri="http://schemas.openxmlformats.org/drawingml/2006/table">
            <a:tbl>
              <a:tblPr/>
              <a:tblGrid>
                <a:gridCol w="2082960"/>
                <a:gridCol w="2392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.284.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263.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513.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Ф (1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267.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.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адж-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6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рш.о-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увал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3"/>
          <p:cNvSpPr/>
          <p:nvPr/>
        </p:nvSpPr>
        <p:spPr>
          <a:xfrm>
            <a:off x="468360" y="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1. Понятие экономическ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4" descr="00290-24"/>
          <p:cNvPicPr/>
          <p:nvPr/>
        </p:nvPicPr>
        <p:blipFill>
          <a:blip r:embed="rId1"/>
          <a:stretch/>
        </p:blipFill>
        <p:spPr>
          <a:xfrm>
            <a:off x="5003640" y="1268280"/>
            <a:ext cx="3988080" cy="2633760"/>
          </a:xfrm>
          <a:prstGeom prst="rect">
            <a:avLst/>
          </a:prstGeom>
          <a:ln w="34920">
            <a:solidFill>
              <a:srgbClr val="000080"/>
            </a:solidFill>
            <a:miter/>
          </a:ln>
        </p:spPr>
      </p:pic>
      <p:pic>
        <p:nvPicPr>
          <p:cNvPr id="62" name="Picture 35" descr="new_york_city_attractions_new_york_city_shopping_freecomputerdesktopwallpaper_1600"/>
          <p:cNvPicPr/>
          <p:nvPr/>
        </p:nvPicPr>
        <p:blipFill>
          <a:blip r:embed="rId2"/>
          <a:stretch/>
        </p:blipFill>
        <p:spPr>
          <a:xfrm>
            <a:off x="5076720" y="3995640"/>
            <a:ext cx="3816360" cy="2862360"/>
          </a:xfrm>
          <a:prstGeom prst="rect">
            <a:avLst/>
          </a:prstGeom>
          <a:ln w="349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Факторы экономического р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761760"/>
            <a:ext cx="4038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акторы производств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49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ЗЕМЛЯ  (Природные ресур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209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ТРУД (наличие качественной рабочей си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2819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КАПИТАЛ (оборудование, зда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1264170099"/>
          <p:cNvPicPr/>
          <p:nvPr/>
        </p:nvPicPr>
        <p:blipFill>
          <a:blip r:embed="rId1"/>
          <a:stretch/>
        </p:blipFill>
        <p:spPr>
          <a:xfrm>
            <a:off x="152280" y="3352680"/>
            <a:ext cx="3038760" cy="3303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9" name="Picture 9" descr="конв форда"/>
          <p:cNvPicPr/>
          <p:nvPr/>
        </p:nvPicPr>
        <p:blipFill>
          <a:blip r:embed="rId2"/>
          <a:stretch/>
        </p:blipFill>
        <p:spPr>
          <a:xfrm>
            <a:off x="3276720" y="3886200"/>
            <a:ext cx="3047760" cy="253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0" name="Picture 13" descr="i?id=11ae8293b360097374c1b774a5dbc693-l&amp;n=13"/>
          <p:cNvPicPr/>
          <p:nvPr/>
        </p:nvPicPr>
        <p:blipFill>
          <a:blip r:embed="rId3"/>
          <a:stretch/>
        </p:blipFill>
        <p:spPr>
          <a:xfrm>
            <a:off x="6400800" y="3352680"/>
            <a:ext cx="2525760" cy="3303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Экстенсивный и интенсивный р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Экстенсивный р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увеличение ВВП      за счет расширения масштабов использования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80880" y="3048120"/>
            <a:ext cx="830592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Интенсивный р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увеличение ВВП        за счет качественного улучшения факторов производства и повышения их эффе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080" y="5181480"/>
            <a:ext cx="746784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ПРОБУЙТЕ  ДАТЬ  ОЦЕНКУ  КАЖДОМУ                  ИЗ  ЭТИХ ПУТ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Экстенсивный и интенсивный р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0880" y="1295280"/>
            <a:ext cx="8305920" cy="6098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нсивный рост зависит от Н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0880" y="2590920"/>
            <a:ext cx="190512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09480" y="2819520"/>
            <a:ext cx="1524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37 кг/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133720" y="2057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002 г. Производство пше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819520" y="2590920"/>
            <a:ext cx="190476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048120" y="2743200"/>
            <a:ext cx="1523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878 кг/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6324480" y="2590920"/>
            <a:ext cx="236232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477120" y="28195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ол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80880" y="4876920"/>
            <a:ext cx="190512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2819520" y="4876920"/>
            <a:ext cx="190476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6324480" y="4876920"/>
            <a:ext cx="1905120" cy="1752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44197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ИЗВОД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609480" y="5257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9,6 цент/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048120" y="5334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0,3 цент/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55308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7,4 цент/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380880" y="5105520"/>
            <a:ext cx="8305920" cy="11912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изводительность труда в сельском хозяйстве России 1,3% от производительности труда в с/х Голла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Экстенсивный и интенсивный р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6672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0 г. Россия занимала первое место в мире по добыче природного газа, второе – по добыче нефти, бурого угля, четвертое по производству электроэнергии, чугуна, стали, железной руды, хлопчатобумажных тка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80880" y="4191120"/>
            <a:ext cx="8305920" cy="2438280"/>
          </a:xfrm>
          <a:prstGeom prst="rect">
            <a:avLst/>
          </a:prstGeom>
          <a:solidFill>
            <a:srgbClr val="ffff99"/>
          </a:solidFill>
          <a:ln w="349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занимает достаточно слабые позиции в мире в производстве высокотехнологичной продукции.        Доля такой продукции в нашем экспорте составляет 3%, в США 44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фор Маточ</dc:creator>
  <dc:description/>
  <dc:language>en-US</dc:language>
  <cp:lastModifiedBy>Администратор</cp:lastModifiedBy>
  <dcterms:modified xsi:type="dcterms:W3CDTF">2023-08-05T18:05:27Z</dcterms:modified>
  <cp:revision>129</cp:revision>
  <dc:subject/>
  <dc:title>Экономический рост и развит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