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5FC-BDF4-4AD8-9675-CEF8B9A8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A83-3959-4C0A-9D48-16F3F9EE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ACE-F31B-416A-A521-F809C237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588-5334-45D1-9103-56C8851B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6AC-4765-463A-BF33-FFFA6FB4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C5D-BE8E-468A-B4E0-9F49ACA1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6F0-C030-4C11-A963-29444295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402-E86C-4D3A-A822-B57BEA40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918-7EE2-4FF1-B1CC-80D0B3CF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4CE-4A4A-4612-A952-52E13741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E83-D3F8-423E-B445-A57E1F32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FCB-8598-46B0-9638-E461491C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7F0D-4A52-4B79-AC11-2C3B62FB4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resentation-history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395280" y="3645000"/>
            <a:ext cx="8353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ерсальско-</a:t>
            </a:r>
            <a:endParaRPr b="0" lang="en-US" sz="1800" spc="1" strike="noStrike">
              <a:ln cap="sq"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ашингтонская </a:t>
            </a:r>
            <a:endParaRPr b="0" lang="en-US" sz="1800" spc="1" strike="noStrike">
              <a:ln cap="sq"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истема</a:t>
            </a:r>
            <a:endParaRPr b="0" lang="en-US" sz="1800" spc="1" strike="noStrike">
              <a:ln cap="sq"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12" descr="William_Orpen_%E2%80%93_The_Signing_of_Peace_in_the_Hall_of_Mirrors,_Versailles_1919,_Ausschnitt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5. Вашингтонская конфере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79280" y="4941720"/>
            <a:ext cx="878544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1921-1922 гг. в Вашингтоне состоялась конференция по ограничению вооружений в бассейне Тихого океана. Она урегулировала отношения с Китаем, и установила предельный тоннаж для военных флотов США, Англии, Франции, Италии и Яп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308720" y="1989000"/>
            <a:ext cx="1657440" cy="91692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дание Конгресса и Сената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7887_603x354"/>
          <p:cNvPicPr/>
          <p:nvPr/>
        </p:nvPicPr>
        <p:blipFill>
          <a:blip r:embed="rId1"/>
          <a:stretch/>
        </p:blipFill>
        <p:spPr>
          <a:xfrm>
            <a:off x="395280" y="692280"/>
            <a:ext cx="6912000" cy="40608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5. Вашингтонская конфере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4719240" y="6199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граничения тоннаж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907920"/>
          <a:ext cx="8280360" cy="2200320"/>
        </p:xfrm>
        <a:graphic>
          <a:graphicData uri="http://schemas.openxmlformats.org/drawingml/2006/table">
            <a:tbl>
              <a:tblPr/>
              <a:tblGrid>
                <a:gridCol w="2611440"/>
                <a:gridCol w="3497400"/>
                <a:gridCol w="2171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тра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рупные боевые кораб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вианосц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  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еликобри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25000 (533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5000 (137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  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Ш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25000 (533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5000 (137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  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Япо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15000 (320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1000 (82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  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ран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5000 (178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0000 (61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  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та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5000 (178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0000 (61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59"/>
          <p:cNvSpPr/>
          <p:nvPr/>
        </p:nvSpPr>
        <p:spPr>
          <a:xfrm>
            <a:off x="801720" y="3043440"/>
            <a:ext cx="7561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30000">
                <a:solidFill>
                  <a:srgbClr val="000099"/>
                </a:solidFill>
                <a:latin typeface="Arial"/>
              </a:rPr>
              <a:t>(в скобках – данные пересчитанные на метрические тонны, 1 английская (длинная) тонна = 1,016 метрической тонны)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Флаг_Великобритании.svg"/>
          <p:cNvPicPr/>
          <p:nvPr/>
        </p:nvPicPr>
        <p:blipFill>
          <a:blip r:embed="rId1"/>
          <a:stretch/>
        </p:blipFill>
        <p:spPr>
          <a:xfrm>
            <a:off x="395280" y="1413000"/>
            <a:ext cx="228600" cy="11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Флаг_США.svg"/>
          <p:cNvPicPr/>
          <p:nvPr/>
        </p:nvPicPr>
        <p:blipFill>
          <a:blip r:embed="rId2"/>
          <a:stretch/>
        </p:blipFill>
        <p:spPr>
          <a:xfrm>
            <a:off x="395280" y="177336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Флаг_Японии.svg"/>
          <p:cNvPicPr/>
          <p:nvPr/>
        </p:nvPicPr>
        <p:blipFill>
          <a:blip r:embed="rId3"/>
          <a:stretch/>
        </p:blipFill>
        <p:spPr>
          <a:xfrm>
            <a:off x="395280" y="213372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Флаг_Франции.svg"/>
          <p:cNvPicPr/>
          <p:nvPr/>
        </p:nvPicPr>
        <p:blipFill>
          <a:blip r:embed="rId4"/>
          <a:stretch/>
        </p:blipFill>
        <p:spPr>
          <a:xfrm>
            <a:off x="395280" y="2492280"/>
            <a:ext cx="228600" cy="152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1" descr="Флаг_Италии.svg"/>
          <p:cNvPicPr/>
          <p:nvPr/>
        </p:nvPicPr>
        <p:blipFill>
          <a:blip r:embed="rId5"/>
          <a:stretch/>
        </p:blipFill>
        <p:spPr>
          <a:xfrm>
            <a:off x="395280" y="2852640"/>
            <a:ext cx="228600" cy="152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2" descr=""/>
          <p:cNvPicPr/>
          <p:nvPr/>
        </p:nvPicPr>
        <p:blipFill>
          <a:blip r:embed="rId6"/>
          <a:stretch/>
        </p:blipFill>
        <p:spPr>
          <a:xfrm>
            <a:off x="1979640" y="3645000"/>
            <a:ext cx="5400720" cy="3100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6. Изменение Версальск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419640" y="836640"/>
            <a:ext cx="56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ерсальско-Вашингтонская система сохранилась вплоть до середины 30-х гг. Она держалась на международном праве и военной силе побе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о проигравшие страны были     не довольны установившимися нормами. Вновь образовавшиеся государства хотели передела границ, а СССР версальскую систему не признавал.                           Это создавало угрозу безопасности для всей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68360" y="5516640"/>
            <a:ext cx="2449440" cy="119124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ерм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 гн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параций (карикату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Рисунок2"/>
          <p:cNvPicPr/>
          <p:nvPr/>
        </p:nvPicPr>
        <p:blipFill>
          <a:blip r:embed="rId1"/>
          <a:stretch/>
        </p:blipFill>
        <p:spPr>
          <a:xfrm>
            <a:off x="108000" y="907920"/>
            <a:ext cx="3176640" cy="46022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6. Изменение Версаль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8000" y="3844800"/>
            <a:ext cx="892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раны победители вынуждены были пойти                              на некоторые уст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1923 г. Германии возвратили Рур. В 1924 г. начал действовать «план Дауэса» - размеры выплат Германии снизились и ей предоставили кре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1925 г. в Локкарно были гарантированы западные границы Германии, а в 1926 г. она была принята в число членов Лиги Н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516720" y="692280"/>
            <a:ext cx="2449440" cy="146556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дставители Германии, Англии и Франции на переговорах в Лока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Bundesarchiv Bild 183-R03618, Locarno, Gustav Stresemann, Chamberlain, Briand.jpg"/>
          <p:cNvPicPr/>
          <p:nvPr/>
        </p:nvPicPr>
        <p:blipFill>
          <a:blip r:embed="rId1"/>
          <a:stretch/>
        </p:blipFill>
        <p:spPr>
          <a:xfrm>
            <a:off x="2195640" y="620640"/>
            <a:ext cx="4392360" cy="3148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Основные даты и собы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08000" y="765000"/>
            <a:ext cx="892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919 г. – подписание Версальского догов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922 г. – подписание Вашингтонского морского догов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923 г. – Генуэзская конференция и подписание Рапалльского дого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236000" y="4365720"/>
            <a:ext cx="1477800" cy="91692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вет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лег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Гену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Bundesarchiv_Bild_183-R14433_Vertrag_von_Rapallo"/>
          <p:cNvPicPr/>
          <p:nvPr/>
        </p:nvPicPr>
        <p:blipFill>
          <a:blip r:embed="rId1"/>
          <a:stretch/>
        </p:blipFill>
        <p:spPr>
          <a:xfrm>
            <a:off x="2124000" y="3262320"/>
            <a:ext cx="5112000" cy="34704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44704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. Изучить параграф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2. Ответить на вопросы в конце параграфа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3. Выучить основные д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konferentsiya"/>
          <p:cNvPicPr/>
          <p:nvPr/>
        </p:nvPicPr>
        <p:blipFill>
          <a:blip r:embed="rId1"/>
          <a:stretch/>
        </p:blipFill>
        <p:spPr>
          <a:xfrm>
            <a:off x="1666800" y="2852640"/>
            <a:ext cx="5832720" cy="3700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496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. Планы послевоенного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2. Парижская мирная 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3. Версаль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4. Дипломатическое признание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5. Вашингтонская 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6. Изменение Версаль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89548"/>
          <p:cNvPicPr/>
          <p:nvPr/>
        </p:nvPicPr>
        <p:blipFill>
          <a:blip r:embed="rId1"/>
          <a:stretch/>
        </p:blipFill>
        <p:spPr>
          <a:xfrm>
            <a:off x="2987640" y="4289400"/>
            <a:ext cx="3745080" cy="25686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ланы послевоенного устройства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79280" y="4210200"/>
            <a:ext cx="878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конце Первой мировой войны страны участницы сделали ряд заявлений о своих це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оссия заявила, что она отказывается от каких-либо территорий и денежных выпл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нтанта заявила, что хочет изменить карту Европы по национальному принципу - в частности вернуть Франции Эльзас и Лотаринг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108000" y="3141720"/>
            <a:ext cx="2016000" cy="58068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езидент США Вудро Вильс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28"/>
          <p:cNvPicPr/>
          <p:nvPr/>
        </p:nvPicPr>
        <p:blipFill>
          <a:blip r:embed="rId1"/>
          <a:stretch/>
        </p:blipFill>
        <p:spPr>
          <a:xfrm>
            <a:off x="179280" y="692280"/>
            <a:ext cx="1935360" cy="2449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50" name="Picture 18" descr="Georges Clemenceau 1.jpg"/>
          <p:cNvPicPr/>
          <p:nvPr/>
        </p:nvPicPr>
        <p:blipFill>
          <a:blip r:embed="rId2"/>
          <a:stretch/>
        </p:blipFill>
        <p:spPr>
          <a:xfrm>
            <a:off x="2340000" y="692280"/>
            <a:ext cx="1863720" cy="2449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1" name="Text Box 19"/>
          <p:cNvSpPr/>
          <p:nvPr/>
        </p:nvSpPr>
        <p:spPr>
          <a:xfrm>
            <a:off x="2195640" y="3141720"/>
            <a:ext cx="2160360" cy="82404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емьер-министр Франции                Жорж Клеман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1" descr="David Lloyd George.jpg"/>
          <p:cNvPicPr/>
          <p:nvPr/>
        </p:nvPicPr>
        <p:blipFill>
          <a:blip r:embed="rId3"/>
          <a:stretch/>
        </p:blipFill>
        <p:spPr>
          <a:xfrm>
            <a:off x="4643280" y="692280"/>
            <a:ext cx="1876680" cy="2449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3" name="Text Box 22"/>
          <p:cNvSpPr/>
          <p:nvPr/>
        </p:nvSpPr>
        <p:spPr>
          <a:xfrm>
            <a:off x="4427640" y="3141720"/>
            <a:ext cx="2232000" cy="82404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емьер-министр Великобритании           Ллойд Джорд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5" descr=""/>
          <p:cNvPicPr/>
          <p:nvPr/>
        </p:nvPicPr>
        <p:blipFill>
          <a:blip r:embed="rId4"/>
          <a:stretch/>
        </p:blipFill>
        <p:spPr>
          <a:xfrm>
            <a:off x="7020000" y="692280"/>
            <a:ext cx="1731960" cy="2449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5" name="Text Box 26"/>
          <p:cNvSpPr/>
          <p:nvPr/>
        </p:nvSpPr>
        <p:spPr>
          <a:xfrm>
            <a:off x="6659640" y="3141720"/>
            <a:ext cx="2232000" cy="82404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емьер-министр Италии          Витторио Орлан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ланы послевоенного устройства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79280" y="3860640"/>
            <a:ext cx="878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езидент США В.Вильсон выступил с «14 пунктами». Они предусматривали: свободу торговли и судоходства, сокращение вооружений, возвращение России в мировое сообщество, демократическое самоопределение народов, создание Лиги Наций. После капитуляции Германии, большинство требований Антанты было выполнено (за исключением раздела Европы за счет проигравши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659640" y="1413000"/>
            <a:ext cx="2232000" cy="64260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зидент США Вудро Виль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wilson2-998x697"/>
          <p:cNvPicPr/>
          <p:nvPr/>
        </p:nvPicPr>
        <p:blipFill>
          <a:blip r:embed="rId1"/>
          <a:stretch/>
        </p:blipFill>
        <p:spPr>
          <a:xfrm>
            <a:off x="2195640" y="692280"/>
            <a:ext cx="4464000" cy="31176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2. Парижская мирная конфере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79280" y="3789360"/>
            <a:ext cx="878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январе 1919 г. представители Антанты собрались в Париже. Антанта не признала режим большевиков в России, и направила туда свои войска. Великобритания не хотела распространять принцип самоопределения наций на свои колонии, а, наоборот, стремилась их расширить. Наиболее агрессивно был настроен премьер-министр Франции Ж.Клемансо, опасавшийся восстановления германской м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6659640" y="1628640"/>
            <a:ext cx="1584360" cy="64260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Большая четвер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9971969_orig"/>
          <p:cNvPicPr/>
          <p:nvPr/>
        </p:nvPicPr>
        <p:blipFill>
          <a:blip r:embed="rId1"/>
          <a:stretch/>
        </p:blipFill>
        <p:spPr>
          <a:xfrm>
            <a:off x="2627280" y="692280"/>
            <a:ext cx="4032360" cy="30258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2. Парижская мирная конфере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572000" y="836640"/>
            <a:ext cx="439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нглия хотела сохранить Германию как противовес Франции, а В.Вильсон настаивал на выполнении выдвинутых им принцип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 смотря на разногласия между союзниками, в своем стремлении к быстрейшему заключению мира они были ед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8 июня 1919 г.                          в Версале мирный договор был подпис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971640" y="5877000"/>
            <a:ext cx="2952720" cy="64260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писание Версальского догов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250px-William_Orpen_-_The_Signing_of_Peace_in_the_Hall_of_Mirrors%2C_Versailles"/>
          <p:cNvPicPr/>
          <p:nvPr/>
        </p:nvPicPr>
        <p:blipFill>
          <a:blip r:embed="rId1"/>
          <a:stretch/>
        </p:blipFill>
        <p:spPr>
          <a:xfrm>
            <a:off x="179280" y="981000"/>
            <a:ext cx="4094280" cy="4896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3. Версальск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067280" y="907920"/>
            <a:ext cx="489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 Версальскому договору Эльзас и Лотарингия отошли                 к Франции. Части германской территории получили Дания, Бельгия, Чехословакия,  Польша, Ли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лонии Германии отошли Франции, Англии и Японии. Владения Германии в Китае передавались Японии и Китай            в знак протеста против этого договор не подпис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971640" y="4797360"/>
            <a:ext cx="1944720" cy="91692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вропа пос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1-й мировой во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Рисунок6"/>
          <p:cNvPicPr/>
          <p:nvPr/>
        </p:nvPicPr>
        <p:blipFill>
          <a:blip r:embed="rId1"/>
          <a:stretch/>
        </p:blipFill>
        <p:spPr>
          <a:xfrm>
            <a:off x="179280" y="1052640"/>
            <a:ext cx="3675240" cy="3744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3. Версальск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79280" y="3844800"/>
            <a:ext cx="871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ермания выплачивала контрибуцию - 132 млн. марок, ее армия не должна была превышать100000 чел. и не иметь боевой авиации и бронетехники, флот был существенно огранич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течение 1919-1923 гг. были подписаны мирные договоры с союзниками Герм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1919 г. была создана Лига Наций куда вошли независимые госуда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948360" y="1844640"/>
            <a:ext cx="1944720" cy="91692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1-я сес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ссамбл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ги 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Рисунок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95640" y="692280"/>
            <a:ext cx="4752720" cy="30686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4. Дипломатическое признание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708360" y="907920"/>
            <a:ext cx="52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не Версальской системы осталась Советская Росс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пад, заинтересованный                    в торговле с ней, пригласил советскую делегацию на конференцию в Ге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з-за разногласий по вопросу о царских долгах переговоры зашли в тупик, и тогда в Раппало Россия и Германия заключили договор об установлении дипломатически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900000" y="5300640"/>
            <a:ext cx="1944720" cy="119124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.Чичерин                 в обр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тра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лакат 192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Рисунок4"/>
          <p:cNvPicPr/>
          <p:nvPr/>
        </p:nvPicPr>
        <p:blipFill>
          <a:blip r:embed="rId1"/>
          <a:stretch/>
        </p:blipFill>
        <p:spPr>
          <a:xfrm>
            <a:off x="179280" y="907920"/>
            <a:ext cx="3297240" cy="43308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5:04:50Z</dcterms:created>
  <dc:creator>Нафор Маточ</dc:creator>
  <dc:description/>
  <dc:language>en-US</dc:language>
  <cp:lastModifiedBy>Администратор</cp:lastModifiedBy>
  <dcterms:modified xsi:type="dcterms:W3CDTF">2023-08-03T18:16:57Z</dcterms:modified>
  <cp:revision>223</cp:revision>
  <dc:subject/>
  <dc:title>Версальско-Вашингтонская система</dc:title>
</cp:coreProperties>
</file>