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061-D765-4EB1-8AA0-1C13DE3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29D-F489-4680-B67C-1EEAE7A2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EE9-DA77-4DE1-B12D-40B44B5C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A05-0F50-43F9-BBF0-5A057AF7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446-9062-4AD6-AAAE-91C383A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597-5FC0-4082-B8A4-16EFD212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9E7-B20B-45EF-BBE3-12B0B04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91B-2482-4AAB-97CC-E6383DD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EDA-CAE0-4A69-B2C9-52ADE66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BB9-E327-4633-8882-FFA4C2A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A81-F798-4510-AB97-CE28499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E5D-173E-4054-A2BE-AED27C9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B69-22BB-4659-B9BB-342286974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detrojt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8"/>
          <p:cNvSpPr txBox="1"/>
          <p:nvPr/>
        </p:nvSpPr>
        <p:spPr>
          <a:xfrm>
            <a:off x="900000" y="333360"/>
            <a:ext cx="7488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вторитарные </a:t>
            </a:r>
            <a:endParaRPr b="1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жимы </a:t>
            </a:r>
            <a:endParaRPr b="1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вропы</a:t>
            </a:r>
            <a:endParaRPr b="1" lang="en-US" sz="1800" spc="1" strike="noStrike">
              <a:ln cap="sq"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3. Создание фашистского реж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284720" y="765000"/>
            <a:ext cx="46814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знак протеста социалисты и коммунисты покинули парламент.                                       Но Муссолини это не остановило и в 1925 г.                    он объявил «вторую волну фашизма».                                   Остатки парламента присвоили себе законодательные функции          и вскоре чрезвычайными декретами  оппозиционные партии и профсоюзы были запрещены, профсоюзы были заменены корпор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26920" y="5877000"/>
            <a:ext cx="2665440" cy="3682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3215dbf15c8ae16ab19ec755ea7afba54"/>
          <p:cNvPicPr/>
          <p:nvPr/>
        </p:nvPicPr>
        <p:blipFill>
          <a:blip r:embed="rId1"/>
          <a:stretch/>
        </p:blipFill>
        <p:spPr>
          <a:xfrm>
            <a:off x="179280" y="907920"/>
            <a:ext cx="3819600" cy="4969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4. Фашистское государство в Ит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708360" y="981000"/>
            <a:ext cx="52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ссолини приступил                             к созданию тоталитарного государства, основанного на принципе «все в государстве, ничто вне государ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уче возглавлял Большой фашистский совет принимавший законы. Парламент стал совещательным орг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стране исчезла безработица, досуг организовывало общество «Деполавор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16000" y="6481800"/>
            <a:ext cx="1728720" cy="3682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ussolini"/>
          <p:cNvPicPr/>
          <p:nvPr/>
        </p:nvPicPr>
        <p:blipFill>
          <a:blip r:embed="rId1"/>
          <a:stretch/>
        </p:blipFill>
        <p:spPr>
          <a:xfrm>
            <a:off x="249120" y="1052640"/>
            <a:ext cx="3289320" cy="540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4. Фашистское государство в Ит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708360" y="981000"/>
            <a:ext cx="52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е итальянцы должны были поддерживать идеологию фашизма. Его противники отправлялись в тюрьмы,                     но массового террора не б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ашистам не подчинялась лишь церковь. В 1929 г. Папа признал Итальянское королевство в обмен                             на создание Вати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ходе Великого кризиса Муссолини перешел                                 к государственному регулированию  эконом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5805360"/>
            <a:ext cx="324144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Муссолини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лакат начала 30-х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Рисунок14"/>
          <p:cNvPicPr/>
          <p:nvPr/>
        </p:nvPicPr>
        <p:blipFill>
          <a:blip r:embed="rId1"/>
          <a:stretch/>
        </p:blipFill>
        <p:spPr>
          <a:xfrm>
            <a:off x="250920" y="981000"/>
            <a:ext cx="3263760" cy="4824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5. Начало борьбы с фашиз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9280" y="384480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 итальянского фашизма привлекал внимание предпринимателей в других странах, считавших что,            с его помощью можно легко справиться с  рабочим дви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33 г. в Австрии премьер-министр Э.Дольфус начал создавать диктаторский режим. В 1934 г. левые подняли восстание, но армия подавила их выступ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300720" y="1844640"/>
            <a:ext cx="266544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лодые фаш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Авс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Рисунок13"/>
          <p:cNvPicPr/>
          <p:nvPr/>
        </p:nvPicPr>
        <p:blipFill>
          <a:blip r:embed="rId1"/>
          <a:stretch/>
        </p:blipFill>
        <p:spPr>
          <a:xfrm>
            <a:off x="1619280" y="692280"/>
            <a:ext cx="4681440" cy="3087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5. Начало борьбы с фашиз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067280" y="981000"/>
            <a:ext cx="489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 Франции в начале 30-х гг. правые хотели создать диктаторский режим, но большинство в стране фашистских идей не разделяли. Левые вели друг             с другом острую идейную борьбу. Но когда в феврале 1934 г. фашисты попытались захватить парламент, коммунисты, социалисты                   и либералы объединились             и создали Народный фронт,  не допустивший фашистов              к в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5950080"/>
            <a:ext cx="316872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Лицо фашиз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лакат середины 30-х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Рисунок1"/>
          <p:cNvPicPr/>
          <p:nvPr/>
        </p:nvPicPr>
        <p:blipFill>
          <a:blip r:embed="rId1"/>
          <a:stretch/>
        </p:blipFill>
        <p:spPr>
          <a:xfrm>
            <a:off x="250920" y="981000"/>
            <a:ext cx="3717720" cy="4969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Основные даты и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0920" y="76500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22 г. – приход Муссолини к власти в Итал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23 г. – авторитарные перевороты в Болгарии и Ис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26 г. – установление режима «санации»                  в П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mussolini_colosseo"/>
          <p:cNvPicPr/>
          <p:nvPr/>
        </p:nvPicPr>
        <p:blipFill>
          <a:blip r:embed="rId1"/>
          <a:stretch/>
        </p:blipFill>
        <p:spPr>
          <a:xfrm>
            <a:off x="1547640" y="3081240"/>
            <a:ext cx="6193080" cy="3625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Изучить параграф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Знать основные д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wow_1_73"/>
          <p:cNvPicPr/>
          <p:nvPr/>
        </p:nvPicPr>
        <p:blipFill>
          <a:blip r:embed="rId1"/>
          <a:stretch/>
        </p:blipFill>
        <p:spPr>
          <a:xfrm>
            <a:off x="1619280" y="2924280"/>
            <a:ext cx="5688000" cy="3838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01" name="Text Box 14"/>
          <p:cNvSpPr/>
          <p:nvPr/>
        </p:nvSpPr>
        <p:spPr>
          <a:xfrm>
            <a:off x="6588000" y="2924280"/>
            <a:ext cx="2305080" cy="82404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нтифашистские выступления                    в Пари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. Формирование авторитарных режи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. Муссолини и идеи фаш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. Создание фашист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. Фашистское государство в Ит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. Начало борьбы с фаш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6_fevrier_1934_1"/>
          <p:cNvPicPr/>
          <p:nvPr/>
        </p:nvPicPr>
        <p:blipFill>
          <a:blip r:embed="rId1"/>
          <a:stretch/>
        </p:blipFill>
        <p:spPr>
          <a:xfrm>
            <a:off x="2916360" y="4199040"/>
            <a:ext cx="3593880" cy="2658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1. Формирование авторитарных режимов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378936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ны Восточной Европы вступили на путь развития капитализма  позже Англии, США и Франции. Необходимость догонять привела к «перегреву» экономики и установлению авторитарных режи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3 г. власть в Болгарии захватили военные.                        Против диктатуры выступили демократические партии, а затем коммунисты под руководством Г.Димитрова. Оба восстания были подав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020000" y="1341360"/>
            <a:ext cx="201600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рестованные восставшие           в Болг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 &amp;acy;&amp;rcy;&amp;iecy;&amp;scy;&amp;tcy;&amp;ocy;&amp;vcy;&amp;acy;&amp;ncy;&amp;ncy;&amp;ycy;&amp;iecy; &amp;pcy;&amp;ocy;&amp;vcy;&amp;scy;&amp;tcy;&amp;acy;&amp;ncy;&amp;tscy;&amp;ycy; (&amp;Vcy;&amp;rcy;&amp;acy;&amp;tscy;&amp;acy;, &amp;ocy;&amp;scy;&amp;iecy;&amp;ncy;&amp;softcy; 1923)"/>
          <p:cNvPicPr/>
          <p:nvPr/>
        </p:nvPicPr>
        <p:blipFill>
          <a:blip r:embed="rId1"/>
          <a:stretch/>
        </p:blipFill>
        <p:spPr>
          <a:xfrm>
            <a:off x="1476360" y="836640"/>
            <a:ext cx="5545080" cy="2889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1. Формирование авторитарных режимов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51280" y="907920"/>
            <a:ext cx="497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3 г. военный переворот был совершен в Испании. Было отменено действие конституции, распущены правительство и парламент, установлена «военная директория».                                     Рабочие организации не встали на защиту парламентаризма, т.к. парламентские партии ничего не делали для улучшения положения трудя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26920" y="5516640"/>
            <a:ext cx="2016360" cy="8240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уководитель Директории Примо де Рив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Bundesarchiv Bild 102-09414, Primo de Rivera.jpg"/>
          <p:cNvPicPr/>
          <p:nvPr/>
        </p:nvPicPr>
        <p:blipFill>
          <a:blip r:embed="rId1"/>
          <a:stretch/>
        </p:blipFill>
        <p:spPr>
          <a:xfrm>
            <a:off x="179280" y="1125360"/>
            <a:ext cx="3387960" cy="439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89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1. Формирование авторитарных режимов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419640" y="765000"/>
            <a:ext cx="55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6 г. маршал Ю.Пилсудский            в Польше совершил переворот               и объявил политику «санации» (оздоровления)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зидентом стал его сторонник И.Мосьцицкий.                       Первоначально реформы были поддержаны широкими слоями населения, был стабилизирован курс национальной валюты,                   но положение трудящихся оставалось тяжел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5280" y="4797360"/>
            <a:ext cx="2736720" cy="64260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ршал Ю.Пилсу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JozefPilsudski"/>
          <p:cNvPicPr/>
          <p:nvPr/>
        </p:nvPicPr>
        <p:blipFill>
          <a:blip r:embed="rId1"/>
          <a:stretch/>
        </p:blipFill>
        <p:spPr>
          <a:xfrm>
            <a:off x="379440" y="765000"/>
            <a:ext cx="2795400" cy="403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8" name="Text Box 8"/>
          <p:cNvSpPr/>
          <p:nvPr/>
        </p:nvSpPr>
        <p:spPr>
          <a:xfrm>
            <a:off x="395280" y="5589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К середине 1930-х гг. в Восточной Европе осталось только одно демократическое государство – Чехословак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2. Муссолини и идеи фаш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64000" y="981000"/>
            <a:ext cx="54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ссолини родился в 1883 г.              В юности увлекался марксистскими взглядами,                  был активным членом социалистической партии.                    Во время войны он выступил за войну против Германского блока и присоединение к Анта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ле войны не довольный результатами Муссолини посчитал, что Италию обманули. Он призвал объединиться вокруг вождя (дуче). В 1919 г. создал свою партию. Его сторонники  объединялись в союзы (фаш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528c03e833515"/>
          <p:cNvPicPr/>
          <p:nvPr/>
        </p:nvPicPr>
        <p:blipFill>
          <a:blip r:embed="rId1"/>
          <a:stretch/>
        </p:blipFill>
        <p:spPr>
          <a:xfrm>
            <a:off x="179280" y="1125360"/>
            <a:ext cx="3264120" cy="4464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2" name="Text Box 18"/>
          <p:cNvSpPr/>
          <p:nvPr/>
        </p:nvSpPr>
        <p:spPr>
          <a:xfrm>
            <a:off x="900000" y="5589720"/>
            <a:ext cx="2016360" cy="3682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2. Муссолини и идеи фаш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450864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ашизм строился на полном подчинении личности интересам государства. Противоречия в обществе предлагалось ликвидировать. Профсоюзы должны были самораспуститься, а рабочие и капиталисты объединиться в корпорации. Боевой силой фашистов стали чернорубашечн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00360" y="4005360"/>
            <a:ext cx="4175280" cy="3682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ссолини и чернорубаше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1354922246-0623163-www"/>
          <p:cNvPicPr/>
          <p:nvPr/>
        </p:nvPicPr>
        <p:blipFill>
          <a:blip r:embed="rId1"/>
          <a:stretch/>
        </p:blipFill>
        <p:spPr>
          <a:xfrm>
            <a:off x="1763640" y="692280"/>
            <a:ext cx="5834160" cy="3295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2. Муссолини и идеи фаш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995640" y="907920"/>
            <a:ext cx="49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1 г. Муссолини и его партию пригласили в консервативный Национальный блок и в его составе они получили                         в парламенте 32 места. Социалисты и коммунисты создавали отряды «народных смельчаков», противостоявшие фашистским бандам.  Но силы были                    не равны и в 1922 г. чернорубашечники разогнали антифашистские пи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5300640"/>
            <a:ext cx="2952720" cy="36828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Чернорубаше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talians-supporting-Mussolini_1920"/>
          <p:cNvPicPr/>
          <p:nvPr/>
        </p:nvPicPr>
        <p:blipFill>
          <a:blip r:embed="rId1"/>
          <a:stretch/>
        </p:blipFill>
        <p:spPr>
          <a:xfrm>
            <a:off x="179280" y="981000"/>
            <a:ext cx="3549600" cy="4264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3. Создание фашистского реж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35002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1922 г. Муссолини объявил поход на Рим и король Виктор Эммануил поручил ему сформировать правительство. Фашисты денационализировали убыточные отрасли подавили забастовочное движение, создали Большой Фашистский совет и Национальную милицию. В 1924 г. фашисты одержали победу на выборах, но подверглись резкой критике оппозиции. Вскоре по приказу Муссолини был убит депутат-социалист Д.Матте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227640" y="1700280"/>
            <a:ext cx="2665440" cy="91692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ход чернорубашечников н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ussd"/>
          <p:cNvPicPr/>
          <p:nvPr/>
        </p:nvPicPr>
        <p:blipFill>
          <a:blip r:embed="rId1"/>
          <a:stretch/>
        </p:blipFill>
        <p:spPr>
          <a:xfrm>
            <a:off x="2124000" y="692280"/>
            <a:ext cx="4089600" cy="2725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5:04:50Z</dcterms:created>
  <dc:creator>Нафор Маточ</dc:creator>
  <dc:description/>
  <dc:language>en-US</dc:language>
  <cp:lastModifiedBy>Администратор</cp:lastModifiedBy>
  <dcterms:modified xsi:type="dcterms:W3CDTF">2023-08-03T18:16:14Z</dcterms:modified>
  <cp:revision>288</cp:revision>
  <dc:subject/>
  <dc:title>Авторитарные режимы Европы</dc:title>
</cp:coreProperties>
</file>