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77F-A28A-445A-A15A-3D019542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7C0-2305-4D6F-BC24-5A334120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AD8-31AF-4AFC-806E-9AF7660C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6AC-5F12-496D-92EE-63A5889C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956-F78F-49DC-BFF6-1FC22AE4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E87-96F5-4E6F-A24C-B7249E0F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05B-4480-4E72-9CE2-55CD1248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391-8572-405A-A397-75FC935A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707-659C-4652-8EC7-908F53C4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4DC5-97FE-45B5-B7D9-FF6CB9F9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954-C29D-4163-B8EB-5376BE07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AB8-C2DA-437C-AC7D-B3921C5F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BD5F-DA45-4FE4-8A06-E2A146739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.foto.radikal.ru/0609/aad9ec23fae6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ics.livejournal.com/nionila/pic/003aqfp9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aris-street-musicians"/>
          <p:cNvPicPr/>
          <p:nvPr/>
        </p:nvPicPr>
        <p:blipFill>
          <a:blip r:embed="rId1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457200" y="685800"/>
            <a:ext cx="830592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Общество</a:t>
            </a:r>
            <a:endParaRPr b="1" lang="en-US" sz="32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как форма</a:t>
            </a:r>
            <a:endParaRPr b="1" lang="en-US" sz="32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жизнедеятельности</a:t>
            </a:r>
            <a:endParaRPr b="1" lang="en-US" sz="32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4920">
                  <a:solidFill>
                    <a:srgbClr val="00800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людей</a:t>
            </a:r>
            <a:endParaRPr b="1" lang="en-US" sz="3200" spc="1" strike="noStrike">
              <a:ln w="34920">
                <a:solidFill>
                  <a:srgbClr val="00800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Основные сферы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9528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352680" y="4495680"/>
            <a:ext cx="25146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писани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04920" y="4495680"/>
            <a:ext cx="25146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зволение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400800" y="4495680"/>
            <a:ext cx="25146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рет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28600" y="8380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Целостность общества и регулирование разнообразных отношений между людьми обеспечивают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оциальные норм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правила поведения, сложившиеся в соответствии                                     с потребностями обществ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914400" y="2971800"/>
            <a:ext cx="7620120" cy="1143000"/>
          </a:xfrm>
          <a:prstGeom prst="ellipse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828800" y="3200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Формы социальных норм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04920" y="5105520"/>
            <a:ext cx="861048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зволение – разрешение вести себя определенным образом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04920" y="5334120"/>
            <a:ext cx="86104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писание – указание на требуемые действия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прет – указания на действия, которые нельзя совершать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Основные сферы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9528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762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ые нормы показывают, какие поступки общество одобряет, а какие нет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457200" y="1828800"/>
            <a:ext cx="25146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ыча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1" name="Picture 10" descr="russia"/>
          <p:cNvPicPr/>
          <p:nvPr/>
        </p:nvPicPr>
        <p:blipFill>
          <a:blip r:embed="rId1"/>
          <a:stretch/>
        </p:blipFill>
        <p:spPr>
          <a:xfrm>
            <a:off x="3429000" y="1752480"/>
            <a:ext cx="5486400" cy="4141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12" name="Text Box 11"/>
          <p:cNvSpPr/>
          <p:nvPr/>
        </p:nvSpPr>
        <p:spPr>
          <a:xfrm>
            <a:off x="4572000" y="5943600"/>
            <a:ext cx="312408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степриимство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57200" y="2438280"/>
            <a:ext cx="25146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адиции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Picture 14" descr="1f358252feff8d3169d6cae466a8c819"/>
          <p:cNvPicPr/>
          <p:nvPr/>
        </p:nvPicPr>
        <p:blipFill>
          <a:blip r:embed="rId2"/>
          <a:stretch/>
        </p:blipFill>
        <p:spPr>
          <a:xfrm>
            <a:off x="3429000" y="1752480"/>
            <a:ext cx="5410080" cy="4078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15" name="Text Box 15"/>
          <p:cNvSpPr/>
          <p:nvPr/>
        </p:nvSpPr>
        <p:spPr>
          <a:xfrm>
            <a:off x="3505320" y="5943600"/>
            <a:ext cx="52578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зднование Нового год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457200" y="3048120"/>
            <a:ext cx="25146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оральные нормы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7" name="Picture 18" descr="177032_900"/>
          <p:cNvPicPr/>
          <p:nvPr/>
        </p:nvPicPr>
        <p:blipFill>
          <a:blip r:embed="rId3"/>
          <a:stretch/>
        </p:blipFill>
        <p:spPr>
          <a:xfrm>
            <a:off x="3352680" y="1752480"/>
            <a:ext cx="5562720" cy="3357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18" name="Text Box 19"/>
          <p:cNvSpPr/>
          <p:nvPr/>
        </p:nvSpPr>
        <p:spPr>
          <a:xfrm>
            <a:off x="3429000" y="5105520"/>
            <a:ext cx="52578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завидуй!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57200" y="3962520"/>
            <a:ext cx="25146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коны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Picture 24" descr="1011193877"/>
          <p:cNvPicPr/>
          <p:nvPr/>
        </p:nvPicPr>
        <p:blipFill>
          <a:blip r:embed="rId4"/>
          <a:stretch/>
        </p:blipFill>
        <p:spPr>
          <a:xfrm>
            <a:off x="3962520" y="1676520"/>
            <a:ext cx="3848040" cy="5181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5"/>
          <p:cNvSpPr/>
          <p:nvPr/>
        </p:nvSpPr>
        <p:spPr>
          <a:xfrm>
            <a:off x="380880" y="4565520"/>
            <a:ext cx="861084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каждого человека социальные нормы служат мерой его поведения, а для общества они являются критерием оценки этого поведения.                               Нарушение любых социальных норм в обществе осуждается, а нарушение законов может повлечь                 за собой санкции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Ступени развития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9528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5791320"/>
            <a:ext cx="4876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РАДИЦИОННОЕ (АГРАРНОЕ) общество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28600" y="4800600"/>
            <a:ext cx="472428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ДУСТРИАЛЬНОЕ общество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04920" y="990720"/>
            <a:ext cx="464796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ИНДУСТРИАЛЬНОЕ (ИНФОРМАЦИОННОЕ) общество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7" name="Picture 13" descr="selskie_raboty"/>
          <p:cNvPicPr/>
          <p:nvPr/>
        </p:nvPicPr>
        <p:blipFill>
          <a:blip r:embed="rId1"/>
          <a:stretch/>
        </p:blipFill>
        <p:spPr>
          <a:xfrm>
            <a:off x="2743200" y="914400"/>
            <a:ext cx="6110280" cy="48718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28" name="Picture 15" descr="9394433"/>
          <p:cNvPicPr/>
          <p:nvPr/>
        </p:nvPicPr>
        <p:blipFill>
          <a:blip r:embed="rId2"/>
          <a:stretch/>
        </p:blipFill>
        <p:spPr>
          <a:xfrm>
            <a:off x="3505320" y="852480"/>
            <a:ext cx="5333760" cy="38988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129" name="Picture 17" descr="i?id=0a298097a8a3cd4098be53619e3bdc23&amp;n=33&amp;h=215&amp;w=387"/>
          <p:cNvPicPr/>
          <p:nvPr/>
        </p:nvPicPr>
        <p:blipFill>
          <a:blip r:embed="rId3"/>
          <a:stretch/>
        </p:blipFill>
        <p:spPr>
          <a:xfrm>
            <a:off x="304920" y="2209680"/>
            <a:ext cx="7924680" cy="44020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Ступени развития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9528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04920" y="3470400"/>
            <a:ext cx="8610480" cy="33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ТРАДИЦИОННОГ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общества характерно господство сельского натурального хозяйства, сословной иерархии, главная роль в жизни общества принадлежит жрецам, либо церкви и армии. Появляются города, ремесла, торговля, письменность, деньги.. Основная производственная ячейка – семья. Основная масса населения живет                  в деревнях, господствуют общинные принципы, традиции и обычаи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3" name="Picture 15" descr="Vostochnyie-slavyane-1400x806"/>
          <p:cNvPicPr/>
          <p:nvPr/>
        </p:nvPicPr>
        <p:blipFill>
          <a:blip r:embed="rId1"/>
          <a:stretch/>
        </p:blipFill>
        <p:spPr>
          <a:xfrm>
            <a:off x="2362320" y="762120"/>
            <a:ext cx="4572000" cy="26319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Ступени развития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9528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4200480"/>
            <a:ext cx="8763120" cy="265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ля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ИНДУСТРИАЛЬНОГ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характерно преобладание промышленного производства, главная роль в обществе переходит от землевладельцев к промышленникам и бизнесменам, центром социальной организации становится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корпорац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объединение лиц имеющих коммерческие интересы), большая часть населения живет в городах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7" descr="KMO_096855_03139_1_t218_171732"/>
          <p:cNvPicPr/>
          <p:nvPr/>
        </p:nvPicPr>
        <p:blipFill>
          <a:blip r:embed="rId1"/>
          <a:stretch/>
        </p:blipFill>
        <p:spPr>
          <a:xfrm>
            <a:off x="1676520" y="752400"/>
            <a:ext cx="6019560" cy="3382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Ступени развития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9528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28600" y="5661000"/>
            <a:ext cx="876312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иболее экономически развитые страны (США, Япония, Германия и др.) переходят на новую стадию развития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ПОСТИНДУСТРИАЛЬНУЮ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2" name="Picture 9" descr="bkk-automation-05"/>
          <p:cNvPicPr/>
          <p:nvPr/>
        </p:nvPicPr>
        <p:blipFill>
          <a:blip r:embed="rId1"/>
          <a:stretch/>
        </p:blipFill>
        <p:spPr>
          <a:xfrm>
            <a:off x="685800" y="762120"/>
            <a:ext cx="7924680" cy="48006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143" name="Text Box 5"/>
          <p:cNvSpPr/>
          <p:nvPr/>
        </p:nvSpPr>
        <p:spPr>
          <a:xfrm>
            <a:off x="228600" y="1600200"/>
            <a:ext cx="8686800" cy="4117320"/>
          </a:xfrm>
          <a:prstGeom prst="rect">
            <a:avLst/>
          </a:prstGeom>
          <a:solidFill>
            <a:srgbClr val="ccffcc"/>
          </a:solidFill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оизводство ориентировано на улучшение качества продукции, повышается роль качества труда, квалификации, личных качеств работника; главным фактором развития становится технический прогресс и информационные технологии; ведущими становятся производство научных знаний, научные исследования и разработки; сфера услуг начинает преобладать                  над производством товаров.                                                            Знания (информация) становятся важнейшим фактором жизнедеятельности людей.              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80880" y="762120"/>
            <a:ext cx="830592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зучить параграф 3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тветить на вопросы раздела «Проверим себя» (устно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4800600" y="3733920"/>
            <a:ext cx="15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7" name="Picture 6" descr="Картинка 3 из 331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2286000"/>
            <a:ext cx="5715000" cy="4286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838080"/>
            <a:ext cx="86868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нятие обще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сновные сферы жизни обще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тупени развития обще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Picture 9" descr="dc6b196b25798543ddb29576cf1"/>
          <p:cNvPicPr/>
          <p:nvPr/>
        </p:nvPicPr>
        <p:blipFill>
          <a:blip r:embed="rId1"/>
          <a:stretch/>
        </p:blipFill>
        <p:spPr>
          <a:xfrm>
            <a:off x="1143000" y="2743200"/>
            <a:ext cx="7010280" cy="3943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онятие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152280" y="45720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ловек не может существовать вне общество,                            а общество не существует без людей.                                Выживший в течении 23 лет в полном одиночестве                  на необитаемом острове Робинзон Крузо потому                    и смог выжить, что применял знания и навыки, полученные благодаря обществу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9528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Picture 6" descr="Robinson-crusoe-1"/>
          <p:cNvPicPr/>
          <p:nvPr/>
        </p:nvPicPr>
        <p:blipFill>
          <a:blip r:embed="rId1"/>
          <a:stretch/>
        </p:blipFill>
        <p:spPr>
          <a:xfrm>
            <a:off x="1905120" y="762120"/>
            <a:ext cx="5333760" cy="3537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онятие обще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28600" y="7621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нятие «Общество»  прочно вошло в лексикон.                      В повседневной речи мы часто употребляем его подразумевая группы людей, входящих в чей-то круг общен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52280" y="5105520"/>
            <a:ext cx="8763120" cy="1572120"/>
          </a:xfrm>
          <a:prstGeom prst="rect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1. Общество книголюбо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2. Общество собаководов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3. Общество охраны окружающей среды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2647800" cy="26668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54" name="Picture 12" descr="redcross%202%283%29"/>
          <p:cNvPicPr/>
          <p:nvPr/>
        </p:nvPicPr>
        <p:blipFill>
          <a:blip r:embed="rId2"/>
          <a:stretch/>
        </p:blipFill>
        <p:spPr>
          <a:xfrm>
            <a:off x="6172200" y="2362320"/>
            <a:ext cx="2666880" cy="26668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55" name="Picture 16" descr="3339704"/>
          <p:cNvPicPr/>
          <p:nvPr/>
        </p:nvPicPr>
        <p:blipFill>
          <a:blip r:embed="rId3"/>
          <a:stretch/>
        </p:blipFill>
        <p:spPr>
          <a:xfrm>
            <a:off x="3352680" y="2362320"/>
            <a:ext cx="2384640" cy="26668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онятие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52280" y="5181480"/>
            <a:ext cx="8763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Обществ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– обособившаяся от природы,                               но тесно с ним связанная часть мира, которая включает в себя способы взаимодействия людей                 и формы их объединения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9528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04920" y="5257800"/>
            <a:ext cx="8610480" cy="1373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широком смысле под обществом понимают все человечество в его настоящем, прошлом  и будущем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0" name="Picture 11" descr="pic296002"/>
          <p:cNvPicPr/>
          <p:nvPr/>
        </p:nvPicPr>
        <p:blipFill>
          <a:blip r:embed="rId1"/>
          <a:stretch/>
        </p:blipFill>
        <p:spPr>
          <a:xfrm>
            <a:off x="2362320" y="762120"/>
            <a:ext cx="4495680" cy="44956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1" name="Picture 13" descr="%D0%9D%D0%B5%D0%B0%D0%BD%D0%B4%D0%B5%D1%801"/>
          <p:cNvPicPr/>
          <p:nvPr/>
        </p:nvPicPr>
        <p:blipFill>
          <a:blip r:embed="rId2"/>
          <a:stretch/>
        </p:blipFill>
        <p:spPr>
          <a:xfrm>
            <a:off x="2362320" y="762120"/>
            <a:ext cx="4478040" cy="44956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2" name="Picture 17" descr=""/>
          <p:cNvPicPr/>
          <p:nvPr/>
        </p:nvPicPr>
        <p:blipFill>
          <a:blip r:embed="rId3"/>
          <a:stretch/>
        </p:blipFill>
        <p:spPr>
          <a:xfrm>
            <a:off x="1295280" y="762120"/>
            <a:ext cx="6248520" cy="44622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3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5" name="Picture 24" descr=""/>
          <p:cNvPicPr/>
          <p:nvPr/>
        </p:nvPicPr>
        <p:blipFill>
          <a:blip r:embed="rId4"/>
          <a:stretch/>
        </p:blipFill>
        <p:spPr>
          <a:xfrm>
            <a:off x="609480" y="762120"/>
            <a:ext cx="8001000" cy="4500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онятие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28600" y="5943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Рост населения Земли в миллионах человек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528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71" name="Object 13"/>
          <p:cNvGraphicFramePr/>
          <p:nvPr/>
        </p:nvGraphicFramePr>
        <p:xfrm>
          <a:off x="228600" y="457200"/>
          <a:ext cx="868680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6868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онятие обще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04920" y="49402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ществуют большие группы людей, объединенных рядом общих признаков. В Древнем мире в обществе были рабы, рабовладельцы, чиновники, крестьяне, ремесленники, жрецы и другие;                                        постепенно складывались народности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5" name="Picture 5" descr="003aqfp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609480"/>
            <a:ext cx="6877080" cy="42195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76" name="Text Box 6"/>
          <p:cNvSpPr/>
          <p:nvPr/>
        </p:nvSpPr>
        <p:spPr>
          <a:xfrm>
            <a:off x="7478280" y="4191120"/>
            <a:ext cx="145188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Египетские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жрецы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онятие обществ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28600" y="51814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 развитием общества взаимодействия и взаимоотношения между отдельными индивидами             и между группами людей становятся все более сложными и многообразными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105520" cy="44578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1" name="Text Box 13"/>
          <p:cNvSpPr/>
          <p:nvPr/>
        </p:nvSpPr>
        <p:spPr>
          <a:xfrm>
            <a:off x="5638680" y="1143000"/>
            <a:ext cx="322740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циальная структура средневекового европейского общества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457200" y="4876920"/>
            <a:ext cx="8381880" cy="180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заимосвязи и взаимозависимости,                            в которые вступают люди в процессе своей деятельности, называются           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общественными отношениям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3" name="Picture 16" descr="001"/>
          <p:cNvPicPr/>
          <p:nvPr/>
        </p:nvPicPr>
        <p:blipFill>
          <a:blip r:embed="rId2"/>
          <a:stretch/>
        </p:blipFill>
        <p:spPr>
          <a:xfrm>
            <a:off x="457200" y="685800"/>
            <a:ext cx="8381880" cy="41911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Основные сферы жизн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952880" y="16765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971800" y="838080"/>
            <a:ext cx="3657600" cy="1373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СНОВНЫЕ СФЕРЫ ЖИЗНИ ОБЩЕСТВА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52280" y="2514600"/>
            <a:ext cx="25909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кономическая сфер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743200" y="2514600"/>
            <a:ext cx="20574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сфер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162920" y="2514600"/>
            <a:ext cx="175248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уховная сфер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4800600" y="2514600"/>
            <a:ext cx="236232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литическая сфер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152280" y="3733920"/>
            <a:ext cx="8763120" cy="2288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Экономическая сфер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является во многом определяющей.  Она включает промышленное                            и сельскохозяйственное производство, транспорт, сферу услуг. Она охватывает экономические отношения (производство, распределение, обмен, потребление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152280" y="4038480"/>
            <a:ext cx="876312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Социальная сфер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ключает в себя слои и классы, классовые отношения, нации и национальные отношения, семью и семейно-бытовые отношения, учреждения воспитания, медицины, досуг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152280" y="4343400"/>
            <a:ext cx="876312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литическая сфер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ключает в себя государственную власть, политические партии, отношения людей, связанные с использованием власти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52280" y="3962520"/>
            <a:ext cx="876312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ВСЕ ЧЕТЫРЕ СФЕРЫ ТЕСНО ВЗАИМОДЕЙСТВУЮТ ДРУГ С ДРУГОМ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152280" y="4267080"/>
            <a:ext cx="876312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Духовная сфер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охватывает науку, нравственность, религию, искусство, научные учреждения, религиозные организации, учреждения культуры                   и соответствующую деятельность людей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фор Маточ</dc:creator>
  <dc:description/>
  <dc:language>en-US</dc:language>
  <cp:lastModifiedBy>Администратор</cp:lastModifiedBy>
  <dcterms:modified xsi:type="dcterms:W3CDTF">2023-08-05T18:53:45Z</dcterms:modified>
  <cp:revision>206</cp:revision>
  <dc:subject/>
  <dc:title> Общество как форма жизнедеятельности люд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