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453-C15F-42EB-8DD8-FB60930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D4E-85CF-4043-B2C2-E23C54B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ED0-E34B-4CE9-B1C5-11995C99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6DA-A9D1-4348-BCD8-B57B009D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FB0-A20B-435D-8255-1075BBC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467-198D-421A-93B2-3E79CFF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897-421E-4868-861F-41669B7F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4B5-12E7-4C06-822B-72F5C216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D92-6FEB-4AE6-BDA3-510CEBD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EA4-D3F3-48FC-B216-4554F44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77E-9895-4761-B22A-9040A28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76C-B905-4814-8650-75D6171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0436-4607-4C2D-A9D1-42F1311CC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r_dvor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403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260280"/>
            <a:ext cx="8136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едпосылк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етровских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еобразован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Преобразовательные планы В.В.Голиц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771640" y="105264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нязь Василий Васильевич Голицын                  в период регентства Софьи (1682-1689) был фактическим правителем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762280" y="2154240"/>
            <a:ext cx="619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 его поддержке в 1687 г. в Москве было открыто Славяно-греко-латинское училище (позже академия); отменена смертная казнь                за «возмутительные слова» против власти; вводились европейские формы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28520" y="4869000"/>
            <a:ext cx="869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держивал отечественные торговлю и ремесла, выступал                   за развитие инициативы подданных; выступал против крепостного права и за введение «поголовной» подати с крестьянских хозяйств; считал, что России нужна наемная армия, а не дворянское опол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10 из 104"/>
          <p:cNvPicPr/>
          <p:nvPr/>
        </p:nvPicPr>
        <p:blipFill>
          <a:blip r:embed="rId1"/>
          <a:stretch/>
        </p:blipFill>
        <p:spPr>
          <a:xfrm>
            <a:off x="250920" y="1123920"/>
            <a:ext cx="2436840" cy="3097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88" name="Text Box 11"/>
          <p:cNvSpPr/>
          <p:nvPr/>
        </p:nvSpPr>
        <p:spPr>
          <a:xfrm>
            <a:off x="533520" y="4243320"/>
            <a:ext cx="1871640" cy="3373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.В.Голиц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25360" y="3932280"/>
            <a:ext cx="859464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осле прихода к власти Петра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в 1689 г. был отправлен в пожизненную ссыл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Ответить на вопросы на стр.17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Ознакомиться с Документом на стр.18                        и ответить на вопросы к нему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ворец царя"/>
          <p:cNvPicPr/>
          <p:nvPr/>
        </p:nvPicPr>
        <p:blipFill>
          <a:blip r:embed="rId1"/>
          <a:stretch/>
        </p:blipFill>
        <p:spPr>
          <a:xfrm>
            <a:off x="1079640" y="2781360"/>
            <a:ext cx="6984720" cy="3936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8440" y="818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Усиление иностранного влияния на Ро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Симеон Пол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Политический курс Б.Морозова и И.Милосла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Реформы А.Л.Ордина-Нащ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 Реформаторские планы В.Голицы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Файл:Немецкая слобода.jpg"/>
          <p:cNvPicPr/>
          <p:nvPr/>
        </p:nvPicPr>
        <p:blipFill>
          <a:blip r:embed="rId1"/>
          <a:stretch/>
        </p:blipFill>
        <p:spPr>
          <a:xfrm>
            <a:off x="2627280" y="3938760"/>
            <a:ext cx="3889440" cy="28479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60" y="0"/>
            <a:ext cx="9109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Усиление иностранного влияния                         на Росс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9280" y="538956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оянные войны России с Речью Посполитой, Швецией, Крымским ханством, Турцией вели к усилению зарубежного влияния на внутреннюю и внешнюю политику, а также на быт                         и традици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93240" cy="40482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960" y="0"/>
            <a:ext cx="9109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Усиление иностранного влияния                         на Росс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4221000"/>
            <a:ext cx="878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начала правления Романовых в России стало появляться значительное число иностранных военных специалистов, врачей, аптекарей. Они с семьями селились на окраине Москвы – Немецкой слободе (Кукуй). При Алексее Михайловиче в России по западным образцам был создан воинский устав; голландцы участвовали в строительстве пушечного завода в Москве и первого русского военного корабля «Орёл». В моду входили западноевропейская одежда, танцы, иностранные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84320" y="1052640"/>
            <a:ext cx="4079880" cy="29462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52" name="Picture 7" descr="irNGpUkHDKA"/>
          <p:cNvPicPr/>
          <p:nvPr/>
        </p:nvPicPr>
        <p:blipFill>
          <a:blip r:embed="rId2"/>
          <a:stretch/>
        </p:blipFill>
        <p:spPr>
          <a:xfrm>
            <a:off x="6800760" y="1073160"/>
            <a:ext cx="2160720" cy="29559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3" name="Text Box 5"/>
          <p:cNvSpPr/>
          <p:nvPr/>
        </p:nvSpPr>
        <p:spPr>
          <a:xfrm>
            <a:off x="4572000" y="3166920"/>
            <a:ext cx="2228760" cy="8240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Мушкетер из полка иноземного строя.               1630-34 гг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287960" y="1390680"/>
            <a:ext cx="2228760" cy="5806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мецкая слобода. Художник Бену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Усиление иностранного влияния                         на Росс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2200" y="508464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падное влияние на Россию усилилось после присоединения Левобережной Украины и Киева. В Москву приезжали носители польской культуры из числа белорусов и украинцев.                          Они оказали значительное влияние на развитие российского образования, церковных обрядов, художественной куль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619280" y="1089000"/>
            <a:ext cx="5905440" cy="3848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1558800" y="6242040"/>
            <a:ext cx="1101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оф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Симеон Поло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954160" y="709560"/>
            <a:ext cx="60199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ходец из Белоруссии Самуил Петровский-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тнианович (1629-1680) закончил Киево-Могилянскую академию  и около 1656 г. постригся в монахи, где принял имя Симеона. Симеон жил в Полоцком монастыре, где учительствовал, писал стихи                             на белорусском и польском языках.                   Симеон выступал за объединение белорусского, украинского и русского народа в рамках русского государства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С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664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 начинает преподавать                                        в Заиконоспасском монастыре в Москве.                  Царь Алексей Михайлович поручил ему воспитание и образование своих детей.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дор и Софь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были затем правителями России. Это были первые руководители Российского государства, получившие западное образование, в том числе знание европейской истории, культуры                                       и иностранных яз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0118"/>
          <p:cNvPicPr/>
          <p:nvPr/>
        </p:nvPicPr>
        <p:blipFill>
          <a:blip r:embed="rId1"/>
          <a:stretch/>
        </p:blipFill>
        <p:spPr>
          <a:xfrm>
            <a:off x="144360" y="709560"/>
            <a:ext cx="2710080" cy="2347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2" name="Picture 7" descr="Фёдор III Алексеевич"/>
          <p:cNvPicPr/>
          <p:nvPr/>
        </p:nvPicPr>
        <p:blipFill>
          <a:blip r:embed="rId2"/>
          <a:stretch/>
        </p:blipFill>
        <p:spPr>
          <a:xfrm>
            <a:off x="144360" y="3224160"/>
            <a:ext cx="1208160" cy="2448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63" name="Picture 8" descr="Cофья0"/>
          <p:cNvPicPr/>
          <p:nvPr/>
        </p:nvPicPr>
        <p:blipFill>
          <a:blip r:embed="rId3"/>
          <a:stretch/>
        </p:blipFill>
        <p:spPr>
          <a:xfrm>
            <a:off x="1373040" y="4292640"/>
            <a:ext cx="1474920" cy="19321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4" name="Text Box 9"/>
          <p:cNvSpPr/>
          <p:nvPr/>
        </p:nvSpPr>
        <p:spPr>
          <a:xfrm>
            <a:off x="220680" y="5672160"/>
            <a:ext cx="1055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ёдор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Политический курс Б.Морозова                       и И.Милославского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60760" y="1135080"/>
            <a:ext cx="6348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ярин Борис Морозов был воспитателем будущего царя Алексея Михайловича и после его воцарения возглавил пять приказов.              При нем приказы возглавили способные люди незнатного происхождения, заменившие родовитых предшественников.                              Дьяком Посольского приказа был назначен ярославский купец Назарий Чистой,                                       а его брат возглавил Монетный двор.                     Реформаторы стремились использовать                    в России голландский опыт.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60520" y="4086360"/>
            <a:ext cx="1439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.Мороз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220680" y="1197000"/>
            <a:ext cx="2120760" cy="2889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177840" y="4633920"/>
            <a:ext cx="878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розов направил стольника Илью Милославского в Голландию для изучения опыта создания армии и производства вооружений. Реформаторы планировали провести налоговую реформу                         по голландскому образцу, заменив прямое налогообложение косвенным. Это привело к многократному повышению цен на соль и табак, что вызвало волнения и восстания во многих городах                    (в Москве Соляной бунт 1648 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Политический курс Б.Морозова                       и И.Милославского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7840" y="5229360"/>
            <a:ext cx="878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езультате Соляного бунта в Москве большинство реформ были приостановлены, Б.Морозов отправлен в отставку, многие реформаторы (Н.Чистой) убиты.                                                                Одним из важнейших результатов реформ Морозова                                    и Милославского стало создание русской регулярной ар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1224000" y="1100160"/>
            <a:ext cx="6696000" cy="39909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0" y="641520"/>
            <a:ext cx="9144000" cy="50241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4" name="Text Box 9"/>
          <p:cNvSpPr/>
          <p:nvPr/>
        </p:nvSpPr>
        <p:spPr>
          <a:xfrm>
            <a:off x="1835280" y="5678640"/>
            <a:ext cx="525600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ки нового стр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еформы А.Л.Ордина-Нащо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59280" y="1276200"/>
            <a:ext cx="594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.Л.Ордин-Нащокин поступил на военную службу в 17 лет.   Позже находился на дипломатической службе (союзный договор 1656 г. с Курляндией, перемирие 1658 г. со Швецией, 1667 г. – Андрусовский мир                           с Польшей). С 1667 г. возглавил Посольский приказ. Был сторонником военного союза                 с Польшей против Тур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36"/>
          <p:cNvPicPr/>
          <p:nvPr/>
        </p:nvPicPr>
        <p:blipFill>
          <a:blip r:embed="rId1"/>
          <a:stretch/>
        </p:blipFill>
        <p:spPr>
          <a:xfrm>
            <a:off x="210960" y="736560"/>
            <a:ext cx="2713320" cy="34131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3328920" y="736560"/>
            <a:ext cx="5256360" cy="4597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07800" y="4151160"/>
            <a:ext cx="2519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.Л.Ордин-Нащо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295800" y="4029120"/>
            <a:ext cx="5472000" cy="4597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0920" y="4797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Предложил сократить дворянское ополчение и увеличить число стрелецких полков, ввести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екрутскую повин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;                                      пытался ввести элементы самоуправления по европейскому образцу; отменил привилегии иностранных купцов и предоставил льготы российским;  по его проекту была установлена почтовая связь между Москвой, Ригой и 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0960" y="3114720"/>
            <a:ext cx="864576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 1671 г. Ордин-Нащокин был подвергнут опале, после этого постригся в мон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04:50Z</dcterms:created>
  <dc:creator>Нафор Маточ</dc:creator>
  <dc:description/>
  <dc:language>en-US</dc:language>
  <cp:lastModifiedBy>Администратор</cp:lastModifiedBy>
  <dcterms:modified xsi:type="dcterms:W3CDTF">2023-08-03T16:37:16Z</dcterms:modified>
  <cp:revision>158</cp:revision>
  <dc:subject/>
  <dc:title>Предпосылки Петровских реформ</dc:title>
</cp:coreProperties>
</file>