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E27-81C3-4473-8872-1AD10667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376-300C-48E7-892F-A5A0E6FD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408-1724-46E9-A9A1-61E63E71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2EC-DAC2-43F4-BCDF-728FA048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B56-4466-4C53-85AF-DD42226A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68C-3D7C-4463-9065-4D441325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CAC-6969-46F7-BBE9-B06A071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9D2-963B-413E-882B-CCC7C683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FA3-A0A8-4FBC-9770-8A61A216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9E3-FF98-4C8A-823A-C53E9702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E3D-482A-4B63-A6DA-74EA1522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25C-69A4-42F9-AA80-3AE12AE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2C9D-BB59-49AE-8F50-3CD264AD8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human.ru/wp-content/uploads/2012/02/x1-z122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human.ru/wp-content/uploads/2012/02/x1-z122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iyskiyKrest_detail01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Young_Peter_the_Great_parsun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60;&#1072;&#1081;&#1083;:Icon_02044_Patriarh_Ioakim_Moskovskij_1620-1690._Neizv._hud._XVII_v._Rossiya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gorod.tomsk.ru/i/u/6283/ImperRjman_0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0/Church_of_the_Transfiguration_in_Preobrazhenskoye_00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ru.wikipedia.org/w/index.php?title=&#1060;&#1072;&#1081;&#1083;:&#1057;&#1086;&#1083;&#1076;&#1072;&#1090;_&#1041;&#1091;&#1090;&#1099;&#1088;&#1089;&#1082;&#1086;&#1075;&#1086;_&#1087;&#1086;&#1083;&#1082;&#1072;.jpg&amp;filetimestamp=20070120181420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dic.academic.ru/pictures/wiki/files/78/Nowodewitschi_t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er_dvor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4038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95280" y="404640"/>
            <a:ext cx="8136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чал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равлени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етра I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Начало царствования П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908000" y="981000"/>
            <a:ext cx="48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ряду с Петром законным царем оставался и его старший бра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ван Алексеевич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но он до самой смерти в 1696 г. лишь изредка присутствовал на дворцовых церемониях и не вмешивался в дела государственного 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200px-Peter_I_by_Kneller"/>
          <p:cNvPicPr/>
          <p:nvPr/>
        </p:nvPicPr>
        <p:blipFill>
          <a:blip r:embed="rId1"/>
          <a:stretch/>
        </p:blipFill>
        <p:spPr>
          <a:xfrm>
            <a:off x="179280" y="733320"/>
            <a:ext cx="1692360" cy="29116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96" name="Picture 8" descr="Картинка 1 из 293"/>
          <p:cNvPicPr/>
          <p:nvPr/>
        </p:nvPicPr>
        <p:blipFill>
          <a:blip r:embed="rId2"/>
          <a:stretch/>
        </p:blipFill>
        <p:spPr>
          <a:xfrm>
            <a:off x="6875640" y="747720"/>
            <a:ext cx="2030400" cy="29113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97" name="Text Box 6"/>
          <p:cNvSpPr/>
          <p:nvPr/>
        </p:nvSpPr>
        <p:spPr>
          <a:xfrm>
            <a:off x="182520" y="3892680"/>
            <a:ext cx="64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1689 г. мать, рассчитывая привязать его к                                 домашнему очагу, женила Петра на Евдокии Лопухиной. Но вскоре после свадьбы Петр вернулся к военным забавам, а Евдокию через несколько лет насильно отправили в Монастырь.                                                                    От этого брака у Петра родилось два сына: Александр (умер в детстве) и Алек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Евдокия Фёдоровна Лопухина"/>
          <p:cNvPicPr/>
          <p:nvPr/>
        </p:nvPicPr>
        <p:blipFill>
          <a:blip r:embed="rId3"/>
          <a:stretch/>
        </p:blipFill>
        <p:spPr>
          <a:xfrm>
            <a:off x="6851520" y="3789360"/>
            <a:ext cx="2054520" cy="2592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9" name="TextBox 7"/>
          <p:cNvSpPr/>
          <p:nvPr/>
        </p:nvSpPr>
        <p:spPr>
          <a:xfrm>
            <a:off x="6813720" y="6394320"/>
            <a:ext cx="21859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Евдокия Лопух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Азовские поход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62080" y="4295880"/>
            <a:ext cx="8638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тр решил бороться с Крымским ханством и Турцией за выход                       к Черному морю. Весной 1695 г. начинается война с Крымом. Первый поход был неудачным – Россия не имела флота, не было единого командования войсками, была слабая артиллерия.                                            Петр учел ошибки. В Воронеже были построены военные корабли, в армию назначен главнокомандующий А.Шеин.                            В апреле 1696 г. Азов был захвачен. Это была первая крупная военная победа П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image004"/>
          <p:cNvPicPr/>
          <p:nvPr/>
        </p:nvPicPr>
        <p:blipFill>
          <a:blip r:embed="rId1"/>
          <a:stretch/>
        </p:blipFill>
        <p:spPr>
          <a:xfrm>
            <a:off x="468360" y="692280"/>
            <a:ext cx="4719600" cy="34876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103" name="Text Box 3"/>
          <p:cNvSpPr/>
          <p:nvPr/>
        </p:nvSpPr>
        <p:spPr>
          <a:xfrm>
            <a:off x="5175360" y="981000"/>
            <a:ext cx="395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тр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нимал важность   для России иметь выход                   к незамерзающим морям.                   Но борьба за выход к Балтике означал войну                      с сильными противниками Польшей и Швецией.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85840" y="1461960"/>
            <a:ext cx="8640720" cy="1313640"/>
          </a:xfrm>
          <a:prstGeom prst="rect">
            <a:avLst/>
          </a:prstGeom>
          <a:solidFill>
            <a:srgbClr val="f6ffdd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Россия впервые вышла к Черному морю, но закрепиться                         на этом рубеже она еще не могла.                                                           России нужны были союзники для продолжения борьбы                          с Османской импе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Великое посоль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716360" y="765000"/>
            <a:ext cx="424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приказу Петра в 1697 г.                          в Европу отправляется посольство для поиска союзников для создания широкой антитурецкой коалиции. Великое посольство состояло из 250 человек,                   его руководителями были Ф.Лефорт, Ф.Головин и П.Возницын. Под именем урядника-волонтера Петра Михайлова в посольстве участвовал сам Пет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98440" y="4919760"/>
            <a:ext cx="856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1697-1698 гг. посольство посетило Голландию, Австрию, Англию. Петр смотрел, учился, перенимал опыт. После поездки  Петр решил превратить Россию в такую же развитую мощную державу, как многие европейские страны. Однако, Петр не воспринял основу европейского развития – демократические традиции. Он считал их излишними и неприемлемыми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115920" y="1125360"/>
            <a:ext cx="4484520" cy="29736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109" name="Рисунок 3" descr=""/>
          <p:cNvPicPr/>
          <p:nvPr/>
        </p:nvPicPr>
        <p:blipFill>
          <a:blip r:embed="rId2"/>
          <a:stretch/>
        </p:blipFill>
        <p:spPr>
          <a:xfrm>
            <a:off x="11160" y="717480"/>
            <a:ext cx="9132840" cy="60865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Великое посоль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95280" y="4005360"/>
            <a:ext cx="8642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юз против Турции создать не удалось, но образовался союз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Польши, Дании, Саксонии и Росси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против усиливающейся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Швеци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                                                                                                                 Во время поездки Петра в России начался стрелецкий бунт,                       и царь был вынужден прервать поездку и вернуться в Москву.                 К его возвращению бунт был подавлен, но в августе 1698 г.                   Петр провел повторное расследование с применением пыток,                      более 2 тысяч стрельцов были казнены, многие сосланы.                      Петр лично присутствовал на всех казн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753160" cy="33130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сновные д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692280"/>
            <a:ext cx="86425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672 г. – рождение Петра Алексеев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676-1682 гг. – правление Фёдора Алексеевич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682-1689 гг. – регентство Софьи Алексе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689 г. – начало самостоятельного правления Петр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до 1696 г. совместное правление с братом Иван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695, 1695 гг. – Азовские п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697-1698 гг. – Великое посо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3102120" y="4365720"/>
            <a:ext cx="3228840" cy="23796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зучить параграф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ить на вопросы на стр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знакомиться с документами на стр.24                   и ответить на вопросы к ним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учить основные даты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5635"/>
          <p:cNvPicPr/>
          <p:nvPr/>
        </p:nvPicPr>
        <p:blipFill>
          <a:blip r:embed="rId1"/>
          <a:stretch/>
        </p:blipFill>
        <p:spPr>
          <a:xfrm>
            <a:off x="2987640" y="3573360"/>
            <a:ext cx="32958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етство П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воевластие. Царевна Соф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чало царствования П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зовские по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еликое посольство 1697-1698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Федя2"/>
          <p:cNvPicPr/>
          <p:nvPr/>
        </p:nvPicPr>
        <p:blipFill>
          <a:blip r:embed="rId1"/>
          <a:stretch/>
        </p:blipFill>
        <p:spPr>
          <a:xfrm>
            <a:off x="611280" y="3870360"/>
            <a:ext cx="2016000" cy="28400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46" name="Picture 5" descr="x1-z1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4080" y="3807000"/>
            <a:ext cx="2063880" cy="2846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47" name="Picture 8" descr="Cофья0"/>
          <p:cNvPicPr/>
          <p:nvPr/>
        </p:nvPicPr>
        <p:blipFill>
          <a:blip r:embed="rId4"/>
          <a:stretch/>
        </p:blipFill>
        <p:spPr>
          <a:xfrm>
            <a:off x="3576600" y="3852720"/>
            <a:ext cx="2160720" cy="2829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Детство П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79440" y="3500280"/>
            <a:ext cx="158436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е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163600" y="765000"/>
            <a:ext cx="680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тр Алексеевич родился 30 мая 1672 г.                                от второго брака Алексея Михайловича                                с Натальей Нарышкиной. Петр рос здоровым                       и крепким ребенком, в отличие от старших сводных братьев – Ивана и Федора.                                      Он стал любимцем отца, но в 1676 г. царь у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x1-z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765000"/>
            <a:ext cx="1984320" cy="2735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52" name="Picture 11" descr="Федя2"/>
          <p:cNvPicPr/>
          <p:nvPr/>
        </p:nvPicPr>
        <p:blipFill>
          <a:blip r:embed="rId3"/>
          <a:stretch/>
        </p:blipFill>
        <p:spPr>
          <a:xfrm>
            <a:off x="6630840" y="3011400"/>
            <a:ext cx="2244960" cy="31622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53" name="Text Box 12"/>
          <p:cNvSpPr/>
          <p:nvPr/>
        </p:nvSpPr>
        <p:spPr>
          <a:xfrm>
            <a:off x="6653160" y="6165720"/>
            <a:ext cx="224640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Федор Алексеевич (1676-168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08000" y="4005360"/>
            <a:ext cx="64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Царем стал старший сын Алексея Михайловича – Федор, обладавший слабым здоровьем. Федор был крестником Петра и заботился о нем. С пятилетнего возраста Петра начали учить грамоте - его первым наставником был дьяк Никита Зотов. В 10 лет Пётр должен был начать изучать риторику, историю, философию, иностранные языки, но в апреле 1682 г. Федор Алексеевич умер и началась борьба за вл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Двоевластие. Царевна Соф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0920" y="90792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ле смерти Федора в борьбе за власть столкнулись две группиров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724360" y="56275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рышкины         (родственники Пет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Мария Ильинична Милославска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3880" y="1700280"/>
            <a:ext cx="3181320" cy="38592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59" name="Text Box 9"/>
          <p:cNvSpPr/>
          <p:nvPr/>
        </p:nvSpPr>
        <p:spPr>
          <a:xfrm>
            <a:off x="-108000" y="562752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илославские                                (родственники Ивана и Софь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3745080" y="3429000"/>
            <a:ext cx="1979280" cy="0"/>
          </a:xfrm>
          <a:prstGeom prst="line">
            <a:avLst/>
          </a:prstGeom>
          <a:ln w="85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3"/>
          <a:stretch/>
        </p:blipFill>
        <p:spPr>
          <a:xfrm>
            <a:off x="5889600" y="1687680"/>
            <a:ext cx="2838600" cy="38718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62" name="TextBox 2"/>
          <p:cNvSpPr/>
          <p:nvPr/>
        </p:nvSpPr>
        <p:spPr>
          <a:xfrm>
            <a:off x="4324320" y="4816440"/>
            <a:ext cx="1540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талья Нары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535200" y="3800520"/>
            <a:ext cx="19051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рия Милосла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Двоевластие. Царевна Соф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Файл:Young Peter the Great parsu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031840"/>
            <a:ext cx="3198960" cy="3959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66" name="Text Box 6"/>
          <p:cNvSpPr/>
          <p:nvPr/>
        </p:nvSpPr>
        <p:spPr>
          <a:xfrm>
            <a:off x="179280" y="907920"/>
            <a:ext cx="864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арший брат Петра Иван обладал слабым здоровьем, также есть сведения о его слабоумии. Нарышкины при поддержке патриарха Иоакима провозгласили царем десятилетнего </a:t>
            </a: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Петра Алексееви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244520" y="601020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триарх Иоа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867280" y="5999040"/>
            <a:ext cx="23767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етр Алекс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Патриарх Иоаким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2043000"/>
            <a:ext cx="2994120" cy="39560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Двоевластие. Царевна Соф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79280" y="981000"/>
            <a:ext cx="8713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ответ на провозглашение царем Петра Милославские объявили стрельцам, что законный наследник Иван Алексеевич задушен боярами-изменниками и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5 мая 1682 г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начался бунт стрельцов. Были убиты руководитель Стрелецкого приказа Долгоруков, боярин Матвеев, князь Черкасский (все сторонники Нарышкиных). По существу власть в Москве перешла к стрельцам.                                                 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26 мая 1682 г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Боярская дума объявила первым царем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вана Алексеевича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вторым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тра Алексеевича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регентом при них была назначена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офья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004760" y="62625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ван Алекс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508720" y="6262560"/>
            <a:ext cx="27144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фья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Cофья0"/>
          <p:cNvPicPr/>
          <p:nvPr/>
        </p:nvPicPr>
        <p:blipFill>
          <a:blip r:embed="rId1"/>
          <a:stretch/>
        </p:blipFill>
        <p:spPr>
          <a:xfrm>
            <a:off x="4756320" y="969840"/>
            <a:ext cx="4012920" cy="5256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75" name="Picture 9" descr="Картинка 1 из 29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981000"/>
            <a:ext cx="3665520" cy="5256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Двоевластие. Царевна Соф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427640" y="907920"/>
            <a:ext cx="4595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конными царями являлись                  оба брата, но вся полнота власти на деле принадлежала царевне Софье.                                                     Вскоре Петр с матерью переехал в село Преображенское. Дворцовое образование Петра закончилось, но царь продолжал учиться. Он часто посещал Немецкую слободу, где в общении с иностранными специалистами изучал арифметику, геометрию, фортификацию, осваивал хождение под парусом и военное де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250920" y="911160"/>
            <a:ext cx="3852720" cy="53974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684360" y="6308640"/>
            <a:ext cx="3166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етр в Немецкой слоб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9080" y="1080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Двоевластие. Царевна Соф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199040" y="950760"/>
            <a:ext cx="475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специалистов из Немецкой слободы Петр построил в Преображенском «потешный городок» - крепость «Пресбург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Файл:Church of the Transfiguration in Preobrazhenskoye 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44640"/>
            <a:ext cx="3959280" cy="31780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83" name="Text Box 7"/>
          <p:cNvSpPr/>
          <p:nvPr/>
        </p:nvSpPr>
        <p:spPr>
          <a:xfrm>
            <a:off x="749160" y="4133880"/>
            <a:ext cx="302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Церковь Пре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220px-%D0%A1%D0%BE%D0%BB%D0%B4%D0%B0%D1%82_%D0%91%D1%83%D1%82%D1%8B%D1%80%D1%81%D0%BA%D0%BE%D0%B3%D0%BE_%D0%BF%D0%BE%D0%BB%D0%BA%D0%B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2852640"/>
            <a:ext cx="2523960" cy="33847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85" name="Text Box 10"/>
          <p:cNvSpPr/>
          <p:nvPr/>
        </p:nvSpPr>
        <p:spPr>
          <a:xfrm>
            <a:off x="6516720" y="6237360"/>
            <a:ext cx="2233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ешный п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63600" y="4791240"/>
            <a:ext cx="575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же в Преображенском Петр создал «потешные» полки – Семеновский и Преображенский. Они положили начало русской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гварди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в последствии помогли Петру в борьбе за вл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Начало царствования П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37000" y="752400"/>
            <a:ext cx="628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августе 1689 г. в Преображенском распространились слухи, что стрельцы готовят дворцовый переворот в пользу Софьи и грозят убить Петра. Петр бежал в Троице-Сергиев монастырь, откуда начал рассылать распоряжения. К концу августа вокруг него собрались все его сторонники, члены Боярской думы, примкнул и посланный Софьей для переговоров Патри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33200" y="4005360"/>
            <a:ext cx="5575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фья не планировала захвата власти, но лишившись сторонников не имела сил для борьбы с Петром. В сентябре Петр вступил в Москву и объявил об окончании регентства Софьи. Её сторонники были отстранены от власти (в том числе  В.Голицын был арестован и сослан в г.Каргополь, где умер в 1714 г. в полной нищет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офья1"/>
          <p:cNvPicPr/>
          <p:nvPr/>
        </p:nvPicPr>
        <p:blipFill>
          <a:blip r:embed="rId1"/>
          <a:stretch/>
        </p:blipFill>
        <p:spPr>
          <a:xfrm>
            <a:off x="147600" y="755640"/>
            <a:ext cx="2489400" cy="3105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91" name="Picture 8" descr="Картинка 1 из 217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37400" y="4221000"/>
            <a:ext cx="3082680" cy="23068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92" name="TextBox 1"/>
          <p:cNvSpPr/>
          <p:nvPr/>
        </p:nvSpPr>
        <p:spPr>
          <a:xfrm>
            <a:off x="128520" y="5229360"/>
            <a:ext cx="8886960" cy="703800"/>
          </a:xfrm>
          <a:prstGeom prst="rect">
            <a:avLst/>
          </a:prstGeom>
          <a:solidFill>
            <a:srgbClr val="f6ffdd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офья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была насильно пострижена в монахини и помещена                         в Новодевичий монасты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5:04:50Z</dcterms:created>
  <dc:creator>Нафор Маточ</dc:creator>
  <dc:description/>
  <dc:language>en-US</dc:language>
  <cp:lastModifiedBy>Администратор</cp:lastModifiedBy>
  <dcterms:modified xsi:type="dcterms:W3CDTF">2023-08-03T16:37:00Z</dcterms:modified>
  <cp:revision>135</cp:revision>
  <dc:subject/>
  <dc:title>Начало правления Петра I</dc:title>
</cp:coreProperties>
</file>