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254-8197-4D60-90BD-DEBCEDC2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96E-7C38-49FA-A9D6-DAF9635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EC8-9007-4FE6-8D22-E05A812D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94F-435A-47BF-B02D-4EA6D1D2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C5-E021-493B-B641-69D4BF4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CA6-734C-4917-896D-75C8193E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7B3-A5BA-46BD-A209-B8F11E65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B18-DCE2-4F1F-A165-A62FCAA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FB4-8FDA-4908-8E12-2B67CA8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E5F-6BF1-42D6-898C-CCBB101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041-7A90-4ABD-AE11-1E3D6D2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5A7-42A3-41DF-B5D6-BA90E82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2E54-1D76-4102-945B-DF559075B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y.orb.ru/assets/images/novosti_avatar/PDD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59.imageshack.us/img59/7753/600pxusgreatsealobverse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cs5952.vkontakte.ru/u30630505/-14/x_7f6d92cf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softportal.com/scr/10621/constitution-mid-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2565360"/>
            <a:ext cx="421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рава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бязанност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1867873"/>
          <p:cNvPicPr/>
          <p:nvPr/>
        </p:nvPicPr>
        <p:blipFill>
          <a:blip r:embed="rId1"/>
          <a:stretch/>
        </p:blipFill>
        <p:spPr>
          <a:xfrm>
            <a:off x="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7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Где проходит граница твоих пра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16280"/>
            <a:ext cx="8373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Граждане Российской Федерации </a:t>
            </a:r>
            <a:r>
              <a:rPr b="1" lang="ru-RU" sz="3600" spc="-1" strike="noStrike" u="sng">
                <a:solidFill>
                  <a:srgbClr val="ff6600"/>
                </a:solidFill>
                <a:uFillTx/>
                <a:latin typeface="Arial"/>
              </a:rPr>
              <a:t>обяз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755640" y="3141720"/>
            <a:ext cx="1943280" cy="698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492360" y="501336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372360" y="2852640"/>
            <a:ext cx="2303280" cy="62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826920" y="4581360"/>
            <a:ext cx="1872000" cy="771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443640" y="465300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087640" cy="199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Line 9"/>
          <p:cNvSpPr/>
          <p:nvPr/>
        </p:nvSpPr>
        <p:spPr>
          <a:xfrm flipH="1" flipV="1">
            <a:off x="2700360" y="349992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700360" y="4508640"/>
            <a:ext cx="720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V="1">
            <a:off x="5651640" y="3141720"/>
            <a:ext cx="647640" cy="433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29264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4000" y="0"/>
            <a:ext cx="8569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Права и обяза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раво - это то, что государство гарантирует дать своим гражданам, а обязанность - это то, что граждане гарантируют дать своему государ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язанность государства – гарантировать прав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ждог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конкретного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Изучить параграф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x_17bf67a9"/>
          <p:cNvPicPr/>
          <p:nvPr/>
        </p:nvPicPr>
        <p:blipFill>
          <a:blip r:embed="rId1"/>
          <a:stretch/>
        </p:blipFill>
        <p:spPr>
          <a:xfrm>
            <a:off x="1943280" y="2492280"/>
            <a:ext cx="5257800" cy="42544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85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еспечение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аница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и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флаг"/>
          <p:cNvPicPr/>
          <p:nvPr/>
        </p:nvPicPr>
        <p:blipFill>
          <a:blip r:embed="rId1"/>
          <a:stretch/>
        </p:blipFill>
        <p:spPr>
          <a:xfrm>
            <a:off x="2925720" y="3068640"/>
            <a:ext cx="3314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3640" y="9810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основе жизни человека                                   и деятельности человека лежит удовлетворение потребностей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ля этого человек должен иметь права, которые закреплены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ХХ веке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P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3816360" cy="46404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677520"/>
            <a:ext cx="81583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сновные группы прав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158112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раждан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на жизнь, на свободу и личную неприкосновенность, на честь и достои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2080" y="269568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возможность участия граждан в политической жизн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3809880"/>
            <a:ext cx="8642160" cy="119124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Экономические и социаль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касаются благосостояния, социальной защиты, достойный уровень жизни. (попробуйте предположить ка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62080" y="520380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Культур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духовное развити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560" y="4940280"/>
            <a:ext cx="8569080" cy="115272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 многих документах написано «права человека и граждан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робуйте объяснить поч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600pxusgreatsealobver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692280"/>
            <a:ext cx="4067280" cy="40669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58" name="Picture 14" descr="x_7f6d92c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692280"/>
            <a:ext cx="3860640" cy="4032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9" name="Text Box 15"/>
          <p:cNvSpPr/>
          <p:nvPr/>
        </p:nvSpPr>
        <p:spPr>
          <a:xfrm>
            <a:off x="355680" y="6237360"/>
            <a:ext cx="8570880" cy="45972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авним права гражданина страны и не гражда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4000" y="691920"/>
            <a:ext cx="5400720" cy="583236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вые документы закреплявшие и гарантировавшие права человека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Декларация независимости США» (1776 г.),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Декларация прав человека и гражданина»  (Франция, 1789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eclaration_of_Human_Rights"/>
          <p:cNvPicPr/>
          <p:nvPr/>
        </p:nvPicPr>
        <p:blipFill>
          <a:blip r:embed="rId1"/>
          <a:stretch/>
        </p:blipFill>
        <p:spPr>
          <a:xfrm>
            <a:off x="179280" y="549360"/>
            <a:ext cx="2408400" cy="302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3" name="Picture 8" descr="Картинка 10 из 120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3429000"/>
            <a:ext cx="2138400" cy="32018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3716280"/>
            <a:ext cx="8713800" cy="1224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Всеобщая декларация прав человека»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принята ООН 10 декабря 19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merti-v-mire"/>
          <p:cNvPicPr/>
          <p:nvPr/>
        </p:nvPicPr>
        <p:blipFill>
          <a:blip r:embed="rId1"/>
          <a:stretch/>
        </p:blipFill>
        <p:spPr>
          <a:xfrm>
            <a:off x="4932360" y="620640"/>
            <a:ext cx="4032360" cy="3017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67" name="Picture 9" descr="1302640232628-w750"/>
          <p:cNvPicPr/>
          <p:nvPr/>
        </p:nvPicPr>
        <p:blipFill>
          <a:blip r:embed="rId2"/>
          <a:stretch/>
        </p:blipFill>
        <p:spPr>
          <a:xfrm>
            <a:off x="250920" y="620640"/>
            <a:ext cx="4537080" cy="30243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68" name="Text Box 10"/>
          <p:cNvSpPr/>
          <p:nvPr/>
        </p:nvSpPr>
        <p:spPr>
          <a:xfrm>
            <a:off x="250920" y="5229360"/>
            <a:ext cx="8713800" cy="8863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м документе основные Права человека признаны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СЕОБЩИМИ и НЕОТЧУЖДАЕМ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беспечение пра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07280" cy="1008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осударство признает права и свободы человека 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179280" y="170028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уется поддерживать их соблюдение на свое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1"/>
          <p:cNvSpPr/>
          <p:nvPr/>
        </p:nvSpPr>
        <p:spPr>
          <a:xfrm>
            <a:off x="179280" y="256536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законы, гарантирующие каждо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2"/>
          <p:cNvSpPr/>
          <p:nvPr/>
        </p:nvSpPr>
        <p:spPr>
          <a:xfrm>
            <a:off x="179280" y="342900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ет судебную защиту прав человека                   в случае их нару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3" descr="picture"/>
          <p:cNvPicPr/>
          <p:nvPr/>
        </p:nvPicPr>
        <p:blipFill>
          <a:blip r:embed="rId1"/>
          <a:stretch/>
        </p:blipFill>
        <p:spPr>
          <a:xfrm>
            <a:off x="250920" y="4317840"/>
            <a:ext cx="3384360" cy="25401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5" name="Picture 44" descr="Картинка 47 из 2359"/>
          <p:cNvPicPr/>
          <p:nvPr/>
        </p:nvPicPr>
        <p:blipFill>
          <a:blip r:embed="rId2"/>
          <a:stretch/>
        </p:blipFill>
        <p:spPr>
          <a:xfrm>
            <a:off x="3708360" y="4292640"/>
            <a:ext cx="1841400" cy="2565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6" name="Picture 45" descr="Картинка 4 из 45852"/>
          <p:cNvPicPr/>
          <p:nvPr/>
        </p:nvPicPr>
        <p:blipFill>
          <a:blip r:embed="rId3"/>
          <a:stretch/>
        </p:blipFill>
        <p:spPr>
          <a:xfrm>
            <a:off x="5651640" y="4267080"/>
            <a:ext cx="3213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19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 Механизм защиты и реализации…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0" name="Text Box 9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45:08Z</dcterms:created>
  <dc:creator>Нафор Маточ</dc:creator>
  <dc:description/>
  <dc:language>en-US</dc:language>
  <cp:lastModifiedBy>Администратор</cp:lastModifiedBy>
  <dcterms:modified xsi:type="dcterms:W3CDTF">2023-08-05T19:09:23Z</dcterms:modified>
  <cp:revision>148</cp:revision>
  <dc:subject/>
  <dc:title>Что значит жить по правилам</dc:title>
</cp:coreProperties>
</file>