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165-A053-4C82-8551-E0D5DF88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6E6-EB36-478A-B05A-50E8150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370-9DB3-4097-9834-78745D16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D8E-F791-49E7-A645-202E7238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EB8-01F7-44F2-AC29-302A6071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A51-C722-4A19-BCDA-962312E1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F1E-73C8-4883-A618-4D9B3432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BC1-11AE-4125-B1CD-E4382C07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D71-BA00-4A9A-A166-38719485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81C-F739-4A1F-8F5F-25F23D2E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BD2-B4CA-4AAC-8609-6F5A84A7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A5C-02B6-49B7-8932-0AF5EF4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6FF6-1989-42F5-9C71-5E64BEFB3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edsudom.ru/netcat_files/Image/apmo.gi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hopzaschita.ru/d/45618/d/18..jpe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bm.img.com.ua/berlin/storage/afisha/600x500/e/12/a140a3dc18c4286aaf0e50669784212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чернильница"/>
          <p:cNvPicPr/>
          <p:nvPr/>
        </p:nvPicPr>
        <p:blipFill>
          <a:blip r:embed="rId1"/>
          <a:stretch/>
        </p:blipFill>
        <p:spPr>
          <a:xfrm>
            <a:off x="0" y="-353880"/>
            <a:ext cx="9144000" cy="721188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468360" y="333360"/>
            <a:ext cx="820728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то стоит</a:t>
            </a:r>
            <a:endParaRPr b="1" lang="en-US" sz="1800" spc="1" strike="noStrike">
              <a:ln w="475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на страже</a:t>
            </a:r>
            <a:endParaRPr b="1" lang="en-US" sz="1800" spc="1" strike="noStrike">
              <a:ln w="475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ЗАКОНА</a:t>
            </a:r>
            <a:endParaRPr b="1" lang="en-US" sz="1800" spc="1" strike="noStrike">
              <a:ln w="475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3. Полиция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203640" y="549360"/>
            <a:ext cx="3024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Й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24000" y="1484280"/>
            <a:ext cx="6119640" cy="503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. Патрульно-постовая служба (ПП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l_6e8e9975"/>
          <p:cNvPicPr/>
          <p:nvPr/>
        </p:nvPicPr>
        <p:blipFill>
          <a:blip r:embed="rId1"/>
          <a:stretch/>
        </p:blipFill>
        <p:spPr>
          <a:xfrm>
            <a:off x="6443640" y="1484280"/>
            <a:ext cx="2700360" cy="2025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5" name="Rectangle 10"/>
          <p:cNvSpPr/>
          <p:nvPr/>
        </p:nvSpPr>
        <p:spPr>
          <a:xfrm>
            <a:off x="324000" y="1989000"/>
            <a:ext cx="6119640" cy="503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. Дежурная ч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324000" y="2492280"/>
            <a:ext cx="6119640" cy="86544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. Подразделение по делам несовершеннолет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324000" y="3429000"/>
            <a:ext cx="6119640" cy="503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. Участ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24000" y="3933720"/>
            <a:ext cx="6119640" cy="503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. ГИБДД/ГА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324000" y="4437000"/>
            <a:ext cx="6119640" cy="503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. Паспортная служ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1050304687_big"/>
          <p:cNvPicPr/>
          <p:nvPr/>
        </p:nvPicPr>
        <p:blipFill>
          <a:blip r:embed="rId2"/>
          <a:stretch/>
        </p:blipFill>
        <p:spPr>
          <a:xfrm>
            <a:off x="5219640" y="3933720"/>
            <a:ext cx="3924360" cy="2924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1" name="Picture 18" descr="1555"/>
          <p:cNvPicPr/>
          <p:nvPr/>
        </p:nvPicPr>
        <p:blipFill>
          <a:blip r:embed="rId3"/>
          <a:stretch/>
        </p:blipFill>
        <p:spPr>
          <a:xfrm>
            <a:off x="2700360" y="4954680"/>
            <a:ext cx="2232000" cy="1903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27280" y="1125000"/>
            <a:ext cx="4484520" cy="30243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Изучить параграф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Ответить на вопросы «проверим себя»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Повторить параграфы 1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Картинка 86 из 1104"/>
          <p:cNvPicPr/>
          <p:nvPr/>
        </p:nvPicPr>
        <p:blipFill>
          <a:blip r:embed="rId1"/>
          <a:stretch/>
        </p:blipFill>
        <p:spPr>
          <a:xfrm>
            <a:off x="179280" y="1125360"/>
            <a:ext cx="4130640" cy="5399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115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1720" y="76680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1. На страже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2. С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3. Пол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флаг"/>
          <p:cNvPicPr/>
          <p:nvPr/>
        </p:nvPicPr>
        <p:blipFill>
          <a:blip r:embed="rId1"/>
          <a:stretch/>
        </p:blipFill>
        <p:spPr>
          <a:xfrm>
            <a:off x="2817720" y="2708280"/>
            <a:ext cx="3508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. На страже закон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50920" y="62064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Любое государство имеет законы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и следит за их испол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24000" y="1628640"/>
            <a:ext cx="8569080" cy="180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е государство имеет специальные органы следящие за исполнением закон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наказывающие нарушителей – это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ООХРАНИТЕЛЬ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р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24000" y="3573360"/>
            <a:ext cx="8567640" cy="100800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 Российской Федерации к правоохранительным органам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24000" y="4581360"/>
            <a:ext cx="4176720" cy="503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. Су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24000" y="5084640"/>
            <a:ext cx="4176720" cy="503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. Прокурату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24000" y="5589720"/>
            <a:ext cx="4176720" cy="503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. Полиц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24000" y="6093000"/>
            <a:ext cx="8569080" cy="50292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. Федеральная служба безопасности (ФСБ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716360" y="4581360"/>
            <a:ext cx="4176720" cy="503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. Тамож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. На страже закона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50920" y="620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значение правоохранительных органов – борьба с правонарушениями, пресечение противоправ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24000" y="4508640"/>
            <a:ext cx="8567640" cy="2087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ОКУ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существляет надзор за соблюдением законов, возбуждает уголовные дела, поддерживает обвинение в суде, представляет государственные интересы в судеб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1p"/>
          <p:cNvPicPr/>
          <p:nvPr/>
        </p:nvPicPr>
        <p:blipFill>
          <a:blip r:embed="rId1"/>
          <a:stretch/>
        </p:blipFill>
        <p:spPr>
          <a:xfrm>
            <a:off x="395280" y="1844640"/>
            <a:ext cx="1998720" cy="26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9" name="Picture 12" descr="00001"/>
          <p:cNvPicPr/>
          <p:nvPr/>
        </p:nvPicPr>
        <p:blipFill>
          <a:blip r:embed="rId2"/>
          <a:stretch/>
        </p:blipFill>
        <p:spPr>
          <a:xfrm>
            <a:off x="6451560" y="1773360"/>
            <a:ext cx="2392560" cy="266364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sp>
        <p:nvSpPr>
          <p:cNvPr id="60" name="Text Box 13"/>
          <p:cNvSpPr/>
          <p:nvPr/>
        </p:nvSpPr>
        <p:spPr>
          <a:xfrm>
            <a:off x="3995640" y="2492280"/>
            <a:ext cx="2376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блема прокуратуры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. На страже закона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620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ногда к правоохранительным органам относят адвокатуру и нотариат, оказывающих людям юридическую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68360" y="6021360"/>
            <a:ext cx="302400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мблема адвокатуры Моск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apm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44640"/>
            <a:ext cx="346716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65" name="Picture 10" descr="00002"/>
          <p:cNvPicPr/>
          <p:nvPr/>
        </p:nvPicPr>
        <p:blipFill>
          <a:blip r:embed="rId3"/>
          <a:stretch/>
        </p:blipFill>
        <p:spPr>
          <a:xfrm>
            <a:off x="5508720" y="1844640"/>
            <a:ext cx="313524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66" name="Text Box 11"/>
          <p:cNvSpPr/>
          <p:nvPr/>
        </p:nvSpPr>
        <p:spPr>
          <a:xfrm>
            <a:off x="5580000" y="6021360"/>
            <a:ext cx="30243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мблема нотариальной пал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. На страже закона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620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Закон предусматривает частную детективную и охранную деятельность. Для этого необходимо получить от государства разрешение – лицен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84360" y="6021360"/>
            <a:ext cx="30240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ый детек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435640" y="5229360"/>
            <a:ext cx="302400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трудник частного охранного предприятия (ЧО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276640"/>
            <a:ext cx="3816360" cy="2854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72" name="Picture 11" descr="a140a3dc18c4286aaf0e50669784212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05000"/>
            <a:ext cx="3809880" cy="3809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2. Суд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50920" y="620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ая задача суда – выяснение истины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 осуществление ПРАВОСУ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627280" y="2565360"/>
            <a:ext cx="215892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судебном засед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post-30446-1307203820"/>
          <p:cNvPicPr/>
          <p:nvPr/>
        </p:nvPicPr>
        <p:blipFill>
          <a:blip r:embed="rId1"/>
          <a:stretch/>
        </p:blipFill>
        <p:spPr>
          <a:xfrm>
            <a:off x="250920" y="1484280"/>
            <a:ext cx="2367000" cy="2997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7" name="Picture 9" descr="bimg239337"/>
          <p:cNvPicPr/>
          <p:nvPr/>
        </p:nvPicPr>
        <p:blipFill>
          <a:blip r:embed="rId2"/>
          <a:stretch/>
        </p:blipFill>
        <p:spPr>
          <a:xfrm>
            <a:off x="4788000" y="1557360"/>
            <a:ext cx="4033800" cy="3025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8" name="Rectangle 10"/>
          <p:cNvSpPr/>
          <p:nvPr/>
        </p:nvSpPr>
        <p:spPr>
          <a:xfrm>
            <a:off x="324000" y="4581360"/>
            <a:ext cx="8567640" cy="227664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 долгие века были выработаны основные принципы работы суда.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ЕЗУМПЦИЯ НЕВИНОВНОСТИ            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РФ судьей может быть только человек с юридическим образованием, руководствующийся           в принятии судебных решений ЗАКО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3. Полиция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50920" y="620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ОЛИЦИЯ входит в систему государственных органов ВД. Она осуществляет охрану общественного порядка, прав и свобод граждан, общественных организ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164360" y="5373720"/>
            <a:ext cx="172728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трудник пол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24521"/>
          <p:cNvPicPr/>
          <p:nvPr/>
        </p:nvPicPr>
        <p:blipFill>
          <a:blip r:embed="rId1"/>
          <a:stretch/>
        </p:blipFill>
        <p:spPr>
          <a:xfrm>
            <a:off x="250920" y="2205000"/>
            <a:ext cx="6842160" cy="433872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3. Полиция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556000" y="620640"/>
            <a:ext cx="41036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ОЛ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4000" y="1773360"/>
            <a:ext cx="3024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МИН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651640" y="1773360"/>
            <a:ext cx="3024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Й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131640" y="1125360"/>
            <a:ext cx="1295640" cy="57492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932360" y="1125360"/>
            <a:ext cx="1584360" cy="64800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324000" y="2349360"/>
            <a:ext cx="4176720" cy="352764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орьба с тяжкими преступлениями (убийство, грабеж, разбой, кража),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озыск лиц, скрывающихся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 правоохранительных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788000" y="2637000"/>
            <a:ext cx="4176720" cy="252072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еспечение личной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 общественной безопасности, охрана собственности, общественного поря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6:36:27Z</dcterms:created>
  <dc:creator>Нафор Маточ</dc:creator>
  <dc:description/>
  <dc:language>en-US</dc:language>
  <cp:lastModifiedBy>Администратор</cp:lastModifiedBy>
  <dcterms:modified xsi:type="dcterms:W3CDTF">2023-08-05T19:07:49Z</dcterms:modified>
  <cp:revision>311</cp:revision>
  <dc:subject/>
  <dc:title>Кто стоит на страже закона</dc:title>
</cp:coreProperties>
</file>