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60DF3-7AA8-4D1F-B66C-599848698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38650-4E36-4B44-A8CF-BCA2C40335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DCD72-2680-4321-AB51-1CE41AE013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2682-7825-4BA5-87DF-6319448BCE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02B78-86DC-41D2-B81F-E4FE766B4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A7825-8C18-4A19-8A18-F76F7200F7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035A-18BC-4075-8057-ABE7292BBF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7F7B5-6608-4FB9-8EF1-DFD3DE401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EC40-D3B5-4ED4-8264-CD3D7C8FE3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53BFD-3FB7-432B-9267-53FC1E89B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3D8D0-3D21-4066-A31C-1F9024DAD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445E8-5475-4052-BEC2-C1225EA428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9f4"/>
            </a:gs>
            <a:gs pos="50000">
              <a:srgbClr val="fee3ce"/>
            </a:gs>
            <a:gs pos="100000">
              <a:srgbClr val="fff9f4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ED87DA-679D-449F-A865-E5E950C6AB0D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presentation-history.ru/" TargetMode="External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2" descr="Христофор Колумб 1"/>
          <p:cNvPicPr/>
          <p:nvPr/>
        </p:nvPicPr>
        <p:blipFill>
          <a:blip r:embed="rId1"/>
          <a:stretch/>
        </p:blipFill>
        <p:spPr>
          <a:xfrm>
            <a:off x="0" y="260280"/>
            <a:ext cx="9144000" cy="6383520"/>
          </a:xfrm>
          <a:prstGeom prst="rect">
            <a:avLst/>
          </a:prstGeom>
          <a:ln w="0">
            <a:noFill/>
          </a:ln>
        </p:spPr>
      </p:pic>
      <p:sp>
        <p:nvSpPr>
          <p:cNvPr id="42" name="WordArt 11"/>
          <p:cNvSpPr txBox="1"/>
          <p:nvPr/>
        </p:nvSpPr>
        <p:spPr>
          <a:xfrm>
            <a:off x="539640" y="620640"/>
            <a:ext cx="7993080" cy="525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Мир  и  Россия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 эпоху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Великих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34920">
                  <a:solidFill>
                    <a:srgbClr val="0000ff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географических открытий</a:t>
            </a:r>
            <a:endParaRPr b="1" lang="en-US" sz="1800" spc="1" strike="noStrike">
              <a:ln w="34920">
                <a:solidFill>
                  <a:srgbClr val="0000ff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Начало русских географических открытий и их специфик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79280" y="5734080"/>
            <a:ext cx="87854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усские путешественники уже в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XV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. совершали длительные поездки. В 1468-1474 гг. тверской купец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Афанасий Никитин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посетил Персию, Аравию, Индию и Африку                                  («Хождение за три моря»)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6" descr=""/>
          <p:cNvPicPr/>
          <p:nvPr/>
        </p:nvPicPr>
        <p:blipFill>
          <a:blip r:embed="rId1"/>
          <a:stretch/>
        </p:blipFill>
        <p:spPr>
          <a:xfrm>
            <a:off x="1187280" y="1197000"/>
            <a:ext cx="7056720" cy="441324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7" descr=""/>
          <p:cNvPicPr/>
          <p:nvPr/>
        </p:nvPicPr>
        <p:blipFill>
          <a:blip r:embed="rId1"/>
          <a:stretch/>
        </p:blipFill>
        <p:spPr>
          <a:xfrm>
            <a:off x="971640" y="1125360"/>
            <a:ext cx="7416720" cy="38926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Начало русских географических открытий и их специфик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79280" y="5157360"/>
            <a:ext cx="8785440" cy="170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России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. еще не было развитых товарно-денежных отношений, поэтому географическим открытиям не придавалось значительного внимания. Первооткрывателями становились воеводы и дружинники, посылавшиеся московским князем во главе военных отрядов для поиска новых территорий и включения их в состав государства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8"/>
          <p:cNvSpPr/>
          <p:nvPr/>
        </p:nvSpPr>
        <p:spPr>
          <a:xfrm>
            <a:off x="324000" y="2421000"/>
            <a:ext cx="8569080" cy="1008720"/>
          </a:xfrm>
          <a:prstGeom prst="rect">
            <a:avLst/>
          </a:prstGeom>
          <a:solidFill>
            <a:srgbClr val="ffffd9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 </a:t>
            </a:r>
            <a:r>
              <a:rPr b="1" lang="en-US" sz="2000" spc="-1" strike="noStrike">
                <a:solidFill>
                  <a:srgbClr val="000066"/>
                </a:solidFill>
                <a:latin typeface="Arial"/>
              </a:rPr>
              <a:t>XVII </a:t>
            </a:r>
            <a:r>
              <a:rPr b="1" lang="ru-RU" sz="2000" spc="-1" strike="noStrike">
                <a:solidFill>
                  <a:srgbClr val="000066"/>
                </a:solidFill>
                <a:latin typeface="Arial"/>
              </a:rPr>
              <a:t>в. по мере развития товарно-денежных отношений                       в России началось включение вновь открытых земель                          в хозяйство и экономику стран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оследствия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79280" y="5660640"/>
            <a:ext cx="8785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Цели Великих географических открытий                                            (развитие мировой торговли, увеличение ее объема, получение прибылей от продажи восточных товаров без посредников) были достигнуты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835280" y="1268280"/>
            <a:ext cx="5832360" cy="381960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7" name="Text Box 7"/>
          <p:cNvSpPr/>
          <p:nvPr/>
        </p:nvSpPr>
        <p:spPr>
          <a:xfrm>
            <a:off x="3203640" y="5157720"/>
            <a:ext cx="3529080" cy="368280"/>
          </a:xfrm>
          <a:prstGeom prst="rect">
            <a:avLst/>
          </a:prstGeom>
          <a:noFill/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Рынок в Амстердаме в </a:t>
            </a: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в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Picture 16" descr=""/>
          <p:cNvPicPr/>
          <p:nvPr/>
        </p:nvPicPr>
        <p:blipFill>
          <a:blip r:embed="rId1"/>
          <a:stretch/>
        </p:blipFill>
        <p:spPr>
          <a:xfrm>
            <a:off x="900000" y="1700280"/>
            <a:ext cx="7201080" cy="50227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оследствия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следствия Великих географических откры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5"/>
          <p:cNvSpPr/>
          <p:nvPr/>
        </p:nvSpPr>
        <p:spPr>
          <a:xfrm>
            <a:off x="250920" y="170028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Начали формироваться колониальные империи, Европа богатела и развивалась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7"/>
          <p:cNvSpPr/>
          <p:nvPr/>
        </p:nvSpPr>
        <p:spPr>
          <a:xfrm>
            <a:off x="250920" y="242100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Проникновение научных знаний и технических открытий способствовало развитию науки и техники в Европ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250920" y="3141720"/>
            <a:ext cx="8569080" cy="131364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Для организации морских экспедиций стали основываться </a:t>
            </a:r>
            <a:r>
              <a:rPr b="1" i="1" lang="ru-RU" sz="2000" spc="-1" strike="noStrike">
                <a:solidFill>
                  <a:srgbClr val="006600"/>
                </a:solidFill>
                <a:latin typeface="Arial"/>
              </a:rPr>
              <a:t>паевые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 компании (Ост-Индская и Вест-Индская компании, занимавшиеся торговлей с Америкой и Индией, Московская – торговавшая с Россией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10"/>
          <p:cNvSpPr/>
          <p:nvPr/>
        </p:nvSpPr>
        <p:spPr>
          <a:xfrm>
            <a:off x="250920" y="4437000"/>
            <a:ext cx="8569080" cy="3988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Европейская экономика получила новые рынки сырья и сбыта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12"/>
          <p:cNvSpPr/>
          <p:nvPr/>
        </p:nvSpPr>
        <p:spPr>
          <a:xfrm>
            <a:off x="250920" y="486900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В Европу были завезены новые сельскохозяйственные культуры (картофель, томаты, кукуруза, какао, чай и пр.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3"/>
          <p:cNvSpPr/>
          <p:nvPr/>
        </p:nvSpPr>
        <p:spPr>
          <a:xfrm>
            <a:off x="250920" y="5589720"/>
            <a:ext cx="8569080" cy="39888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Христианство превратилось в мировую религию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15"/>
          <p:cNvSpPr/>
          <p:nvPr/>
        </p:nvSpPr>
        <p:spPr>
          <a:xfrm>
            <a:off x="250920" y="602136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Изменилась повседневная жизнь европейцев, расширились представления европейцев о мир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" dur="indefinite" restart="never" nodeType="tmRoot">
          <p:childTnLst>
            <p:seq>
              <p:cTn id="87" dur="indefinite" nodeType="mainSeq">
                <p:childTnLst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4" descr=""/>
          <p:cNvPicPr/>
          <p:nvPr/>
        </p:nvPicPr>
        <p:blipFill>
          <a:blip r:embed="rId1"/>
          <a:stretch/>
        </p:blipFill>
        <p:spPr>
          <a:xfrm>
            <a:off x="1042920" y="1700280"/>
            <a:ext cx="6624720" cy="496872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323640" y="25992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333399"/>
                </a:solidFill>
                <a:latin typeface="Arial"/>
              </a:rPr>
              <a:t>3. Последствия Великих географических открыти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79280" y="1267920"/>
            <a:ext cx="8785440" cy="119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оследствия Великих географических открыт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5"/>
          <p:cNvSpPr/>
          <p:nvPr/>
        </p:nvSpPr>
        <p:spPr>
          <a:xfrm>
            <a:off x="250920" y="170028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Усилилась борьба и соперничество между европейскими странами за колонии, начались колониальные войны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6"/>
          <p:cNvSpPr/>
          <p:nvPr/>
        </p:nvSpPr>
        <p:spPr>
          <a:xfrm>
            <a:off x="250920" y="2421000"/>
            <a:ext cx="8569080" cy="7038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В Европу были завезены новые опасные болезни, уносившие жизни большого числа люд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250920" y="3141720"/>
            <a:ext cx="8569080" cy="100872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-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Завоевание европейцами Нового Света привело к уничтожению самобытных местных цивилизаций, гибели миллионов коренных жителей</a:t>
            </a:r>
            <a:r>
              <a:rPr b="1" lang="ru-RU" sz="2000" spc="-1" strike="noStrike">
                <a:solidFill>
                  <a:srgbClr val="333399"/>
                </a:solidFill>
                <a:latin typeface="Arial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3"/>
          <p:cNvSpPr/>
          <p:nvPr/>
        </p:nvSpPr>
        <p:spPr>
          <a:xfrm>
            <a:off x="4788000" y="1628640"/>
            <a:ext cx="536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utoShape 4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utoShape 5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7"/>
          <p:cNvSpPr/>
          <p:nvPr/>
        </p:nvSpPr>
        <p:spPr>
          <a:xfrm>
            <a:off x="4419720" y="327672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7"/>
          <p:cNvSpPr/>
          <p:nvPr/>
        </p:nvSpPr>
        <p:spPr>
          <a:xfrm>
            <a:off x="187200" y="3789360"/>
            <a:ext cx="8705880" cy="273672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На сайте также размещены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урочные планы по истории и обществознанию с 5 по 11 классы, тестовые задания по истории и обществознанию, ответы на ВСЕ тестовые задания к ЕГЭ и ОГЭ по обществознанию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и истории открытого банка заданий ФИПИ, карты по Всеобщей истории и истории России, материалы для дополнительных занятий и многое друг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87200" y="444600"/>
            <a:ext cx="8705880" cy="2735280"/>
          </a:xfrm>
          <a:prstGeom prst="rect">
            <a:avLst/>
          </a:prstGeom>
          <a:noFill/>
          <a:ln w="22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  </a:t>
            </a: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лные блоки презентац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по Истории, Обществознанию и МХК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7030a0"/>
                </a:solidFill>
                <a:latin typeface="Arial"/>
              </a:rPr>
              <a:t>Вы можете найти на сайт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presentation-history.ru/</a:t>
            </a:r>
            <a:r>
              <a:rPr b="1" lang="ru-RU" sz="2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76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Домашнее задани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3640" y="765000"/>
            <a:ext cx="8373960" cy="259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Изучить параграф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Вопросы в конце параграфа (устно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Знать основные события и факт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Picture 11" descr=""/>
          <p:cNvPicPr/>
          <p:nvPr/>
        </p:nvPicPr>
        <p:blipFill>
          <a:blip r:embed="rId1"/>
          <a:stretch/>
        </p:blipFill>
        <p:spPr>
          <a:xfrm>
            <a:off x="1258920" y="2565360"/>
            <a:ext cx="6842160" cy="41212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692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6600"/>
                </a:solidFill>
                <a:latin typeface="Arial"/>
              </a:rPr>
              <a:t>План урок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68360" y="691920"/>
            <a:ext cx="8229600" cy="4670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1. Великие географические открытия: предпосылки и периодизац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2. Начало русских географических открытий и их специфи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Arial"/>
              </a:rPr>
              <a:t>3. Последствия Великих географических открыт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9" descr="глобус"/>
          <p:cNvPicPr/>
          <p:nvPr/>
        </p:nvPicPr>
        <p:blipFill>
          <a:blip r:embed="rId1"/>
          <a:stretch/>
        </p:blipFill>
        <p:spPr>
          <a:xfrm>
            <a:off x="2556000" y="3645000"/>
            <a:ext cx="4392360" cy="306540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Великие географические открытия: предпосылки и периодиза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50920" y="4076640"/>
            <a:ext cx="8642160" cy="278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C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древнейших времен люди начали исследовать окружающий мир. Есть данные об экспедиции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финикийских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мореплавателей вокруг Африки.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Китайские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мореходы плавали к берегам Индии, Восточной Африки, Аравии. По некоторым сведениям они добирались даже до берегов Центральной Америки.                                                              В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IX-X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вв.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викинги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открыли Исландию, Гренландию, Северную Америк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19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688000" cy="284508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49" name="Text Box 20"/>
          <p:cNvSpPr/>
          <p:nvPr/>
        </p:nvSpPr>
        <p:spPr>
          <a:xfrm>
            <a:off x="250920" y="1700280"/>
            <a:ext cx="8569080" cy="1557000"/>
          </a:xfrm>
          <a:prstGeom prst="rect">
            <a:avLst/>
          </a:prstGeom>
          <a:solidFill>
            <a:srgbClr val="ffffd9"/>
          </a:solidFill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Географическим открытием ученые считают                        не просто посещение территорий,                                        а начало их хозяйственного освоения и установление контактов с местным население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Великие географические открытия: предпосылки и периодиза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50920" y="5805360"/>
            <a:ext cx="8642160" cy="1052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Крупнейшие географические открытия, сделанные                  в конце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V –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середине </a:t>
            </a:r>
            <a:r>
              <a:rPr b="1" lang="en-US" sz="2400" spc="-1" strike="noStrike">
                <a:solidFill>
                  <a:srgbClr val="000066"/>
                </a:solidFill>
                <a:latin typeface="Arial"/>
              </a:rPr>
              <a:t>XVII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в., называют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еликими географическими открытиям. </a:t>
            </a: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карта гео"/>
          <p:cNvPicPr/>
          <p:nvPr/>
        </p:nvPicPr>
        <p:blipFill>
          <a:blip r:embed="rId1"/>
          <a:stretch/>
        </p:blipFill>
        <p:spPr>
          <a:xfrm>
            <a:off x="1547640" y="1052640"/>
            <a:ext cx="6624720" cy="4638600"/>
          </a:xfrm>
          <a:prstGeom prst="rect">
            <a:avLst/>
          </a:prstGeom>
          <a:ln w="0">
            <a:noFill/>
          </a:ln>
        </p:spPr>
      </p:pic>
      <p:sp>
        <p:nvSpPr>
          <p:cNvPr id="53" name="Text Box 9"/>
          <p:cNvSpPr/>
          <p:nvPr/>
        </p:nvSpPr>
        <p:spPr>
          <a:xfrm>
            <a:off x="250920" y="1557360"/>
            <a:ext cx="8642160" cy="1922760"/>
          </a:xfrm>
          <a:prstGeom prst="rect">
            <a:avLst/>
          </a:prstGeom>
          <a:solidFill>
            <a:srgbClr val="ffffd9"/>
          </a:solidFill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Arial"/>
              </a:rPr>
              <a:t>Основная причина начала эпохи Великих географических открытий – поиск морских торговых путей из Европы в Индию и Китай.                                 Старые сухопутные пути в эти страны для европейцев перекрыли турки-осма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Великие географические открытия: предпосылки и периодиза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Первый этап эпохи Великих географических открытий с конца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XV-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ередины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XVI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.                Первые открытия принадлежали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Испании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Португалии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6"/>
          <p:cNvSpPr/>
          <p:nvPr/>
        </p:nvSpPr>
        <p:spPr>
          <a:xfrm>
            <a:off x="250920" y="2492280"/>
            <a:ext cx="8496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492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 поисках пути в Индию,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Христофор Колумб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открыл Америку («Новый Свет»). До конца жизни Колумб  считал открытые им земли Индие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8"/>
          <p:cNvSpPr/>
          <p:nvPr/>
        </p:nvSpPr>
        <p:spPr>
          <a:xfrm>
            <a:off x="250920" y="3573360"/>
            <a:ext cx="8496360" cy="7038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498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Васко да Гама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обогнул Африку и достиг юго-западного побережья Инд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9"/>
          <p:cNvSpPr/>
          <p:nvPr/>
        </p:nvSpPr>
        <p:spPr>
          <a:xfrm>
            <a:off x="250920" y="4365720"/>
            <a:ext cx="8496360" cy="1008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Америго Веспуччи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описал открытые Колумбом земли и предположил, что это не Индия, а новый неизвестный континент. В честь него эти земли назвали Америко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0" descr="Христофор Колумб"/>
          <p:cNvPicPr/>
          <p:nvPr/>
        </p:nvPicPr>
        <p:blipFill>
          <a:blip r:embed="rId1"/>
          <a:stretch/>
        </p:blipFill>
        <p:spPr>
          <a:xfrm>
            <a:off x="250920" y="2467080"/>
            <a:ext cx="2938320" cy="43909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60" name="Picture 11" descr="1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3203640" y="2465280"/>
            <a:ext cx="2687400" cy="439272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  <p:pic>
        <p:nvPicPr>
          <p:cNvPr id="61" name="Picture 13" descr=""/>
          <p:cNvPicPr/>
          <p:nvPr/>
        </p:nvPicPr>
        <p:blipFill>
          <a:blip r:embed="rId3"/>
          <a:stretch/>
        </p:blipFill>
        <p:spPr>
          <a:xfrm>
            <a:off x="5867280" y="2470320"/>
            <a:ext cx="3065760" cy="4387680"/>
          </a:xfrm>
          <a:prstGeom prst="rect">
            <a:avLst/>
          </a:prstGeom>
          <a:ln w="1908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60280"/>
            <a:ext cx="856908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1. Великие географические открытия: предпосылки и периодизация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8642160" cy="136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торой этап эпохи Великих географических открытий с середины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XVI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-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до 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c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ередины</a:t>
            </a:r>
            <a:r>
              <a:rPr b="1" i="1" lang="en-US" sz="2400" spc="-1" strike="noStrike">
                <a:solidFill>
                  <a:srgbClr val="003300"/>
                </a:solidFill>
                <a:latin typeface="Arial"/>
              </a:rPr>
              <a:t> XVII 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в.                Главные открытия совершили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Англия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, </a:t>
            </a:r>
            <a:r>
              <a:rPr b="1" i="1" lang="ru-RU" sz="2400" spc="-1" strike="noStrike">
                <a:solidFill>
                  <a:srgbClr val="ff0000"/>
                </a:solidFill>
                <a:latin typeface="Arial"/>
              </a:rPr>
              <a:t>Франция и Голландия</a:t>
            </a:r>
            <a:r>
              <a:rPr b="1" i="1" lang="ru-RU" sz="2400" spc="-1" strike="noStrike">
                <a:solidFill>
                  <a:srgbClr val="0033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250920" y="2492280"/>
            <a:ext cx="8496360" cy="13136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ru-RU" sz="2000" spc="-1" strike="noStrike">
                <a:solidFill>
                  <a:srgbClr val="ff0000"/>
                </a:solidFill>
                <a:latin typeface="Arial"/>
              </a:rPr>
              <a:t>1553 г.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 поисках северо-восточного пути в Индию, застигнутый бурей </a:t>
            </a:r>
            <a:r>
              <a:rPr b="1" i="1" lang="ru-RU" sz="2000" spc="-1" strike="noStrike">
                <a:solidFill>
                  <a:srgbClr val="ff0000"/>
                </a:solidFill>
                <a:latin typeface="Arial"/>
              </a:rPr>
              <a:t>Ричард Ченслер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высадился на берегу  Белого моря, откуда отправился с посланием к Ивану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IV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                      в Москв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250920" y="3860640"/>
            <a:ext cx="8496360" cy="3988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 конце </a:t>
            </a:r>
            <a:r>
              <a:rPr b="1" lang="en-US" sz="2000" spc="-1" strike="noStrike">
                <a:solidFill>
                  <a:srgbClr val="000099"/>
                </a:solidFill>
                <a:latin typeface="Arial"/>
              </a:rPr>
              <a:t>XVI </a:t>
            </a: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в. голландцы добрались до Новой Земл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13" descr=""/>
          <p:cNvPicPr/>
          <p:nvPr/>
        </p:nvPicPr>
        <p:blipFill>
          <a:blip r:embed="rId1"/>
          <a:stretch/>
        </p:blipFill>
        <p:spPr>
          <a:xfrm>
            <a:off x="1042920" y="1052640"/>
            <a:ext cx="7129440" cy="5267160"/>
          </a:xfrm>
          <a:prstGeom prst="rect">
            <a:avLst/>
          </a:prstGeom>
          <a:ln w="22320">
            <a:solidFill>
              <a:srgbClr val="ff0000"/>
            </a:solidFill>
            <a:miter/>
          </a:ln>
        </p:spPr>
      </p:pic>
      <p:sp>
        <p:nvSpPr>
          <p:cNvPr id="67" name="Text Box 14"/>
          <p:cNvSpPr/>
          <p:nvPr/>
        </p:nvSpPr>
        <p:spPr>
          <a:xfrm>
            <a:off x="539640" y="6381720"/>
            <a:ext cx="7993080" cy="368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99"/>
                </a:solidFill>
                <a:latin typeface="Arial"/>
              </a:rPr>
              <a:t>Иван Грозный показывает сокровища английскому послу Горсею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nodeType="clickEffect" fill="hold">
                      <p:stCondLst>
                        <p:cond delay="indefinite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8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Начало русских географических открытий и их специфик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9280" y="5013360"/>
            <a:ext cx="8785440" cy="184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В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XV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в. Россия не имела постоянных отношений                      с Испанией и Португалией, сведения о новых открытых землях поступали с большим опозданием. Россия также была вовлечена в процесс Великих географических открытый и освоения новых территорий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1" descr=""/>
          <p:cNvPicPr/>
          <p:nvPr/>
        </p:nvPicPr>
        <p:blipFill>
          <a:blip r:embed="rId1"/>
          <a:stretch/>
        </p:blipFill>
        <p:spPr>
          <a:xfrm>
            <a:off x="1835280" y="1125360"/>
            <a:ext cx="5916600" cy="370692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Начало русских географических открытий и их специфик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79280" y="4652640"/>
            <a:ext cx="8785440" cy="220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Попытки освоения Урала и Западной Сибири начинаются по приказу Ивана </a:t>
            </a:r>
            <a:r>
              <a:rPr b="1" lang="en-US" sz="2400" spc="-1" strike="noStrike">
                <a:solidFill>
                  <a:srgbClr val="000099"/>
                </a:solidFill>
                <a:latin typeface="Arial"/>
              </a:rPr>
              <a:t>III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.                                      В 1483 г.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Федор Курбский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Иван Салтык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совершили первый поход на реку Обь. Воеводы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Семен Курбский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и </a:t>
            </a:r>
            <a:r>
              <a:rPr b="1" i="1" lang="ru-RU" sz="2400" spc="-1" strike="noStrike">
                <a:solidFill>
                  <a:srgbClr val="006600"/>
                </a:solidFill>
                <a:latin typeface="Arial"/>
              </a:rPr>
              <a:t>Петр Ушатый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предприняли большой поход в Западную Сибирь и установили, что Уральские горы простираются «от моря до моря»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5" descr=""/>
          <p:cNvPicPr/>
          <p:nvPr/>
        </p:nvPicPr>
        <p:blipFill>
          <a:blip r:embed="rId1"/>
          <a:stretch/>
        </p:blipFill>
        <p:spPr>
          <a:xfrm>
            <a:off x="3492360" y="1125360"/>
            <a:ext cx="2536920" cy="338328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23640" y="404280"/>
            <a:ext cx="8569080" cy="70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838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2. Начало русских географических открытий и их специфика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79280" y="5950080"/>
            <a:ext cx="8785440" cy="90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99"/>
                </a:solidFill>
                <a:latin typeface="Arial"/>
              </a:rPr>
              <a:t>Русские жители побережья Белого моря (поморы) на своих судах открыли пролив из Белого моря в Карское, достигли Новой Земли, Медвежьего острова и архипелага Шпицберген.</a:t>
            </a:r>
            <a:r>
              <a:rPr b="1" lang="ru-RU" sz="2400" spc="-1" strike="noStrike">
                <a:solidFill>
                  <a:srgbClr val="000099"/>
                </a:solidFill>
                <a:latin typeface="Arial"/>
              </a:rPr>
              <a:t>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5" descr=""/>
          <p:cNvPicPr/>
          <p:nvPr/>
        </p:nvPicPr>
        <p:blipFill>
          <a:blip r:embed="rId1"/>
          <a:stretch/>
        </p:blipFill>
        <p:spPr>
          <a:xfrm>
            <a:off x="1547640" y="1197000"/>
            <a:ext cx="6409080" cy="4627440"/>
          </a:xfrm>
          <a:prstGeom prst="rect">
            <a:avLst/>
          </a:prstGeom>
          <a:ln w="2232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06:08:34Z</dcterms:created>
  <dc:creator>Нафор Маточ</dc:creator>
  <dc:description/>
  <dc:language>en-US</dc:language>
  <cp:lastModifiedBy>Администратор</cp:lastModifiedBy>
  <dcterms:modified xsi:type="dcterms:W3CDTF">2023-08-03T16:30:07Z</dcterms:modified>
  <cp:revision>302</cp:revision>
  <dc:subject/>
  <dc:title> Мир и Россия в начале эпохи Великих географических открытий</dc:title>
</cp:coreProperties>
</file>