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38B-CCBC-4B6C-9D7D-BB48DD57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6A0-3B5B-4C78-BB57-5B7836A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EF3-1453-4AB7-AC7B-00A877E3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DE0-2DDA-4CE8-97F9-64AAE92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B52-121D-4EBE-9528-392EEB1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79B-81DD-4F7D-AC51-0DBD85B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A4C-F195-4E4D-AE0A-E72A6D8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501-F818-441E-A151-1BE67B8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AEA-A7B0-4329-A2EB-5BEF530D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A0D-ED46-422B-94BD-E6DC0E5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BEB-E7BB-48D2-BF81-83569C4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339-A3BF-43DC-92A0-94F4143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dc"/>
            </a:gs>
            <a:gs pos="50000">
              <a:srgbClr val="ff6600"/>
            </a:gs>
            <a:gs pos="100000">
              <a:srgbClr val="ffea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F36-297E-4DDC-B715-63E41C4E6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useum.ru/imgB.asp?22079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0/Europe_map_1648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shkolu.ru/content/media/pic/std/1000000/953000/952620-df278a2bfc69e6cc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icom.ru/f/2010/11/korolevskij-parlament-velikobritanii-foto_27330_s__1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img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12720"/>
            <a:ext cx="9144000" cy="6245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1"/>
          <p:cNvSpPr txBox="1"/>
          <p:nvPr/>
        </p:nvSpPr>
        <p:spPr>
          <a:xfrm>
            <a:off x="826920" y="189000"/>
            <a:ext cx="78487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силение королевской</a:t>
            </a:r>
            <a:endParaRPr b="1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ласти в XVI-XVII вв.</a:t>
            </a:r>
            <a:endParaRPr b="1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Абсолютизм в Европе</a:t>
            </a:r>
            <a:endParaRPr b="1" lang="en-US" sz="32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Ограничение роли органов сословного представ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916360" y="1125360"/>
            <a:ext cx="6048360" cy="48488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Франции абсолютная монархия начала складываться к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V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еку. Король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ранциск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Валу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(1515-1547) единолично принимал все важнейшие решения, на своих указах он писал: «Ибо нам так угодно».  Генеральные штаты во Франции           не превратились в постоянно действующий орган, а собирались только в случае большой необходимости по решению короля. С 1614 до 1789 г. Генеральные штаты не собирались ни 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4724280"/>
            <a:ext cx="230364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ис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ал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Прекрасная Ферроньера. ПРИСТАНЬ ОПТИМИСТОВ"/>
          <p:cNvPicPr/>
          <p:nvPr/>
        </p:nvPicPr>
        <p:blipFill>
          <a:blip r:embed="rId1"/>
          <a:stretch/>
        </p:blipFill>
        <p:spPr>
          <a:xfrm>
            <a:off x="179280" y="1125360"/>
            <a:ext cx="2622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Централизац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924360" y="765000"/>
            <a:ext cx="4968720" cy="59461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нглии центральным  административным и исполнительным органом был Тайный совет, члены которого назначались королем.                     Во Франции при короле существовал совет, считавшийся правительством, но его члены также назначались королем и выполняли его волю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ами этого правительства были принцы крови, высокие духовные чины, финансисты, юристы, но в стране было личное правление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340"/>
          <p:cNvPicPr/>
          <p:nvPr/>
        </p:nvPicPr>
        <p:blipFill>
          <a:blip r:embed="rId1"/>
          <a:stretch/>
        </p:blipFill>
        <p:spPr>
          <a:xfrm>
            <a:off x="179280" y="765000"/>
            <a:ext cx="3627720" cy="453564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83" name="Rectangle 10"/>
          <p:cNvSpPr/>
          <p:nvPr/>
        </p:nvSpPr>
        <p:spPr>
          <a:xfrm>
            <a:off x="620280" y="5383440"/>
            <a:ext cx="2853720" cy="10087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уз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льные ш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1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Централизац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11640" y="907920"/>
            <a:ext cx="4681440" cy="48488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нглии большая часть судебных дел велась двумя королевскими судами.                  За правосудием и мятежной знатью наблюдала Звездная палата. На местах существовали выборные мировые судьи (из старой аристократии и нового дворянства), но они избирались под контролем правительства и Тайного совета.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01040" y="5526720"/>
            <a:ext cx="3202920" cy="3988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глийский юрист 16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Джон Фортескью"/>
          <p:cNvPicPr/>
          <p:nvPr/>
        </p:nvPicPr>
        <p:blipFill>
          <a:blip r:embed="rId1"/>
          <a:stretch/>
        </p:blipFill>
        <p:spPr>
          <a:xfrm>
            <a:off x="324000" y="907920"/>
            <a:ext cx="3344760" cy="46087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Централизац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211640" y="907920"/>
            <a:ext cx="4681440" cy="558036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Франции ограничением королевской власти являлись высшие судебные органы в провинциях – парламенты. Они могли обжаловать судебные                    и правительственные решения. Короли остро конфликтовали                                с парламентами.                          Король Людови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споре с Парижским парламентом заявил: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Государство – это 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251720" y="4748760"/>
            <a:ext cx="164808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755912577f67"/>
          <p:cNvPicPr/>
          <p:nvPr/>
        </p:nvPicPr>
        <p:blipFill>
          <a:blip r:embed="rId1"/>
          <a:stretch/>
        </p:blipFill>
        <p:spPr>
          <a:xfrm>
            <a:off x="250920" y="907920"/>
            <a:ext cx="3752640" cy="38102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Централизац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211640" y="907920"/>
            <a:ext cx="4681440" cy="52146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ение страной и в Англии и во Франции осуществляли чиновники. Должности чиновников передавались по наследству, покупались. Личные достоинства не играли роли – важно было наличие денег. Большинство чиновников не получало платы от государства,                     а жило за счет населения (подарки, подношения, взят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Мода"/>
          <p:cNvPicPr/>
          <p:nvPr/>
        </p:nvPicPr>
        <p:blipFill>
          <a:blip r:embed="rId1"/>
          <a:stretch/>
        </p:blipFill>
        <p:spPr>
          <a:xfrm>
            <a:off x="179280" y="907920"/>
            <a:ext cx="3846600" cy="48182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Монархия и дворя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492360" y="692280"/>
            <a:ext cx="5400720" cy="22885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возникающих централизованных государствах этот принцип не устраивает монархов. Они стремятся к полному подчинению себе всех сословий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50920" y="5084640"/>
            <a:ext cx="8642160" cy="1557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этой целью феодалы постепенно лишаются своих привилегий и влияния. Короли принимают на службу дворян (новое сословие, положение которого полностью зависит от его службы коро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angliyskaya_revoluciya_2"/>
          <p:cNvPicPr/>
          <p:nvPr/>
        </p:nvPicPr>
        <p:blipFill>
          <a:blip r:embed="rId1"/>
          <a:stretch/>
        </p:blipFill>
        <p:spPr>
          <a:xfrm>
            <a:off x="250920" y="692280"/>
            <a:ext cx="2981160" cy="43210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99" name="Text Box 15"/>
          <p:cNvSpPr/>
          <p:nvPr/>
        </p:nvSpPr>
        <p:spPr>
          <a:xfrm>
            <a:off x="3492360" y="3213000"/>
            <a:ext cx="5400720" cy="1557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рая аристократия – феодалы (герцоги, графы, бароны, маркизы, баронеты) всячески противостоят этим попы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Абсолю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5589720"/>
            <a:ext cx="8713800" cy="106956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нархи стремятся к максимально возможной централизации управления, сосредоточения всех рычагов власти в своих руках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БСОЛЮТНОЙ МОНАРХ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korolevskij-parlament-velikobritanii-foto_27330_s__16"/>
          <p:cNvPicPr/>
          <p:nvPr/>
        </p:nvPicPr>
        <p:blipFill>
          <a:blip r:embed="rId1"/>
          <a:stretch/>
        </p:blipFill>
        <p:spPr>
          <a:xfrm>
            <a:off x="1332000" y="620640"/>
            <a:ext cx="6408720" cy="48736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Абсолю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067280" y="692280"/>
            <a:ext cx="4897440" cy="204516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ля обоснования притязаний короля выдвигается теор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ОЛЕВСКОГО СУВЕРЕНИТЕТ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король ни с кем не делится своими полномочиями и вла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067280" y="2852640"/>
            <a:ext cx="4897440" cy="32641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роль соединяет в своих руках все ветви власти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ПОЛНИТЕЛЬНУЮ ЗАКОНОДАТЕ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ДМИНИСТРАТИВНУЮ    СУДЕБ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решал все основные вопросы внутренней и внешне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114920" y="1844640"/>
            <a:ext cx="1915200" cy="703800"/>
          </a:xfrm>
          <a:prstGeom prst="rect">
            <a:avLst/>
          </a:prstGeom>
          <a:solidFill>
            <a:srgbClr val="ffff99"/>
          </a:solidFill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оль-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«Бюрократическая» монарх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8360" y="836640"/>
            <a:ext cx="82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ойте стр.79 и прочитайте разд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Бюрократическая» монарх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68360" y="1916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Что такое бюрократия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8360" y="2997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очему короли вынуждены были терпеть упрямство и волокиту государственных чинов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39640" y="450864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К какому результату привело усиление бюрократического аппарата во Фран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Аристократическая оппоз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00000" y="5734080"/>
            <a:ext cx="2303640" cy="7038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х Навар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564000" y="765000"/>
            <a:ext cx="5400720" cy="44830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цом абсолютизма стала Франция. Генр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тановил религиозный мир, выступая в роли верховного суд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610 г. он был убит религиозным фанатиком.               Власть перешла в руки Марии Медичи. Католики-аристократы потребовали восстановить все свои привилегии.                    Началась «Смута», которая продолжалась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765000"/>
            <a:ext cx="3051360" cy="4969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Picture 11" descr="i?id=267380163-19-72&amp;n=17"/>
          <p:cNvPicPr/>
          <p:nvPr/>
        </p:nvPicPr>
        <p:blipFill>
          <a:blip r:embed="rId2"/>
          <a:stretch/>
        </p:blipFill>
        <p:spPr>
          <a:xfrm>
            <a:off x="3564000" y="5229360"/>
            <a:ext cx="1184040" cy="1628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7" name="Text Box 12"/>
          <p:cNvSpPr/>
          <p:nvPr/>
        </p:nvSpPr>
        <p:spPr>
          <a:xfrm>
            <a:off x="4788000" y="6237360"/>
            <a:ext cx="2376360" cy="3988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ия Мед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бсолют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дин король – одна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граничение роли органов сословного представ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изация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0_6271b_dd3a5e01_XL"/>
          <p:cNvPicPr/>
          <p:nvPr/>
        </p:nvPicPr>
        <p:blipFill>
          <a:blip r:embed="rId1"/>
          <a:stretch/>
        </p:blipFill>
        <p:spPr>
          <a:xfrm>
            <a:off x="2627280" y="3860640"/>
            <a:ext cx="4032360" cy="283536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Аристократическая оппоз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987640" y="2349360"/>
            <a:ext cx="2016000" cy="7038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динал Риш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4149720"/>
            <a:ext cx="8640720" cy="30200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 Людовик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благодаря кардиналу Ришелье абсолютизм вновь укрепилс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осударство стало контролировать ситуацию в стране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считал благо государства выше династических, религиозных, феодальных и прочих предпоч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лишил гугенотов крепостей,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 гарантировал религиозную свободу,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трунил католиков и запретил дуэ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708360" y="1413000"/>
            <a:ext cx="2376360" cy="3988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1145447"/>
          <p:cNvPicPr/>
          <p:nvPr/>
        </p:nvPicPr>
        <p:blipFill>
          <a:blip r:embed="rId1"/>
          <a:stretch/>
        </p:blipFill>
        <p:spPr>
          <a:xfrm>
            <a:off x="379440" y="692280"/>
            <a:ext cx="2568600" cy="33130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pic>
        <p:nvPicPr>
          <p:cNvPr id="123" name="Picture 9" descr="508"/>
          <p:cNvPicPr/>
          <p:nvPr/>
        </p:nvPicPr>
        <p:blipFill>
          <a:blip r:embed="rId2"/>
          <a:stretch/>
        </p:blipFill>
        <p:spPr>
          <a:xfrm>
            <a:off x="6156360" y="692280"/>
            <a:ext cx="2630520" cy="338436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Король-сол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3213000"/>
            <a:ext cx="255600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динал Мазар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3716280"/>
            <a:ext cx="8640720" cy="2726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643 г. Королем стал  5-летний Людови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 Регентом был кардинал Мазарини. После смерти кардинала Мазарини в 1661г. Людови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XIV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л править сам.                                                                                   Он заявил - «Государство - это я!» и стал полностью независим от подданных.                                                  Король единолично решал все вопросы и стоял на страже прав всех со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%D0%B4%20%D0%B0%D1%80%D1%82%20monarchy7"/>
          <p:cNvPicPr/>
          <p:nvPr/>
        </p:nvPicPr>
        <p:blipFill>
          <a:blip r:embed="rId1"/>
          <a:stretch/>
        </p:blipFill>
        <p:spPr>
          <a:xfrm>
            <a:off x="324000" y="692280"/>
            <a:ext cx="1973160" cy="25207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pic>
        <p:nvPicPr>
          <p:cNvPr id="128" name="Picture 13" descr="1"/>
          <p:cNvPicPr/>
          <p:nvPr/>
        </p:nvPicPr>
        <p:blipFill>
          <a:blip r:embed="rId2"/>
          <a:stretch/>
        </p:blipFill>
        <p:spPr>
          <a:xfrm>
            <a:off x="2627280" y="692280"/>
            <a:ext cx="1575000" cy="252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29" name="Text Box 14"/>
          <p:cNvSpPr/>
          <p:nvPr/>
        </p:nvSpPr>
        <p:spPr>
          <a:xfrm>
            <a:off x="2556000" y="3213000"/>
            <a:ext cx="194292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000hqhxc"/>
          <p:cNvPicPr/>
          <p:nvPr/>
        </p:nvPicPr>
        <p:blipFill>
          <a:blip r:embed="rId3"/>
          <a:stretch/>
        </p:blipFill>
        <p:spPr>
          <a:xfrm>
            <a:off x="4284720" y="692280"/>
            <a:ext cx="4859280" cy="25351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131" name="Text Box 17"/>
          <p:cNvSpPr/>
          <p:nvPr/>
        </p:nvSpPr>
        <p:spPr>
          <a:xfrm>
            <a:off x="5219640" y="3284640"/>
            <a:ext cx="295272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аль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Король-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3716280"/>
            <a:ext cx="8640720" cy="28026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ль выступал против всякого свободомыслия и поэтому он начал преследовать гугенотов.                          В 1685 г. Нантский эдикт был отме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громные расходы на содержание королевского двора, роскошные балы и приемы, строительство множества дворцов – королевских резиденций РАЗОРЯЛИ страну, королевский двор вынужден был прибегать к зай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88000" y="2205000"/>
            <a:ext cx="295272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аль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0b14eb7e75f5710c89f5a586e8c8ce26"/>
          <p:cNvPicPr/>
          <p:nvPr/>
        </p:nvPicPr>
        <p:blipFill>
          <a:blip r:embed="rId1"/>
          <a:stretch/>
        </p:blipFill>
        <p:spPr>
          <a:xfrm>
            <a:off x="250920" y="620640"/>
            <a:ext cx="4537080" cy="30034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Возлюбленный кор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0920" y="4076640"/>
            <a:ext cx="8640720" cy="2654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23 г. королем становится Людовик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V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Огромное влияние при дворе приобрели фавориты и фаворитки, вмешивавшиеся в государственное управление. Они раздавали должности, награды, денежные вознаграждения, назначали и смещали министров. Правление короля вело страну к дальнейшему разор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&amp;Lcy;&amp;yucy;&amp;dcy;&amp;ocy;&amp;vcy;&amp;icy;&amp;kcy; XV"/>
          <p:cNvPicPr/>
          <p:nvPr/>
        </p:nvPicPr>
        <p:blipFill>
          <a:blip r:embed="rId1"/>
          <a:stretch/>
        </p:blipFill>
        <p:spPr>
          <a:xfrm>
            <a:off x="324000" y="692280"/>
            <a:ext cx="2570040" cy="33130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139" name="AutoShape 13"/>
          <p:cNvSpPr/>
          <p:nvPr/>
        </p:nvSpPr>
        <p:spPr>
          <a:xfrm>
            <a:off x="1019160" y="571680"/>
            <a:ext cx="7105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220px-Fran%C3%A7ois_Boucher_019_%28Madame_de_Pompadour%29"/>
          <p:cNvPicPr/>
          <p:nvPr/>
        </p:nvPicPr>
        <p:blipFill>
          <a:blip r:embed="rId2"/>
          <a:stretch/>
        </p:blipFill>
        <p:spPr>
          <a:xfrm>
            <a:off x="4716360" y="692280"/>
            <a:ext cx="4103640" cy="33001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141" name="Text Box 16"/>
          <p:cNvSpPr/>
          <p:nvPr/>
        </p:nvSpPr>
        <p:spPr>
          <a:xfrm>
            <a:off x="2771640" y="2924280"/>
            <a:ext cx="194328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50920" y="2492280"/>
            <a:ext cx="8640720" cy="3080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первой половине 18 века Франция продолжает оставаться одним из сильнейших государств Европы. Однако, правление Людовик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V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 Людовик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вели к тому, что Франция постепенно утрачивала свои ведущие позиции в европейских делах, мировой торговле и колониально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зучить параграф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Знать и уметь объяснить основные понят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002040" y="5661000"/>
            <a:ext cx="194472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judowik15"/>
          <p:cNvPicPr/>
          <p:nvPr/>
        </p:nvPicPr>
        <p:blipFill>
          <a:blip r:embed="rId1"/>
          <a:stretch/>
        </p:blipFill>
        <p:spPr>
          <a:xfrm>
            <a:off x="4959360" y="2924280"/>
            <a:ext cx="3222720" cy="39337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Образование централизованных государ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Europe_map_1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203480"/>
            <a:ext cx="7848360" cy="56545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48" name="Text Box 10"/>
          <p:cNvSpPr/>
          <p:nvPr/>
        </p:nvSpPr>
        <p:spPr>
          <a:xfrm>
            <a:off x="179280" y="1700280"/>
            <a:ext cx="8713800" cy="4162680"/>
          </a:xfrm>
          <a:prstGeom prst="rect">
            <a:avLst/>
          </a:prstGeom>
          <a:solidFill>
            <a:srgbClr val="ffe2c5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начале Нового времени на территории Европы возникают крупные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чем отличие от Средневеко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р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сп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чь Посполи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усское госу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Абсолю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7d382fc9cbebt"/>
          <p:cNvPicPr/>
          <p:nvPr/>
        </p:nvPicPr>
        <p:blipFill>
          <a:blip r:embed="rId1"/>
          <a:stretch/>
        </p:blipFill>
        <p:spPr>
          <a:xfrm>
            <a:off x="179280" y="836640"/>
            <a:ext cx="2705040" cy="367200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51" name="Text Box 4"/>
          <p:cNvSpPr/>
          <p:nvPr/>
        </p:nvSpPr>
        <p:spPr>
          <a:xfrm>
            <a:off x="2987640" y="836640"/>
            <a:ext cx="5977080" cy="36370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ожденный подданным должен повиноваться» - смысл абсолютизма.                             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Абсолют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- форма правления, при которой верховная влас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граничен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надлежит одному лицу – монар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изм складывался 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 – XV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в.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79280" y="4581360"/>
            <a:ext cx="8785440" cy="2654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бщегосударственного аппарата управления, постоянной профессиональной армии, государственной налоговой системы, единого государственного законодательства и административного устройства, единой государственной экономической политики и т.д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дин король – одна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952620-df278a2bfc69e6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620640"/>
            <a:ext cx="7777440" cy="618012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55" name="Text Box 14"/>
          <p:cNvSpPr/>
          <p:nvPr/>
        </p:nvSpPr>
        <p:spPr>
          <a:xfrm>
            <a:off x="468360" y="3429000"/>
            <a:ext cx="842472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 ОЗНАЧАЕТ  ЭТО  ВЫСКАЗЫВ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V="1">
            <a:off x="1692360" y="2060640"/>
            <a:ext cx="1727280" cy="1224000"/>
          </a:xfrm>
          <a:prstGeom prst="line">
            <a:avLst/>
          </a:prstGeom>
          <a:ln w="98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дин король – одна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79280" y="4187880"/>
            <a:ext cx="8713800" cy="2654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завершения Столетней войны во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ранц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были ликвидированы старые права провинций (Нормандия, Бургундия и др.), они потеряли свою независимость          и перешли под власть короля.                                                           В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нгл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роль подчинил своей власти отдаленные северные графства и Уэльс (созданы Совет Севера              и Совет Уэль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orolevskij-parlament-velikobritanii-foto_27330_s__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676440"/>
            <a:ext cx="4464360" cy="33940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179280" y="2133720"/>
            <a:ext cx="8713800" cy="1922760"/>
          </a:xfrm>
          <a:prstGeom prst="rect">
            <a:avLst/>
          </a:prstGeom>
          <a:solidFill>
            <a:srgbClr val="ffcc99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предотвращения начала новых феодальных усобиц у старой непокорной и своенравной знати отбирались земли, разрушали замки, распускались отряды феодалов. Ограничения свобод коснулись              и городов, отстаивавших свои старинные п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дин король – одна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492360" y="692280"/>
            <a:ext cx="5400720" cy="2654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ериод абсолютизма органы сословного представительства (английский парламент, испанские кортесы, французские Генеральные штаты) утрачивают свое значение. Короли стремятся избавится от их вли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5084640"/>
            <a:ext cx="8642160" cy="1557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этой целью феодалы постепенно лишаются своих привилегий и влияния. Короли принимают на службу дворян (новое сословие, положение которого полностью зависит от его службы коро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angliyskaya_revoluciya_2"/>
          <p:cNvPicPr/>
          <p:nvPr/>
        </p:nvPicPr>
        <p:blipFill>
          <a:blip r:embed="rId1"/>
          <a:stretch/>
        </p:blipFill>
        <p:spPr>
          <a:xfrm>
            <a:off x="250920" y="692280"/>
            <a:ext cx="2981160" cy="432108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3492360" y="3357720"/>
            <a:ext cx="5400720" cy="1557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рая аристократия – феодалы (герцоги, графы, бароны, маркизы, баронеты) всячески противостоят этим попы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Ограничение роли органов сословного представ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050920" y="1125360"/>
            <a:ext cx="6913800" cy="22885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ериод абсолютизма органы сословного представительства (английский парламент, испанские кортесы, французские Генеральные штаты) утрачивают свое значение. Короли стремятся избавится             от их вли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3645000"/>
            <a:ext cx="6121440" cy="30200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37 лет правления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енриха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арламент собирался только 21 раз,  а за 45 лет правления  его дочер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лизаве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13 раз. Короли не могли избавиться от парламента совсем,            но значительно ограничили их влияние, тем самым укрепив свою абсолютную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7d382fc9cbebt"/>
          <p:cNvPicPr/>
          <p:nvPr/>
        </p:nvPicPr>
        <p:blipFill>
          <a:blip r:embed="rId1"/>
          <a:stretch/>
        </p:blipFill>
        <p:spPr>
          <a:xfrm>
            <a:off x="179280" y="1125360"/>
            <a:ext cx="1749600" cy="23749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pic>
        <p:nvPicPr>
          <p:cNvPr id="70" name="Picture 9" descr="Queen Elizabeth 1st Signature"/>
          <p:cNvPicPr/>
          <p:nvPr/>
        </p:nvPicPr>
        <p:blipFill>
          <a:blip r:embed="rId2"/>
          <a:stretch/>
        </p:blipFill>
        <p:spPr>
          <a:xfrm>
            <a:off x="6588000" y="3645000"/>
            <a:ext cx="2303640" cy="30337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Ограничение роли органов сословного представ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916360" y="1125360"/>
            <a:ext cx="6048360" cy="192276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упивший на английский трон после Елизаветы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ков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Стюарт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(1603-1625) в течение всего своего правления боролся с парламентом, всячески ограничивая его рол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916360" y="3213000"/>
            <a:ext cx="6048360" cy="30200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ков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читал, что парламент вредит делам управления государством.              В своей речи обращенной к парламенту в 1604 г. король заявил, что он является полновластным хозяином всей страны: «я – глава,               а остров мое тело, я – пастырь,                    а остров – мое стад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Сентябрь. Шотландия. История. :: Интернет-журнал Little Scotland (Маленькая Шотландия)"/>
          <p:cNvPicPr/>
          <p:nvPr/>
        </p:nvPicPr>
        <p:blipFill>
          <a:blip r:embed="rId1"/>
          <a:stretch/>
        </p:blipFill>
        <p:spPr>
          <a:xfrm>
            <a:off x="250920" y="1125360"/>
            <a:ext cx="2500200" cy="3456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395280" y="4581360"/>
            <a:ext cx="2303640" cy="36828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ю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4:02:11Z</dcterms:created>
  <dc:creator>Нафор Маточ</dc:creator>
  <dc:description/>
  <dc:language>en-US</dc:language>
  <cp:lastModifiedBy>Администратор</cp:lastModifiedBy>
  <dcterms:modified xsi:type="dcterms:W3CDTF">2023-08-03T17:58:21Z</dcterms:modified>
  <cp:revision>241</cp:revision>
  <dc:subject/>
  <dc:title>Усиление королевской власти в XVI-XVII вв. Абсолютизм в Европе.</dc:title>
</cp:coreProperties>
</file>