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796-ED2A-40B4-9344-DC8FBEDF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7E5-52A2-4E26-84DD-DE9D1DEF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B16-DC69-4F1B-9422-82D177AC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DE4-16FA-4167-9CBC-E941E8A7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8FC-65D2-45E4-B6C7-2F01B261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7E2-1FE1-4FCF-9897-65C4D7DD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B91-C65D-4CA5-8CC8-808EEA12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788-79F4-4290-945F-E30D6807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F7D-947D-4EA7-81CF-35023A94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6C0-4575-4A75-A33E-823E2D5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724-CF27-4581-8DE4-8D9D03D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D49-521A-47A5-994F-9B782E8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e608"/>
            </a:gs>
            <a:gs pos="50000">
              <a:srgbClr val="b3f709"/>
            </a:gs>
            <a:gs pos="100000">
              <a:srgbClr val="a6e6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F172-1E58-4563-A2DF-358120A8E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rangeworlds.at.ua/kartinki1/a2/lavrentievskaja_rukopis4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5800" y="3733920"/>
            <a:ext cx="8001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33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Христианская церковь</a:t>
            </a:r>
            <a:endParaRPr b="1" lang="en-US" sz="1800" spc="1" strike="noStrike">
              <a:ln w="34920">
                <a:solidFill>
                  <a:srgbClr val="0033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33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 раннее Средневековье</a:t>
            </a:r>
            <a:endParaRPr b="1" lang="en-US" sz="1800" spc="1" strike="noStrike">
              <a:ln w="34920">
                <a:solidFill>
                  <a:srgbClr val="0033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pic>
        <p:nvPicPr>
          <p:cNvPr id="42" name="Picture 16" descr="http://en.academic.ru/pictures/enwiki/67/Charles_Martel_Saint_Denis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30862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Искусство рукописной книги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4419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абота над книгой занимала очень много времени и трудилось много людей (одни писали каллиграфическим почерком, другие вписывали заглавные буквы, третьи рисовали миниатюры, четвертые делали заставки, орнамен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629400" y="1981080"/>
            <a:ext cx="22860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над изготовлением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nauka-i-texnika-v-srednie-veka_1"/>
          <p:cNvPicPr/>
          <p:nvPr/>
        </p:nvPicPr>
        <p:blipFill>
          <a:blip r:embed="rId1"/>
          <a:stretch/>
        </p:blipFill>
        <p:spPr>
          <a:xfrm>
            <a:off x="457200" y="685800"/>
            <a:ext cx="6172200" cy="3544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Искусство рукописной книги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ниги были редкостью и стоили очень дорого.            В церквах и библиотеках книги для защиты                   от краж приковывали цеп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657600" y="1981080"/>
            <a:ext cx="2286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ованные цепями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reader"/>
          <p:cNvPicPr/>
          <p:nvPr/>
        </p:nvPicPr>
        <p:blipFill>
          <a:blip r:embed="rId1"/>
          <a:stretch/>
        </p:blipFill>
        <p:spPr>
          <a:xfrm>
            <a:off x="380880" y="838080"/>
            <a:ext cx="3322800" cy="3810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85" name="Picture 9" descr="post-392-1294783574"/>
          <p:cNvPicPr/>
          <p:nvPr/>
        </p:nvPicPr>
        <p:blipFill>
          <a:blip r:embed="rId2"/>
          <a:stretch/>
        </p:blipFill>
        <p:spPr>
          <a:xfrm>
            <a:off x="5943600" y="838080"/>
            <a:ext cx="2857680" cy="3810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5. «Семь свободных искусст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26920" y="630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27640" y="692280"/>
            <a:ext cx="446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рл Великий приказал открыть школы при монастырях. Позднее при храмах и соборах                           в больших городах стали открываться соборные школы. Обучение шло                  на латинском языке - международном языке образованных людей Западной Европы: на нем читали молитвы, писали книги, записывали законы, составляли важные посл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untitled"/>
          <p:cNvPicPr/>
          <p:nvPr/>
        </p:nvPicPr>
        <p:blipFill>
          <a:blip r:embed="rId1"/>
          <a:stretch/>
        </p:blipFill>
        <p:spPr>
          <a:xfrm>
            <a:off x="179280" y="836640"/>
            <a:ext cx="4240440" cy="5184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5. «Семь свободных искусст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26920" y="630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219640" y="836640"/>
            <a:ext cx="36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полное школьное образование входило с античных времен изучение  «семи свободных искусств»: наук «тривиума»                    и «квадривиум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Teologia3_1309348128"/>
          <p:cNvPicPr/>
          <p:nvPr/>
        </p:nvPicPr>
        <p:blipFill>
          <a:blip r:embed="rId1"/>
          <a:stretch/>
        </p:blipFill>
        <p:spPr>
          <a:xfrm>
            <a:off x="179280" y="765000"/>
            <a:ext cx="5040360" cy="3318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4" name="Text Box 6"/>
          <p:cNvSpPr/>
          <p:nvPr/>
        </p:nvSpPr>
        <p:spPr>
          <a:xfrm>
            <a:off x="179280" y="421020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Тривиум» включал в себя грамматику (умение читать и писать на латыни), риторику (красноречие)                               и диалектику (искусство рассуждать).                                               Во вторую ступень образования - «квадривиум» входили арифметика, геометрия, астрономия                            и музыка. Только освоив эти науки, можно было                          в дальнейшем изучать «царицу наук» -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богословие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5. «Семь свободных искусств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26920" y="630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916360" y="836640"/>
            <a:ext cx="597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бразованным человеком считался тот, кто знал мнение авторитетов               по любому поводу. Образование заключалось в заучивании цитат                 из авторитетов и предполагало прежде всего хорошую память                           и усидч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384480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уки «квадривиума» были слабо развиты. Счет долго велся римскими цифрами и был труден, обычно усваивали лишь сложение и вычитание. Умножение, деление и дроби давались немногим. Из геометрии решали простейшие практические задачи, необходимые для строительства. Астрономию использовали, чтобы высчитывать даты церковных праздников и сроки полевы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protostoria"/>
          <p:cNvPicPr/>
          <p:nvPr/>
        </p:nvPicPr>
        <p:blipFill>
          <a:blip r:embed="rId1"/>
          <a:stretch/>
        </p:blipFill>
        <p:spPr>
          <a:xfrm>
            <a:off x="355680" y="765000"/>
            <a:ext cx="2452680" cy="3024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52280" y="68580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Изучить параграф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Ответить на вопросы в конце параграфа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16-8"/>
          <p:cNvPicPr/>
          <p:nvPr/>
        </p:nvPicPr>
        <p:blipFill>
          <a:blip r:embed="rId1"/>
          <a:stretch/>
        </p:blipFill>
        <p:spPr>
          <a:xfrm>
            <a:off x="1104840" y="2438280"/>
            <a:ext cx="6934320" cy="4160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0492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685800"/>
            <a:ext cx="83818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 Хлодвиг и христианская церк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 Духовенство и мир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Монасты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Искусство рукописной кни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5. «Семь свободных искусст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450px-Clovis_1er"/>
          <p:cNvPicPr/>
          <p:nvPr/>
        </p:nvPicPr>
        <p:blipFill>
          <a:blip r:embed="rId1"/>
          <a:stretch/>
        </p:blipFill>
        <p:spPr>
          <a:xfrm>
            <a:off x="3352680" y="3200400"/>
            <a:ext cx="2629080" cy="35053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Хлодвиг и христианская це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aptism_of_Clovis"/>
          <p:cNvPicPr/>
          <p:nvPr/>
        </p:nvPicPr>
        <p:blipFill>
          <a:blip r:embed="rId1"/>
          <a:stretch/>
        </p:blipFill>
        <p:spPr>
          <a:xfrm>
            <a:off x="228600" y="838080"/>
            <a:ext cx="3352680" cy="2494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48" name="Text Box 7"/>
          <p:cNvSpPr/>
          <p:nvPr/>
        </p:nvSpPr>
        <p:spPr>
          <a:xfrm>
            <a:off x="3657600" y="685800"/>
            <a:ext cx="525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Христианская церковь стала самой сильной организацией этого времени. Она владела большими землями, богатствами, но главная            ее сила заключалась                    в ее духовном влияни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28600" y="42037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Хлодвиг и все остальные фра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няли христианскую веру. Хлодвиг охранял богатства и привилегии церкви, дарил ей земли и ценные вещи. А церковь укрепляла власть Хлодвига, утверждая, что всё,                           что он делает  - это по воле  Бо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Хлодвиг и христианская церковь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463068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 концу раннего Средневековья христианская церковь стала самой могущественной, разветвленной организацией, обладавшей огромным влиянием на население европейских ст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914560" y="685800"/>
            <a:ext cx="2908440" cy="3886200"/>
          </a:xfrm>
          <a:prstGeom prst="rect">
            <a:avLst/>
          </a:prstGeom>
          <a:ln w="22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2"/>
          <p:cNvSpPr/>
          <p:nvPr/>
        </p:nvSpPr>
        <p:spPr>
          <a:xfrm>
            <a:off x="1828800" y="1143000"/>
            <a:ext cx="17524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пис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Духовенство и мирян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braie"/>
          <p:cNvPicPr/>
          <p:nvPr/>
        </p:nvPicPr>
        <p:blipFill>
          <a:blip r:embed="rId1"/>
          <a:stretch/>
        </p:blipFill>
        <p:spPr>
          <a:xfrm>
            <a:off x="5638680" y="609480"/>
            <a:ext cx="3124440" cy="2748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56" name="Picture 8" descr="259650958"/>
          <p:cNvPicPr/>
          <p:nvPr/>
        </p:nvPicPr>
        <p:blipFill>
          <a:blip r:embed="rId2"/>
          <a:stretch/>
        </p:blipFill>
        <p:spPr>
          <a:xfrm>
            <a:off x="304920" y="609480"/>
            <a:ext cx="2092320" cy="2743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57" name="Text Box 11"/>
          <p:cNvSpPr/>
          <p:nvPr/>
        </p:nvSpPr>
        <p:spPr>
          <a:xfrm>
            <a:off x="304920" y="3349800"/>
            <a:ext cx="853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ерковными делами в областях управляли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епископы и архиепископ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                                       Во главе христианской церкви в Западной Европе стоял римский епископ - папа.                                 Все служители церкви представляли особый слой населения -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духовенство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                    Остальные люди назывались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мирянам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:            они «жили в мир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4191120" y="2362320"/>
            <a:ext cx="14475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Монастыри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373392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которые христиане желали посвятить жизнь только служению Б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ни уединялись в незаселенных местах,             где организовывали свои маленькие обители. Таких людей называли </a:t>
            </a: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монахам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Позднее монахи по всей Европе стали создавать специальные поселения - </a:t>
            </a: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монастыр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3_2"/>
          <p:cNvPicPr/>
          <p:nvPr/>
        </p:nvPicPr>
        <p:blipFill>
          <a:blip r:embed="rId1"/>
          <a:stretch/>
        </p:blipFill>
        <p:spPr>
          <a:xfrm>
            <a:off x="3505320" y="622440"/>
            <a:ext cx="5257800" cy="30924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2" name="Picture 8" descr="925-520x520"/>
          <p:cNvPicPr/>
          <p:nvPr/>
        </p:nvPicPr>
        <p:blipFill>
          <a:blip r:embed="rId2"/>
          <a:stretch/>
        </p:blipFill>
        <p:spPr>
          <a:xfrm>
            <a:off x="228600" y="685800"/>
            <a:ext cx="3219480" cy="2178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3" name="Text Box 9"/>
          <p:cNvSpPr/>
          <p:nvPr/>
        </p:nvSpPr>
        <p:spPr>
          <a:xfrm>
            <a:off x="304920" y="2895480"/>
            <a:ext cx="30477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вековые мона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4. Искусство рукописной книг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26920" y="630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08000" y="4076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монастырских скрипториях развивалось искусство рукописной книги.  В древности книга чаще всего была папирусным свитком, в поздней римской империи- свитком из пергамена. В Средние века она приобрела современный вид сложенных и переплетенных листов пергамена. Он был прочнее, чем папирус, его можно было сгибать и писать на нем с обеих сторон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rome_original"/>
          <p:cNvPicPr/>
          <p:nvPr/>
        </p:nvPicPr>
        <p:blipFill>
          <a:blip r:embed="rId1"/>
          <a:stretch/>
        </p:blipFill>
        <p:spPr>
          <a:xfrm>
            <a:off x="1547640" y="692280"/>
            <a:ext cx="4896000" cy="3386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6443640" y="1773360"/>
            <a:ext cx="19432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нига раннего средневек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Искусство рукописной книги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505764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раннем Средневековье в Европе грамотными были только священники (не вс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монастырях создавались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КРИПТОРИ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– мастерские по переписке кни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838080" y="2666880"/>
            <a:ext cx="304812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вековый монах переписывающий кни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riptorium-monk-at-work"/>
          <p:cNvPicPr/>
          <p:nvPr/>
        </p:nvPicPr>
        <p:blipFill>
          <a:blip r:embed="rId1"/>
          <a:stretch/>
        </p:blipFill>
        <p:spPr>
          <a:xfrm>
            <a:off x="3886200" y="693720"/>
            <a:ext cx="4876920" cy="4400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Искусство рукописной книги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28600" y="53341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ля книг использовался материал – пергамен (обработанная кожа) – на ней можно писать с обеих сторон, но такой материал очень д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057400" y="4876920"/>
            <a:ext cx="52578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вековая книга из перга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lavrentievskaja_rukopis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685800"/>
            <a:ext cx="7058160" cy="41450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фор Маточ</dc:creator>
  <dc:description/>
  <dc:language>en-US</dc:language>
  <cp:lastModifiedBy>Администратор</cp:lastModifiedBy>
  <dcterms:modified xsi:type="dcterms:W3CDTF">2023-08-03T17:39:27Z</dcterms:modified>
  <cp:revision>113</cp:revision>
  <dc:subject/>
  <dc:title>Христианская церковь в раннее Средневековь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