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gif" ContentType="image/gif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3533-6583-4E5C-8C62-13B2AE5D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497A-2C35-46E0-B35C-75468734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8F4B-D6A5-4106-838A-69B2B4E0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565C-0FA4-4A77-9EAA-38E9BCC8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1810-EC54-45F9-A9AB-66C065BD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F556-DF51-4E0B-8EA7-DA7A65F7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FC59-2AD8-4216-83AF-143C8CD7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85A8-4753-41B2-84D8-C98B2608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B892-5330-4032-ABAB-F2062FB7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A4CB-2C91-4DC2-960D-6A9A59D9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E798-C3CA-4C9B-B086-C9A66EE9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D44E-08EC-43C4-A32C-9FB43647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136F-47D4-4898-ABC3-6E10A8E10B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isk.org.ua/wp-content/uploads/2010/08/vandal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539640" y="5013360"/>
            <a:ext cx="828036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ff0000"/>
                  </a:solidFill>
                  <a:miter/>
                </a:ln>
                <a:solidFill>
                  <a:srgbClr val="ffff99">
                    <a:alpha val="95000"/>
                  </a:srgbClr>
                </a:solidFill>
                <a:latin typeface="Arial"/>
              </a:rPr>
              <a:t>Образование варварских королевств.</a:t>
            </a:r>
            <a:endParaRPr b="1" lang="en-US" sz="1800" spc="1" strike="noStrike">
              <a:ln w="34920">
                <a:solidFill>
                  <a:srgbClr val="ff0000"/>
                </a:solidFill>
                <a:miter/>
              </a:ln>
              <a:solidFill>
                <a:srgbClr val="ffff99">
                  <a:alpha val="95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ff0000"/>
                  </a:solidFill>
                  <a:miter/>
                </a:ln>
                <a:solidFill>
                  <a:srgbClr val="ffff99">
                    <a:alpha val="95000"/>
                  </a:srgbClr>
                </a:solidFill>
                <a:latin typeface="Arial"/>
              </a:rPr>
              <a:t>Государство франков</a:t>
            </a:r>
            <a:endParaRPr b="1" lang="en-US" sz="1800" spc="1" strike="noStrike">
              <a:ln w="34920">
                <a:solidFill>
                  <a:srgbClr val="ff0000"/>
                </a:solidFill>
                <a:miter/>
              </a:ln>
              <a:solidFill>
                <a:srgbClr val="ffff99">
                  <a:alpha val="95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2" name="Picture 35" descr="vanda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79200"/>
            <a:ext cx="6264360" cy="481824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Управление государств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28600" y="4419720"/>
            <a:ext cx="86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ле расселения франков по всей Галлии народное собрание уже невозможно было созывать. Важные решения принимал сам 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Хлодвиг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 советуясь только со знатью. Постоянной военной силой стала друж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001"/>
          <p:cNvPicPr/>
          <p:nvPr/>
        </p:nvPicPr>
        <p:blipFill>
          <a:blip r:embed="rId1"/>
          <a:stretch/>
        </p:blipFill>
        <p:spPr>
          <a:xfrm>
            <a:off x="1295280" y="685800"/>
            <a:ext cx="6429600" cy="36482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Управление государств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28600" y="4419720"/>
            <a:ext cx="86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рафы собирали налоги, командовали отрядами воинов, руководили местным су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Хлодвиг стал высшим судьей.  Объезжая государство, он собирал дань, разбирал споры и судил за тяжелые преступ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fig007"/>
          <p:cNvPicPr/>
          <p:nvPr/>
        </p:nvPicPr>
        <p:blipFill>
          <a:blip r:embed="rId1"/>
          <a:stretch/>
        </p:blipFill>
        <p:spPr>
          <a:xfrm>
            <a:off x="457200" y="762120"/>
            <a:ext cx="3301920" cy="35049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81" name="Text Box 5"/>
          <p:cNvSpPr/>
          <p:nvPr/>
        </p:nvSpPr>
        <p:spPr>
          <a:xfrm>
            <a:off x="3809880" y="914400"/>
            <a:ext cx="4953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каждую область страны Хлодвиг назначал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графов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- правителей из близких ему люд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Управление государств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franki_3"/>
          <p:cNvPicPr/>
          <p:nvPr/>
        </p:nvPicPr>
        <p:blipFill>
          <a:blip r:embed="rId1"/>
          <a:stretch/>
        </p:blipFill>
        <p:spPr>
          <a:xfrm>
            <a:off x="228600" y="852480"/>
            <a:ext cx="5029200" cy="4068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84" name="Text Box 4"/>
          <p:cNvSpPr/>
          <p:nvPr/>
        </p:nvSpPr>
        <p:spPr>
          <a:xfrm>
            <a:off x="5435640" y="76212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 Хлодвиге были записаны старинные судебные обычаи франков и новые указы правителя. Из них был составлен первый сборник законов фран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04920" y="5257800"/>
            <a:ext cx="8534160" cy="1373760"/>
          </a:xfrm>
          <a:prstGeom prst="rect">
            <a:avLst/>
          </a:prstGeom>
          <a:noFill/>
          <a:ln w="22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ведение писаных законов способствовало укреплению единого порядка на всей территории государ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Возвышение франкской зн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57200" y="106668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28600" y="3349800"/>
            <a:ext cx="8610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Хлодвиг щедро раздавал земли своим приближенным и дружинникам в награду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 службу. Они становились знатными людьми  и крупными землевладельцами.                                  За ними закреплялся титул 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графа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или 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герцога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. Знатные люди тоже набирали себе отряды воинов и за службу награждали                       их участками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013"/>
          <p:cNvPicPr/>
          <p:nvPr/>
        </p:nvPicPr>
        <p:blipFill>
          <a:blip r:embed="rId1"/>
          <a:stretch/>
        </p:blipFill>
        <p:spPr>
          <a:xfrm>
            <a:off x="2209680" y="609480"/>
            <a:ext cx="5029200" cy="27561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Возвышение франкской зн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57200" y="106668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572000" y="685800"/>
            <a:ext cx="4191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еред смертью Хлодвиг разделил свое государство между четырьмя сыновьями. Начались постоянные войны. Больше всего страдали простые земледельцы.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Clotilde_partageant_le_royaume_entre_ses_fils"/>
          <p:cNvPicPr/>
          <p:nvPr/>
        </p:nvPicPr>
        <p:blipFill>
          <a:blip r:embed="rId1"/>
          <a:stretch/>
        </p:blipFill>
        <p:spPr>
          <a:xfrm>
            <a:off x="228600" y="762120"/>
            <a:ext cx="4276800" cy="38862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94" name="Text Box 6"/>
          <p:cNvSpPr/>
          <p:nvPr/>
        </p:nvSpPr>
        <p:spPr>
          <a:xfrm>
            <a:off x="0" y="48006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ля защиты своего имущества и семьи крестьяне передавали свою землю в собственность знатным людям в обмен на защиту.                             Так появлялся </a:t>
            </a:r>
            <a:r>
              <a:rPr b="1" i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класс зависимых крестьян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.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5. Битва при Пуать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28600" y="4114800"/>
            <a:ext cx="8610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собицы потомков Хлодвига разоряли Франкское королевство. Королевская власть ослабела. Власть в королевстве перешла               к управляющим королевским домом - </a:t>
            </a:r>
            <a:r>
              <a:rPr b="1" i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майордомам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 Они по своей воле возводили  на престол и смещали коро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File:Charles Martel divise le royaume entre Pépin et Carloman.jpg"/>
          <p:cNvPicPr/>
          <p:nvPr/>
        </p:nvPicPr>
        <p:blipFill>
          <a:blip r:embed="rId1"/>
          <a:stretch/>
        </p:blipFill>
        <p:spPr>
          <a:xfrm>
            <a:off x="1981080" y="685800"/>
            <a:ext cx="4876920" cy="33876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5. Битва при Пуать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charles-martel-tours"/>
          <p:cNvPicPr/>
          <p:nvPr/>
        </p:nvPicPr>
        <p:blipFill>
          <a:blip r:embed="rId1"/>
          <a:stretch/>
        </p:blipFill>
        <p:spPr>
          <a:xfrm>
            <a:off x="228600" y="685800"/>
            <a:ext cx="4114800" cy="41148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100" name="Text Box 4"/>
          <p:cNvSpPr/>
          <p:nvPr/>
        </p:nvSpPr>
        <p:spPr>
          <a:xfrm>
            <a:off x="228600" y="48769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 732 году майордом </a:t>
            </a:r>
            <a:r>
              <a:rPr b="1" i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Карл Мартелл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(что значит «Молот») в сражении у города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уатье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нанес сокрушительное поражение арабам.          Их продвижение в Европе было остановле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572000" y="687240"/>
            <a:ext cx="4343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 первой половине              VIII века в Галлию начали вторгаться арабы, завоевавшие королевство Вестготов на Пиренейском полуостро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5. Битва при Пуать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28600" y="2922480"/>
            <a:ext cx="8610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Карл Мартелл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провел военную реформу.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н создал конное войско и жаловал конным воинам участки земли с живущими на них крестьянами. Воины приобретали вооружение и жили за счет труда крестьян. Позднее такие земельные владения стали передаваться                    по наследству. На латинском языке они назывались </a:t>
            </a:r>
            <a:r>
              <a:rPr b="1" i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феодами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, их владельцев называют </a:t>
            </a:r>
            <a:r>
              <a:rPr b="1" i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феодалами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3_141"/>
          <p:cNvPicPr/>
          <p:nvPr/>
        </p:nvPicPr>
        <p:blipFill>
          <a:blip r:embed="rId1"/>
          <a:stretch/>
        </p:blipFill>
        <p:spPr>
          <a:xfrm>
            <a:off x="2895480" y="609480"/>
            <a:ext cx="3353040" cy="23446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6. Приход к власти новой династ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ppinlebref752768jc7"/>
          <p:cNvPicPr/>
          <p:nvPr/>
        </p:nvPicPr>
        <p:blipFill>
          <a:blip r:embed="rId1"/>
          <a:stretch/>
        </p:blipFill>
        <p:spPr>
          <a:xfrm>
            <a:off x="152280" y="762120"/>
            <a:ext cx="2657520" cy="32763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107" name="Text Box 4"/>
          <p:cNvSpPr/>
          <p:nvPr/>
        </p:nvSpPr>
        <p:spPr>
          <a:xfrm>
            <a:off x="2971800" y="762120"/>
            <a:ext cx="5943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 751 г. Сын Карла Мартела </a:t>
            </a:r>
            <a:r>
              <a:rPr b="1" i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Пипин Короткий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получил                   от папы римского одобрение занять королевский трон. Франкская знать провозгласила его королем. К власти пришла новая династия – </a:t>
            </a:r>
            <a:r>
              <a:rPr b="1" i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Каролингов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28600" y="4114800"/>
            <a:ext cx="8610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 ответ Пипин совершил два победоносных похода против племени 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лангобардов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, угрожавших Риму.  Под власть папе римскому были переданы города Рим и Равенна,                       с прилегающей к ним территорией и возникло государство </a:t>
            </a:r>
            <a:r>
              <a:rPr b="1" i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Папская область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evropa_v_1_pol_6v"/>
          <p:cNvPicPr/>
          <p:nvPr/>
        </p:nvPicPr>
        <p:blipFill>
          <a:blip r:embed="rId1"/>
          <a:stretch/>
        </p:blipFill>
        <p:spPr>
          <a:xfrm>
            <a:off x="1332000" y="0"/>
            <a:ext cx="655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4920" y="69228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 Завоевание франками Гал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. Король франков Хлодви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. Управление франкским государ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4. Возвышение франкской зн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5. Битва при Пуа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6. Приход к власти новой династ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. Изучить параграф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. Ответить на вопросы в конце параграфа (уст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8" descr="2"/>
          <p:cNvPicPr/>
          <p:nvPr/>
        </p:nvPicPr>
        <p:blipFill>
          <a:blip r:embed="rId1"/>
          <a:stretch/>
        </p:blipFill>
        <p:spPr>
          <a:xfrm>
            <a:off x="1835280" y="2205000"/>
            <a:ext cx="5473440" cy="44751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4788000" y="1628640"/>
            <a:ext cx="53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87200" y="3789360"/>
            <a:ext cx="8705880" cy="273672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 сайте также размещен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урочные планы по истории и обществознанию с 5 по 11 классы, тестовые задания по истории и обществознанию, ответы на ВСЕ тестовые задания к ЕГЭ и ОГЭ по обществознанию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      и истории открытого банка заданий ФИПИ, карты по Всеобщей истории и истории России, материалы для дополнительных занятий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87200" y="444600"/>
            <a:ext cx="8705880" cy="2735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лные блоки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 Истории, Обществознанию и МХ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 можете найти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ttp://presentation-history.ru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4" descr="0010-010-Rimskaja-imperija-i-varvary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28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ликое переселение народов и падение Западной Римской имп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8"/>
          <p:cNvSpPr/>
          <p:nvPr/>
        </p:nvSpPr>
        <p:spPr>
          <a:xfrm>
            <a:off x="3276720" y="981000"/>
            <a:ext cx="2590560" cy="1465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дний император Западной Римской империи                     Ромул Август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адение Западной Римской импе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4005360"/>
            <a:ext cx="91440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476 г.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один из германских вождей Одоакр лишил власти последнего императора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Ромула Августула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и отослал императорскую диадему    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и пурпурный плащ в Константинополь.                                                     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Западная Римская империя перестала существов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rubase_2_1337108610_143081"/>
          <p:cNvPicPr/>
          <p:nvPr/>
        </p:nvPicPr>
        <p:blipFill>
          <a:blip r:embed="rId1"/>
          <a:stretch/>
        </p:blipFill>
        <p:spPr>
          <a:xfrm>
            <a:off x="5867280" y="765000"/>
            <a:ext cx="2922840" cy="316872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pic>
        <p:nvPicPr>
          <p:cNvPr id="51" name="Picture 7" descr="posterlux-grafika_gravura_ofort-hu061805"/>
          <p:cNvPicPr/>
          <p:nvPr/>
        </p:nvPicPr>
        <p:blipFill>
          <a:blip r:embed="rId2"/>
          <a:stretch/>
        </p:blipFill>
        <p:spPr>
          <a:xfrm>
            <a:off x="395280" y="765000"/>
            <a:ext cx="2892600" cy="316872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Завоевание франками Галл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96338c495409787b9c85a87f1fe"/>
          <p:cNvPicPr/>
          <p:nvPr/>
        </p:nvPicPr>
        <p:blipFill>
          <a:blip r:embed="rId1"/>
          <a:stretch/>
        </p:blipFill>
        <p:spPr>
          <a:xfrm>
            <a:off x="152280" y="685800"/>
            <a:ext cx="2689200" cy="33526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54" name="Picture 4" descr="300px-Frank_voin"/>
          <p:cNvPicPr/>
          <p:nvPr/>
        </p:nvPicPr>
        <p:blipFill>
          <a:blip r:embed="rId2"/>
          <a:stretch/>
        </p:blipFill>
        <p:spPr>
          <a:xfrm>
            <a:off x="6934320" y="685800"/>
            <a:ext cx="1952640" cy="33526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55" name="Text Box 5"/>
          <p:cNvSpPr/>
          <p:nvPr/>
        </p:nvSpPr>
        <p:spPr>
          <a:xfrm>
            <a:off x="228600" y="4114800"/>
            <a:ext cx="86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486 году в бою у города Суассона франки разгромили римлян и подчинили себе Северную Галлию. Позднее 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Хлодвиг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двинулся с войском на вестготов и отвоевал у них юг страны. Франки покорили и некоторые германские племена к востоку от Рей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666880" y="685800"/>
            <a:ext cx="4419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ранков издавна привлекали плодородные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авнины Галлии,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де властвовала Римская импер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Завоевание франками Галл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3349800"/>
            <a:ext cx="868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ранки расчистили и распахали пустующие земли. Каждая семья заняла такой участок, какой могла обработать своими силами. 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Хлодвиг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же присвоил огромные владения, принадлежавшие раньше римскому императору. Он и его дружинники захватили имения местных крупных землевладельцев.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имениях работали раб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http://vmrake.ru/images/2011-11-23/arxitektura-v-rannee-srednevekove_1.jpg"/>
          <p:cNvPicPr/>
          <p:nvPr/>
        </p:nvPicPr>
        <p:blipFill>
          <a:blip r:embed="rId1"/>
          <a:stretch/>
        </p:blipFill>
        <p:spPr>
          <a:xfrm>
            <a:off x="762120" y="685800"/>
            <a:ext cx="4495680" cy="25988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60" name="Text Box 5"/>
          <p:cNvSpPr/>
          <p:nvPr/>
        </p:nvSpPr>
        <p:spPr>
          <a:xfrm>
            <a:off x="5257800" y="1219320"/>
            <a:ext cx="22860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елок в раннем средневек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. Завоевание франками Гал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File:Frankish Empire 481 to 814-ru.svg"/>
          <p:cNvPicPr/>
          <p:nvPr/>
        </p:nvPicPr>
        <p:blipFill>
          <a:blip r:embed="rId1"/>
          <a:stretch/>
        </p:blipFill>
        <p:spPr>
          <a:xfrm>
            <a:off x="0" y="415800"/>
            <a:ext cx="9144000" cy="64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ile:Franks expansion.gif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843520"/>
          </a:xfrm>
          <a:prstGeom prst="rect">
            <a:avLst/>
          </a:prstGeom>
          <a:ln w="0">
            <a:noFill/>
          </a:ln>
        </p:spPr>
      </p:pic>
      <p:sp>
        <p:nvSpPr>
          <p:cNvPr id="64" name="Line 3"/>
          <p:cNvSpPr/>
          <p:nvPr/>
        </p:nvSpPr>
        <p:spPr>
          <a:xfrm flipH="1">
            <a:off x="3200040" y="3429000"/>
            <a:ext cx="609480" cy="533520"/>
          </a:xfrm>
          <a:prstGeom prst="line">
            <a:avLst/>
          </a:prstGeom>
          <a:ln w="73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 flipH="1">
            <a:off x="3429000" y="3505320"/>
            <a:ext cx="990720" cy="1828800"/>
          </a:xfrm>
          <a:prstGeom prst="line">
            <a:avLst/>
          </a:prstGeom>
          <a:ln w="73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 flipH="1">
            <a:off x="4647960" y="4191120"/>
            <a:ext cx="228600" cy="1523880"/>
          </a:xfrm>
          <a:prstGeom prst="line">
            <a:avLst/>
          </a:prstGeom>
          <a:ln w="73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5105520" y="3886200"/>
            <a:ext cx="1218960" cy="1752480"/>
          </a:xfrm>
          <a:prstGeom prst="line">
            <a:avLst/>
          </a:prstGeom>
          <a:ln w="73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 flipV="1">
            <a:off x="5029200" y="2362320"/>
            <a:ext cx="609480" cy="304560"/>
          </a:xfrm>
          <a:prstGeom prst="line">
            <a:avLst/>
          </a:prstGeom>
          <a:ln w="73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5181480" y="3429000"/>
            <a:ext cx="1143000" cy="609480"/>
          </a:xfrm>
          <a:prstGeom prst="line">
            <a:avLst/>
          </a:prstGeom>
          <a:ln w="73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304920" y="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Рост государства фран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Король франков Хлодви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5640" y="685800"/>
            <a:ext cx="66294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Около 500 года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возникло государство франков.                         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Хлодвиг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истребил других военных вождей и многих своих родичей, с которыми вместе завоевывал Галлию. 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Хлодвиг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тал главным правителем Франкского государства.                                    Ему подчинялось теперь                   не одно племя, а население всей страны.                                          Хлодвиг передавал власть по наследству своим сыновь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François-Louis_Dejuinne_(1786-1844)_-_Clovis_roi_des_Francs_(465-511)"/>
          <p:cNvPicPr/>
          <p:nvPr/>
        </p:nvPicPr>
        <p:blipFill>
          <a:blip r:embed="rId1"/>
          <a:stretch/>
        </p:blipFill>
        <p:spPr>
          <a:xfrm>
            <a:off x="228600" y="838080"/>
            <a:ext cx="2540160" cy="40132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74" name="Text Box 5"/>
          <p:cNvSpPr/>
          <p:nvPr/>
        </p:nvSpPr>
        <p:spPr>
          <a:xfrm>
            <a:off x="609480" y="4876920"/>
            <a:ext cx="190512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Хлодви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7:03:27Z</dcterms:created>
  <dc:creator>Нафор Маточ</dc:creator>
  <dc:description/>
  <dc:language>en-US</dc:language>
  <cp:lastModifiedBy>Администратор</cp:lastModifiedBy>
  <dcterms:modified xsi:type="dcterms:W3CDTF">2023-08-03T17:38:33Z</dcterms:modified>
  <cp:revision>1054</cp:revision>
  <dc:subject/>
  <dc:title>Образование варварских королевств. Государство франков в VI-VIII вв.</dc:title>
</cp:coreProperties>
</file>