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17C-252C-4DEE-AF8A-155FA420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835-E296-4798-9C16-13CE615F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AD48-5AA8-4C1D-BFF6-52061B6D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6F0-AA7F-497E-B850-58FCD692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2A7-35CA-469A-9BF1-E7C3504D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F7B-7CE3-4B12-B7B6-DADFEB75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D34-3092-40C7-BB5B-EC608A88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953-46B3-41AA-AAD4-18F5FA81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766-5726-4F37-9EAF-BA28467A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8DD-7C77-4F45-8C04-8FA66E5B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CEB-3A5F-4315-AFA6-1F62E0A1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0A2-298F-49E4-97DB-BDF16072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608"/>
            </a:gs>
            <a:gs pos="100000">
              <a:srgbClr val="f3fed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7216-9AA5-46B3-985D-EB44B1115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resentation-history.ru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карл и папа адриан"/>
          <p:cNvPicPr/>
          <p:nvPr/>
        </p:nvPicPr>
        <p:blipFill>
          <a:blip r:embed="rId1"/>
          <a:stretch/>
        </p:blipFill>
        <p:spPr>
          <a:xfrm>
            <a:off x="1600200" y="152280"/>
            <a:ext cx="6172200" cy="4599000"/>
          </a:xfrm>
          <a:prstGeom prst="rect">
            <a:avLst/>
          </a:prstGeom>
          <a:ln w="34920">
            <a:solidFill>
              <a:srgbClr val="339966"/>
            </a:solidFill>
            <a:miter/>
          </a:ln>
        </p:spPr>
      </p:pic>
      <p:sp>
        <p:nvSpPr>
          <p:cNvPr id="42" name="WordArt 17"/>
          <p:cNvSpPr txBox="1"/>
          <p:nvPr/>
        </p:nvSpPr>
        <p:spPr>
          <a:xfrm>
            <a:off x="380880" y="4952880"/>
            <a:ext cx="8458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озникновение и распад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мперии Карла Великого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57200" y="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Империя Карла Вели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0" y="441972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амые состоятельные конные воины, приводившие с собой небольшой вооруженный отряд, могли получить, отличившись в битвах, титул </a:t>
            </a:r>
            <a:r>
              <a:rPr b="1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рыцаря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(от германского «риттер» - всадник, конный во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knight"/>
          <p:cNvPicPr/>
          <p:nvPr/>
        </p:nvPicPr>
        <p:blipFill>
          <a:blip r:embed="rId1"/>
          <a:stretch/>
        </p:blipFill>
        <p:spPr>
          <a:xfrm>
            <a:off x="457200" y="609480"/>
            <a:ext cx="3057480" cy="38862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73" name="Picture 9" descr="g006"/>
          <p:cNvPicPr/>
          <p:nvPr/>
        </p:nvPicPr>
        <p:blipFill>
          <a:blip r:embed="rId2"/>
          <a:stretch/>
        </p:blipFill>
        <p:spPr>
          <a:xfrm>
            <a:off x="3809880" y="609480"/>
            <a:ext cx="4724640" cy="38736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. Каролингское Возрождение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826920" y="630864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79280" y="494028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рамотных людей не было не только среди крестьян - они редко встречались и среди феодалов.                         Даже короли не всегда умели читать и писать.               Долгое время в Западной Европе письмом владели только служители церкви, и то не в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Алхимики1"/>
          <p:cNvPicPr/>
          <p:nvPr/>
        </p:nvPicPr>
        <p:blipFill>
          <a:blip r:embed="rId1"/>
          <a:stretch/>
        </p:blipFill>
        <p:spPr>
          <a:xfrm>
            <a:off x="1547640" y="620640"/>
            <a:ext cx="5977080" cy="42609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. Каролингское Возрождение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26920" y="630864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 Карле Великом начался подъем культуры, который историки назвали Каролингским Возр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0_62b14_31cdf6da_XL"/>
          <p:cNvPicPr/>
          <p:nvPr/>
        </p:nvPicPr>
        <p:blipFill>
          <a:blip r:embed="rId1"/>
          <a:stretch/>
        </p:blipFill>
        <p:spPr>
          <a:xfrm>
            <a:off x="250920" y="620640"/>
            <a:ext cx="4198680" cy="5329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82" name="Text Box 6"/>
          <p:cNvSpPr/>
          <p:nvPr/>
        </p:nvSpPr>
        <p:spPr>
          <a:xfrm>
            <a:off x="4643280" y="620640"/>
            <a:ext cx="432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ля управления обширной страной Карлу Великому нужны были грамотные чиновники и судьи.                           Он понимал: чтобы возродить Римскую империю, нужно возродить культуру,                     и прежде всего               античные знания.                    Карл приглашал в столицу ученых со всех концов своей имп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. Каролингское Возрождение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826920" y="630864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79280" y="457524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рл строил в Ахене и других городах каменные дворцы и церкви. В VIII-IX веках во Франкском государстве возросло число образованных людей, были переписаны многие сочинения античных авторов. Каролингское Возрождение быстро угасло после распада империи Карла Вели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story_g03"/>
          <p:cNvPicPr/>
          <p:nvPr/>
        </p:nvPicPr>
        <p:blipFill>
          <a:blip r:embed="rId1"/>
          <a:stretch/>
        </p:blipFill>
        <p:spPr>
          <a:xfrm>
            <a:off x="1908000" y="566640"/>
            <a:ext cx="5256360" cy="3943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. Распад империи Карла Вели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5057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мперия Карла Великого была создана силой      и держалась только на силе. Ее населяло множество народов живших по своим правилам и говоривших на разных язы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File:Frankish Empire 481 to 814-ru.svg"/>
          <p:cNvPicPr/>
          <p:nvPr/>
        </p:nvPicPr>
        <p:blipFill>
          <a:blip r:embed="rId1"/>
          <a:stretch/>
        </p:blipFill>
        <p:spPr>
          <a:xfrm>
            <a:off x="1600200" y="609480"/>
            <a:ext cx="6248520" cy="4419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57200" y="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. Распад империи Карла Вели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5057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843 г.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внуки Карла Великого в городе Вердене договорились о разделе империи на три государства. Императором стал старший                       из внуков Лот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раздел 843 г"/>
          <p:cNvPicPr/>
          <p:nvPr/>
        </p:nvPicPr>
        <p:blipFill>
          <a:blip r:embed="rId1"/>
          <a:stretch/>
        </p:blipFill>
        <p:spPr>
          <a:xfrm>
            <a:off x="2057400" y="609480"/>
            <a:ext cx="5181480" cy="44546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4788000" y="162864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87200" y="3789360"/>
            <a:ext cx="8705880" cy="2736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и истории открытого банка заданий ФИПИ, карты по Всеобщей истории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87200" y="44460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, Обществознанию и МХ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457200" y="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66760" y="704880"/>
            <a:ext cx="861048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.  Изучить параграф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3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. Ответить на вопросы в конце параграфа 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карл"/>
          <p:cNvPicPr/>
          <p:nvPr/>
        </p:nvPicPr>
        <p:blipFill>
          <a:blip r:embed="rId1"/>
          <a:stretch/>
        </p:blipFill>
        <p:spPr>
          <a:xfrm>
            <a:off x="6946920" y="2438280"/>
            <a:ext cx="1924200" cy="421956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pic>
        <p:nvPicPr>
          <p:cNvPr id="102" name="Picture 9" descr="lombards"/>
          <p:cNvPicPr/>
          <p:nvPr/>
        </p:nvPicPr>
        <p:blipFill>
          <a:blip r:embed="rId2"/>
          <a:stretch/>
        </p:blipFill>
        <p:spPr>
          <a:xfrm>
            <a:off x="228600" y="2438280"/>
            <a:ext cx="6400800" cy="426744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600200" y="15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28600" y="914400"/>
            <a:ext cx="861048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арл Вели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ойны в Италии и Испании, покорение сак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мперия Карла Вели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аролингское возро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аспад империи Карла Вели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20130110001819"/>
          <p:cNvPicPr/>
          <p:nvPr/>
        </p:nvPicPr>
        <p:blipFill>
          <a:blip r:embed="rId1"/>
          <a:stretch/>
        </p:blipFill>
        <p:spPr>
          <a:xfrm>
            <a:off x="3352680" y="4419720"/>
            <a:ext cx="2895840" cy="23302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57200" y="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1. Карл Вели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3429000" y="685800"/>
            <a:ext cx="54864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768 по 814 г.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Франкским королевством правил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арл Великий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.                  После Карла правителей европейских государств стали называть королями (от лат.формы имени Карл -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Karolus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).                                            За годы правления Карла Великого франки совершили более                          50 военных походов.  Границы государства значительно расширил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http://vved-v-germ-phil.cvsw.ru/img-13/iskus-24.jpg"/>
          <p:cNvPicPr/>
          <p:nvPr/>
        </p:nvPicPr>
        <p:blipFill>
          <a:blip r:embed="rId1"/>
          <a:stretch/>
        </p:blipFill>
        <p:spPr>
          <a:xfrm>
            <a:off x="142920" y="762120"/>
            <a:ext cx="3403440" cy="48006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File:Frankish Empire 481 to 814-ru.svg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4692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0" name="Text Box 8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мперия франков при Карле Вел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Войны в Италии и Испании,       покорение сакс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Rolandfealty"/>
          <p:cNvPicPr/>
          <p:nvPr/>
        </p:nvPicPr>
        <p:blipFill>
          <a:blip r:embed="rId1"/>
          <a:stretch/>
        </p:blipFill>
        <p:spPr>
          <a:xfrm>
            <a:off x="304920" y="1066680"/>
            <a:ext cx="3225600" cy="35816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3" name="Text Box 6"/>
          <p:cNvSpPr/>
          <p:nvPr/>
        </p:nvSpPr>
        <p:spPr>
          <a:xfrm>
            <a:off x="3886200" y="1066680"/>
            <a:ext cx="4800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Франки дважды переходили Альпы                    и вторгались в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талию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. Разгромив и пленив короля лангобардов,  Карл присоединил                        к своим владениям большую часть Итал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28600" y="480060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есколько раз Карл водил войско в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спанию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. Войны с арабами шли с переменным успехом. Карлу удалось завоевать небольшую область к югу от Пиренейских гор до реки Эбр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Войны в Италии и Испании,       покорение сакс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352680" y="1066680"/>
            <a:ext cx="5791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амой длительной и тяжелой была война с племенами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аксов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.                                                 Они занимали территорию          к северо-востоку от франков между Рейном и Эльбой.            Карл Великий совершил против саксов 8 походов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6Quqt7RcUAY"/>
          <p:cNvPicPr/>
          <p:nvPr/>
        </p:nvPicPr>
        <p:blipFill>
          <a:blip r:embed="rId1"/>
          <a:stretch/>
        </p:blipFill>
        <p:spPr>
          <a:xfrm>
            <a:off x="228600" y="1066680"/>
            <a:ext cx="2962440" cy="34290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8" name="Text Box 7"/>
          <p:cNvSpPr/>
          <p:nvPr/>
        </p:nvSpPr>
        <p:spPr>
          <a:xfrm>
            <a:off x="0" y="464832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арл Великий заставлял саксов принимать христианство. Саксы поднимали восстания, которые жестоко подавлялись. Карл привлек                    на свою сторону вождей саксов, раздавая                им земли и графские титу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457200" y="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Империя Карла Вели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343400" y="685800"/>
            <a:ext cx="4495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Государство франков достигло огромных размеров  и включало в себя множество племен                   и наро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File:Karl den store krons av leo III.jpg"/>
          <p:cNvPicPr/>
          <p:nvPr/>
        </p:nvPicPr>
        <p:blipFill>
          <a:blip r:embed="rId1"/>
          <a:stretch/>
        </p:blipFill>
        <p:spPr>
          <a:xfrm>
            <a:off x="228600" y="685800"/>
            <a:ext cx="4221000" cy="43434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62" name="Text Box 7"/>
          <p:cNvSpPr/>
          <p:nvPr/>
        </p:nvSpPr>
        <p:spPr>
          <a:xfrm>
            <a:off x="0" y="5057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800 г.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Папа римский возложил на голову Карла императорскую корону.                       Государство франков стало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мперией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,                       а король Карл –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мператором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57200" y="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Империя Карла Вели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0" y="5257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толицей империи франков стал город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Ахен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.           По приказу Карла начали возводить каменные постройки дворца и со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800px-Aachener_Pfalz_(rus)"/>
          <p:cNvPicPr/>
          <p:nvPr/>
        </p:nvPicPr>
        <p:blipFill>
          <a:blip r:embed="rId1"/>
          <a:stretch/>
        </p:blipFill>
        <p:spPr>
          <a:xfrm>
            <a:off x="228600" y="685800"/>
            <a:ext cx="8686800" cy="4167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66" name="Picture 8" descr="5152d5dcb1a60a317c000798"/>
          <p:cNvPicPr/>
          <p:nvPr/>
        </p:nvPicPr>
        <p:blipFill>
          <a:blip r:embed="rId2"/>
          <a:stretch/>
        </p:blipFill>
        <p:spPr>
          <a:xfrm>
            <a:off x="1371600" y="609480"/>
            <a:ext cx="6324480" cy="46483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57200" y="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Империя Карла Вели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343400" y="685800"/>
            <a:ext cx="44956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рестьяне не могли купить боевого коня                 и вооружение всадника.                                 В войско призывались владельцы больших участков земли или воин, вооруженный крестьянами                         за общий счет.                           В войске франков главную роль начала играть конница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20546472"/>
          <p:cNvPicPr/>
          <p:nvPr/>
        </p:nvPicPr>
        <p:blipFill>
          <a:blip r:embed="rId1"/>
          <a:stretch/>
        </p:blipFill>
        <p:spPr>
          <a:xfrm>
            <a:off x="228600" y="838080"/>
            <a:ext cx="4205160" cy="57913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фор Маточ</dc:creator>
  <dc:description/>
  <dc:language>en-US</dc:language>
  <cp:lastModifiedBy>Администратор</cp:lastModifiedBy>
  <dcterms:modified xsi:type="dcterms:W3CDTF">2023-08-03T17:37:44Z</dcterms:modified>
  <cp:revision>73</cp:revision>
  <dc:subject/>
  <dc:title>Возникновение и распад империи Карла Великого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