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947-2A0D-4D55-9098-7FB46F75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152-F7FB-4027-A0D9-512FB3F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183-B6ED-4A96-A20A-7BF61E7A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2E1-7768-488B-B1C4-D07A91C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489-3B31-4B0E-A7A0-A571B24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CF6-920A-4206-B75D-119BA1C9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631-4D9E-404B-A71B-0343193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7D0-BFA9-412E-ABB6-70FEBA78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961-0A4F-4E86-9087-32D5DA1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FFB-7725-44D4-8A42-8CE2565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A6A-FB9E-45E2-BAAB-2EFEB19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D71-F95B-43D1-9A0A-0351CF6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CEE-B0E4-42B9-965D-80A745BA0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za.ru/pics/2012/05/10/38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arps.ru/photo/nil_egypt_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abu_simbel_te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620640"/>
            <a:ext cx="84978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69"/>
                </a:solidFill>
                <a:latin typeface="Arial"/>
              </a:rPr>
              <a:t>Государство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6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69"/>
                </a:solidFill>
                <a:latin typeface="Arial"/>
              </a:rPr>
              <a:t>на берегах 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6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69"/>
                </a:solidFill>
                <a:latin typeface="Arial"/>
              </a:rPr>
              <a:t>Нила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6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Объединение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067280" y="76500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авитель Южного Египта носил белую корону, а правитель Северного Египта – крас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korona_veg"/>
          <p:cNvPicPr/>
          <p:nvPr/>
        </p:nvPicPr>
        <p:blipFill>
          <a:blip r:embed="rId1"/>
          <a:stretch/>
        </p:blipFill>
        <p:spPr>
          <a:xfrm>
            <a:off x="179280" y="907920"/>
            <a:ext cx="1847880" cy="24498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2050920" y="2133720"/>
            <a:ext cx="1873440" cy="1008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р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Южного Егип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korona_nigh"/>
          <p:cNvPicPr/>
          <p:nvPr/>
        </p:nvPicPr>
        <p:blipFill>
          <a:blip r:embed="rId2"/>
          <a:stretch/>
        </p:blipFill>
        <p:spPr>
          <a:xfrm>
            <a:off x="2050920" y="3716280"/>
            <a:ext cx="1892520" cy="22338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80" name="Text Box 11"/>
          <p:cNvSpPr/>
          <p:nvPr/>
        </p:nvSpPr>
        <p:spPr>
          <a:xfrm>
            <a:off x="179280" y="4076640"/>
            <a:ext cx="1873440" cy="1008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р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верного Егип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image001"/>
          <p:cNvPicPr/>
          <p:nvPr/>
        </p:nvPicPr>
        <p:blipFill>
          <a:blip r:embed="rId3"/>
          <a:stretch/>
        </p:blipFill>
        <p:spPr>
          <a:xfrm>
            <a:off x="5292720" y="3141720"/>
            <a:ext cx="2641680" cy="35211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Объединение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067280" y="7650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коло 5 тысяч лет назад царь Южного Египта завоевал Северный Египе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сколько это лет до н.э.?)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076720" y="2349360"/>
            <a:ext cx="2951280" cy="45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</a:rPr>
              <a:t>3 тыс. лет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427640" y="2997360"/>
            <a:ext cx="43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Cyr"/>
              </a:rPr>
              <a:t>Он стал носить двойную корону - одна как бы вставлена в друг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0006-003-2_-Drevnij-Egipet"/>
          <p:cNvPicPr/>
          <p:nvPr/>
        </p:nvPicPr>
        <p:blipFill>
          <a:blip r:embed="rId1"/>
          <a:stretch/>
        </p:blipFill>
        <p:spPr>
          <a:xfrm>
            <a:off x="324000" y="836640"/>
            <a:ext cx="3531960" cy="56167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87" name="Text Box 12"/>
          <p:cNvSpPr/>
          <p:nvPr/>
        </p:nvSpPr>
        <p:spPr>
          <a:xfrm>
            <a:off x="539640" y="1268280"/>
            <a:ext cx="1440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еверный Е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11280" y="2637000"/>
            <a:ext cx="1224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Южный Е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24000" y="2349360"/>
            <a:ext cx="2305080" cy="716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H="1" flipV="1">
            <a:off x="1476000" y="1988640"/>
            <a:ext cx="57636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11280" y="2060640"/>
            <a:ext cx="122400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rown-3-egyptian-united"/>
          <p:cNvPicPr/>
          <p:nvPr/>
        </p:nvPicPr>
        <p:blipFill>
          <a:blip r:embed="rId2"/>
          <a:stretch/>
        </p:blipFill>
        <p:spPr>
          <a:xfrm>
            <a:off x="468360" y="2852640"/>
            <a:ext cx="1905120" cy="28386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93" name="Rectangle 18"/>
          <p:cNvSpPr/>
          <p:nvPr/>
        </p:nvSpPr>
        <p:spPr>
          <a:xfrm>
            <a:off x="4356000" y="4221000"/>
            <a:ext cx="4319640" cy="80676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Cyr"/>
              </a:rPr>
              <a:t>Царей Египта стали называть</a:t>
            </a:r>
            <a:r>
              <a:rPr b="0" lang="ru-RU" sz="2400" spc="-1" strike="noStrike">
                <a:solidFill>
                  <a:srgbClr val="808080"/>
                </a:solidFill>
                <a:latin typeface="Arial Cyr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арао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356000" y="5300640"/>
            <a:ext cx="431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 Cyr"/>
              </a:rPr>
              <a:t>Столицей Египта стал город</a:t>
            </a:r>
            <a:r>
              <a:rPr b="0" lang="ru-RU" sz="2400" spc="-1" strike="noStrike">
                <a:solidFill>
                  <a:srgbClr val="808080"/>
                </a:solidFill>
                <a:latin typeface="Arial Cyr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мф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picture"/>
          <p:cNvPicPr/>
          <p:nvPr/>
        </p:nvPicPr>
        <p:blipFill>
          <a:blip r:embed="rId1"/>
          <a:stretch/>
        </p:blipFill>
        <p:spPr>
          <a:xfrm>
            <a:off x="1763640" y="2754360"/>
            <a:ext cx="5256360" cy="394344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103" name="TextBox 1"/>
          <p:cNvSpPr/>
          <p:nvPr/>
        </p:nvSpPr>
        <p:spPr>
          <a:xfrm>
            <a:off x="250920" y="6872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. Изучить параграф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1871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1. Страна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. Разливы Н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3. Объединение Еги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213000"/>
            <a:ext cx="4752720" cy="34513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чет лет в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468360" y="1916280"/>
          <a:ext cx="8229600" cy="204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822960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7"/>
          <p:cNvSpPr/>
          <p:nvPr/>
        </p:nvSpPr>
        <p:spPr>
          <a:xfrm>
            <a:off x="468360" y="4149720"/>
            <a:ext cx="8237520" cy="1320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9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СПОМНИТЕ, КАК ИДЕТ СЧЕТ ЛЕТ                  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ИСТОР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1. Страна Египет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780000" y="1125360"/>
            <a:ext cx="4824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гипет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ходится на северо-востоке Афр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www.snprint.ru/images/mir_fiz_bol.jpg"/>
          <p:cNvPicPr/>
          <p:nvPr/>
        </p:nvPicPr>
        <p:blipFill>
          <a:blip r:embed="rId1"/>
          <a:stretch/>
        </p:blipFill>
        <p:spPr>
          <a:xfrm>
            <a:off x="2627280" y="2637000"/>
            <a:ext cx="6335640" cy="40669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53" name="Picture 5" descr="1"/>
          <p:cNvPicPr/>
          <p:nvPr/>
        </p:nvPicPr>
        <p:blipFill>
          <a:blip r:embed="rId2"/>
          <a:stretch/>
        </p:blipFill>
        <p:spPr>
          <a:xfrm>
            <a:off x="250920" y="907920"/>
            <a:ext cx="3341520" cy="43927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54" name="Line 7"/>
          <p:cNvSpPr/>
          <p:nvPr/>
        </p:nvSpPr>
        <p:spPr>
          <a:xfrm>
            <a:off x="3132000" y="3789360"/>
            <a:ext cx="2448000" cy="360360"/>
          </a:xfrm>
          <a:prstGeom prst="line">
            <a:avLst/>
          </a:prstGeom>
          <a:ln w="98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1. Страна Египет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716360" y="907920"/>
            <a:ext cx="4032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гиптом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зывают государство, расположенное на берегах Нила от устья до первого пор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859280" y="4508640"/>
            <a:ext cx="4105440" cy="192276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мотрите на карту               и ответьте какие условия способствовали образованию здесь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1"/>
          <p:cNvPicPr/>
          <p:nvPr/>
        </p:nvPicPr>
        <p:blipFill>
          <a:blip r:embed="rId1"/>
          <a:stretch/>
        </p:blipFill>
        <p:spPr>
          <a:xfrm>
            <a:off x="250920" y="907920"/>
            <a:ext cx="4273560" cy="56167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2. Разливы Нила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250920" y="3933720"/>
            <a:ext cx="4105080" cy="113040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читайте док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кую роль играл Нил в жизни Древнего Егип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1319189954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30812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62" name="Rectangle 27"/>
          <p:cNvSpPr/>
          <p:nvPr/>
        </p:nvSpPr>
        <p:spPr>
          <a:xfrm>
            <a:off x="4284720" y="692280"/>
            <a:ext cx="4680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Слава тебе, Нил приходящий  чтобы оживить Егип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Орошающий пустыню далеко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от воды, владыка рыб и птиц,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и травы для скота, приносящий всякую пищу и хл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Если он медлит, жизнь прекращается и люди гиб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Когда же он приходит, земля ликует и все живое в рад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Еда появляется после его разлива. Все живут благодаря ему и богатства обретают по его в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Разливы Н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79280" y="421020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ждый год в июле, когда в горах откуда вытекал Нил, начинались дожди – река разливалась.                                    Вода несла много ила. Накануне разлива ширина Нила уменьшалась наполовину, всюду царила засуха.  Разлив продолжался до ноября. Когда уровень воды спадал – на полях оставалось много влаги                                  и плодородного 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nil_egypt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2560" y="712800"/>
            <a:ext cx="4897440" cy="348444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Разливы Н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79280" y="47242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Земля вдоль Нила была очень плодородной и приносила обильные урожаи. Благодаря этому могло прокормиться многочисленное население: не только земледельцы, но и ремесленники, воины, слуги и приближенные правителя Египетск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655560"/>
            <a:ext cx="8280360" cy="3925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бъединение Еги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067280" y="836640"/>
            <a:ext cx="475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Египетское государство возникло не ср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начала в долине Нила возникло около                           40 небольших царств (ном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Затем они объединились в два государства: Северный Египет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 Южный Египет, постоянно враждовавшие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006-003-2_-Drevnij-Egipet"/>
          <p:cNvPicPr/>
          <p:nvPr/>
        </p:nvPicPr>
        <p:blipFill>
          <a:blip r:embed="rId1"/>
          <a:stretch/>
        </p:blipFill>
        <p:spPr>
          <a:xfrm>
            <a:off x="324000" y="836640"/>
            <a:ext cx="3531960" cy="56167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72" name="Line 6"/>
          <p:cNvSpPr/>
          <p:nvPr/>
        </p:nvSpPr>
        <p:spPr>
          <a:xfrm>
            <a:off x="324000" y="2349360"/>
            <a:ext cx="2305080" cy="716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9640" y="1268280"/>
            <a:ext cx="1440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еверный Е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565360"/>
            <a:ext cx="1224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Южный Е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2:24:47Z</dcterms:created>
  <dc:creator>Нафор Маточ</dc:creator>
  <dc:description/>
  <dc:language>en-US</dc:language>
  <cp:lastModifiedBy>Администратор</cp:lastModifiedBy>
  <dcterms:modified xsi:type="dcterms:W3CDTF">2023-08-03T16:10:47Z</dcterms:modified>
  <cp:revision>387</cp:revision>
  <dc:subject/>
  <dc:title>Государство на берегах Нила</dc:title>
</cp:coreProperties>
</file>