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650-0041-46A0-B563-40A54202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9B3-B995-4995-887B-7E765137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600-5C88-417E-87B0-6B4811D1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FF7-F4DE-4B2F-AEEC-1D977AA0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EC7-3B92-495F-BA29-320CC02F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AE9-FCDB-4BB0-8A61-4BBC2AA2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BC3-E693-4F15-B229-64BB4A45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22C-14D3-4488-813B-4A75A7D6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D85-3DE4-4304-B658-EBDDF031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DF3-AF49-414A-9DCA-0FF6E489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FBC-D30B-4667-BDDC-1C6E6C80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1BF-CD40-4AB6-AF53-C3C7116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38E-0981-472B-A69E-84137B921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andia.ru/text/categ/wiki/001/212.php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работе музыкального руководителя ДОУ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оскова Е. А.</a:t>
            </a:r>
            <a:br>
              <a:rPr sz="36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МБДОУ «ЦРР – детский сад № 57 «Ладу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Documents and Settings\User\Рабочий стол\картинки\136367748566038-i0.jpeg"/>
          <p:cNvPicPr/>
          <p:nvPr/>
        </p:nvPicPr>
        <p:blipFill>
          <a:blip r:embed="rId1"/>
          <a:stretch/>
        </p:blipFill>
        <p:spPr>
          <a:xfrm>
            <a:off x="500040" y="360360"/>
            <a:ext cx="17985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«Музыкальные шедевры» О. П. Радынов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тема: музыка выражает настроение, чувства, характер люд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тема: песня, танец, марш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тема: музыка рассказывает о животных и птица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тема:  природа и музы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тема: сказка в музык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тема: музыкальные инструменты и игруш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ые технологи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28760" y="4287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ые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игры и тан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ординационно-подвижные игры (музыкальные и речевы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ьчиковые игры (музыкальные и речевы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чевое музицирова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тмодекламации под музы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зв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арные формы музыкальной импров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оритмические упраж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арный музыкальный театр или детский мюзик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8760" y="4287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ые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а «Элементарное музицирование» Т. Э. Тютюнников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аботана на основе сочетания принципов творческого импровизационного музицирования австрийского композитора К.Орфа с достижениями отечественной детской музыкальной педагог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Танцевальная ритмика для детей» Суворовой Т.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чебное пособие включает репертуар для занятий ритмикой и хореографией с детьми дошкольного и младшего школьного возрас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итмическая мозаика» Бурени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сновное направление этой программы - развитие способности «видеть» музыку, передавать в движениях ее характер, об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.И. Мерзляковой «Волшебный мир театр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Цель программ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развитие сценического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творче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тей старшего дошкольного возраста средствами театрализованных игр и игр-представл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ическое пособие «Театр всевозможного» А.И. Бурениной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жина С.Д. «Технология интегрированного занятия в ДОУ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ование соединяет знания из разных образовательных областей на равноправной основе, дополняя друг друга. При этом решается несколько задач развития. В форме интегрированной НОД лучше проводить обобщение материала, итоговые меропри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356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КТ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обобщенное понятие, описывающее различные методы, способы и алгоритмы сбора, хранения, обработки, представления и передачи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 одной стороны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мпьютер, с другой – коммуник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4000680" y="4857840"/>
            <a:ext cx="21589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499680"/>
            <a:ext cx="77266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4280" y="1428480"/>
            <a:ext cx="7848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истемный метод создания, применения и определения всего процесса преподавания и усвоения знаний с учетом технических и человеческих ресурсов и их взаимодействия, ставящий своей задачей оптимизацию форм образования (ЮНЕ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7200" y="1706400"/>
            <a:ext cx="8253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836640"/>
          <a:ext cx="8280360" cy="5078520"/>
        </p:xfrm>
        <a:graphic>
          <a:graphicData uri="http://schemas.openxmlformats.org/drawingml/2006/table">
            <a:tbl>
              <a:tblPr/>
              <a:tblGrid>
                <a:gridCol w="3747960"/>
                <a:gridCol w="45324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. Программа Арсеневской О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я с младшего возраста. Программа Арсеневской О.Н. Дыхательная гимнастика Э.М. Чарел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, артикуляционный 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ОД: распевки, разминки, динамические паузы . «Фонопедический метод развития голоса» В.В. Емелья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и здоровьесберегающе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использовании здоровьесберегающих технологий мы обращаемся к программе Е.Железновой «Музыка с мамой». Это: «Пальчиковые игры», «Игры для здоровья», «Аэробика для малышей», «Игровая гимнастик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рограммы М.Ю. Картушиной «Логоритмические занятия в детском с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и здоровьесберегающе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-Фи-Дансе. Танцевально-игровая гимнастика для дете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. Е. Фирилева, Е. Г. Сайки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ительно-развивающая программа по танцевально-игровой гимнастике "Са-Фи-Дансе", рассчитанная на четыре года обучения детей от 3 до 7 лет, и конспекты занят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сенев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.Н. «Система музыкально-оздоровительной работы в детском саду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Юля Сергеева</cp:lastModifiedBy>
  <dcterms:modified xsi:type="dcterms:W3CDTF">2023-08-04T10:57:27Z</dcterms:modified>
  <cp:revision>116</cp:revision>
  <dc:subject/>
  <dc:title>Слайд 1</dc:title>
</cp:coreProperties>
</file>